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10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ftr" idx="11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 type="sldNum" idx="12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8CA02-23B1-4588-AC38-B7ADDAB71D1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F1352-EF34-4FF0-885C-F16A221AB73D}" type="slidenum">
              <a:rPr b="0" lang="es-E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F1D67-C447-4A86-AF6C-DA68DEEE3967}" type="slidenum">
              <a:rPr b="0" lang="es-E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45BF-66E4-4603-B477-8827AE8AC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159C-82F6-460F-9D72-3D5C820F3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73F9-3EFE-46BB-BFC8-0ECEFDB92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37D3-03AA-49D8-BA28-2FEBB4C55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05335-2849-42FF-AFA7-F04EFA36B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E67AD-64A5-45DB-B557-BC74C5B4E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145E6-71A0-4A53-9580-F970203A3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F3A64-CB9A-4C5C-9EC0-EEF49D0BE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1AE34-B991-41CF-95CB-C2181B4DD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2CD88-301F-4F9B-A1D5-6BCE5E82D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7864B-C037-4E40-993D-6D924E1E3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0218-55A0-4F92-B15A-DE84BBA40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DD860-3567-48C4-876A-5A67C417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BE39B-A19E-4B3B-BA9F-D2BB7D26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5C82B-3987-4B1A-833B-2D5537F45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FC1E3-74C0-4E7C-8C5C-B44EB7C84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2ED94-7A8E-44AA-935D-6FE19A446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D0752-B7FC-4C48-94D9-E5FED70A2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6740D-1584-4015-8D85-9738D9DA9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B6236-4028-42DD-94FF-7A8A7DC92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495CB-FA0D-49E1-9D63-F4E7EAB2A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A4760-3F84-4E07-A7D3-7C028580B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6F7F-4965-4641-A110-14B59C451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18DB1-4A73-459B-BADC-F088F77B6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9CAFE-4211-4298-B312-C27F495D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D78D9-B66F-431F-882B-3BEDAF65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49233-0DE2-4897-96D0-20391B47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34E32-4ECD-4722-9869-5CCE3F149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E5ABE-1248-491B-BE13-84B8B5A4C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19ECB-6F0C-46EB-AFA6-8EA87CEC6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A52E-90AA-4360-B081-F5509FDE2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91D5-9F20-4815-90AD-9BBAF4E45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6D63-5AD8-4A82-8C51-CDB7A2290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5FD5-6504-4FBB-9E37-A8DE33BC1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2E3B-635E-4B00-B3D0-E34ED5AF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4464-14D4-487C-95DB-0ED0B13A7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FDC36-0B56-4E4B-A878-27CC10210DF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3E926-1369-412B-A1EF-FE34854BA57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5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6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7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8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9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0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1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2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3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4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5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6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7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9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93EF6-38E7-40B5-A64A-FFC0EA8D8409}" type="slidenum"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85880" y="2071800"/>
            <a:ext cx="7340400" cy="1285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Diseño de procesos para la producción de Biocombustibles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”</a:t>
            </a:r>
            <a:br>
              <a:rPr sz="3200"/>
            </a:br>
            <a:br>
              <a:rPr sz="4000"/>
            </a:br>
            <a:r>
              <a:rPr b="0" lang="es-ES" sz="4000" spc="-1" strike="noStrike">
                <a:solidFill>
                  <a:srgbClr val="ff0000"/>
                </a:solidFill>
                <a:latin typeface="Arial"/>
              </a:rPr>
              <a:t>Tarea 1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0040" y="4357800"/>
            <a:ext cx="80726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Profs. M.Elena Lienqueo y Oriana Salazar</a:t>
            </a: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1 Título"/>
          <p:cNvGrpSpPr/>
          <p:nvPr/>
        </p:nvGrpSpPr>
        <p:grpSpPr>
          <a:xfrm>
            <a:off x="378000" y="689040"/>
            <a:ext cx="3608280" cy="682560"/>
            <a:chOff x="378000" y="689040"/>
            <a:chExt cx="3608280" cy="682560"/>
          </a:xfrm>
        </p:grpSpPr>
        <p:pic>
          <p:nvPicPr>
            <p:cNvPr id="181" name="1 Título" descr=""/>
            <p:cNvPicPr/>
            <p:nvPr/>
          </p:nvPicPr>
          <p:blipFill>
            <a:blip r:embed="rId1"/>
            <a:stretch/>
          </p:blipFill>
          <p:spPr>
            <a:xfrm>
              <a:off x="378000" y="689040"/>
              <a:ext cx="360828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438120" y="723960"/>
              <a:ext cx="34909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eaeaea"/>
                  </a:solidFill>
                  <a:latin typeface="Verdana"/>
                </a:rPr>
                <a:t> </a:t>
              </a:r>
              <a:r>
                <a:rPr b="0" lang="es-CL" sz="2400" spc="-1" strike="noStrike">
                  <a:solidFill>
                    <a:srgbClr val="eaeaea"/>
                  </a:solidFill>
                  <a:latin typeface="Verdana"/>
                </a:rPr>
                <a:t> </a:t>
              </a:r>
              <a:r>
                <a:rPr b="0" lang="es-CL" sz="2500" spc="-1" strike="noStrike">
                  <a:solidFill>
                    <a:srgbClr val="eaeaea"/>
                  </a:solidFill>
                  <a:latin typeface="Verdana"/>
                </a:rPr>
                <a:t>Proceso en Estudio</a:t>
              </a:r>
              <a:endParaRPr b="0" lang="en-US" sz="25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grpSp>
        <p:nvGrpSpPr>
          <p:cNvPr id="183" name="1 Título"/>
          <p:cNvGrpSpPr/>
          <p:nvPr/>
        </p:nvGrpSpPr>
        <p:grpSpPr>
          <a:xfrm>
            <a:off x="298440" y="676440"/>
            <a:ext cx="5187960" cy="828360"/>
            <a:chOff x="298440" y="676440"/>
            <a:chExt cx="5187960" cy="828360"/>
          </a:xfrm>
        </p:grpSpPr>
        <p:pic>
          <p:nvPicPr>
            <p:cNvPr id="184" name="1 Título" descr=""/>
            <p:cNvPicPr/>
            <p:nvPr/>
          </p:nvPicPr>
          <p:blipFill>
            <a:blip r:embed="rId2"/>
            <a:stretch/>
          </p:blipFill>
          <p:spPr>
            <a:xfrm>
              <a:off x="298440" y="676440"/>
              <a:ext cx="5187960" cy="82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428760" y="714240"/>
              <a:ext cx="500040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000" spc="-1" strike="noStrike">
                  <a:solidFill>
                    <a:srgbClr val="eaeaea"/>
                  </a:solidFill>
                  <a:latin typeface="Verdana"/>
                </a:rPr>
                <a:t> </a:t>
              </a:r>
              <a:r>
                <a:rPr b="0" lang="es-MX" sz="2700" spc="-1" strike="noStrike">
                  <a:solidFill>
                    <a:srgbClr val="eaeaea"/>
                  </a:solidFill>
                  <a:latin typeface="Verdana"/>
                </a:rPr>
                <a:t>Objetivo General del Taller</a:t>
              </a:r>
              <a:endParaRPr b="0" lang="en-US" sz="27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86" name="22 Rectángulo"/>
          <p:cNvSpPr/>
          <p:nvPr/>
        </p:nvSpPr>
        <p:spPr>
          <a:xfrm>
            <a:off x="642960" y="1785960"/>
            <a:ext cx="7643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eaeaea"/>
                </a:solidFill>
                <a:latin typeface="Verdana"/>
              </a:rPr>
              <a:t>Realizar el diseño conceptual de plantas productoras de biocombustibles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Verdana"/>
              </a:rPr>
              <a:t>Promover el trabajo en equipo y la expresión oral y escrita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714240" y="1071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Informe 1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Caracterización de la materia prima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Caracterización del producto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937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Informe 2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Caracterización del proceso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Diagrama de entrada y salida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Balance de masa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Informe 3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Diagrama de bloque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Diagrama de flujo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Economía Potencia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937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937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357120" y="304920"/>
            <a:ext cx="8358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ahoma"/>
              </a:rPr>
              <a:t>Contenido Fundamental de cada informe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Resumiendo</a:t>
            </a: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Informe 1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0" name="Rectangle 68"/>
          <p:cNvSpPr/>
          <p:nvPr/>
        </p:nvSpPr>
        <p:spPr>
          <a:xfrm>
            <a:off x="1000080" y="4071960"/>
            <a:ext cx="712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Verdana"/>
              </a:rPr>
              <a:t>Contenidos del Informe (detalles en la próxima clase)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buClr>
                <a:srgbClr val="ffff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Verdana"/>
              </a:rPr>
              <a:t>Introducción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buClr>
                <a:srgbClr val="ffff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Verdana"/>
              </a:rPr>
              <a:t>Resultados y Discusione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buClr>
                <a:srgbClr val="ffff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Verdana"/>
              </a:rPr>
              <a:t>Características Materia Prima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buClr>
                <a:srgbClr val="ffff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Verdana"/>
              </a:rPr>
              <a:t>Características Producto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buClr>
                <a:srgbClr val="ffff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Verdana"/>
              </a:rPr>
              <a:t>Conclusione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buClr>
                <a:srgbClr val="ffff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Verdana"/>
              </a:rPr>
              <a:t>Referencia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1" name="Rectangle 68"/>
          <p:cNvSpPr/>
          <p:nvPr/>
        </p:nvSpPr>
        <p:spPr>
          <a:xfrm>
            <a:off x="1000080" y="1428840"/>
            <a:ext cx="7129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Verdana"/>
              </a:rPr>
              <a:t>Actividade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Verdana"/>
              </a:rPr>
              <a:t>Conocidos los diferentes tipos de biocombustibles vistos en clases cada grupo deberán seleccionar uno y la materia prima a partir de la cual lo generará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s-ES" sz="1800" spc="-1" strike="noStrike">
                <a:solidFill>
                  <a:srgbClr val="ffff00"/>
                </a:solidFill>
                <a:latin typeface="Verdana"/>
              </a:rPr>
              <a:t>Ejemplo: Bioetanol de 2da generación a partir de residuos de trigo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6 Rectángulo"/>
          <p:cNvSpPr/>
          <p:nvPr/>
        </p:nvSpPr>
        <p:spPr>
          <a:xfrm>
            <a:off x="0" y="6597720"/>
            <a:ext cx="9144000" cy="26028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193" name="7 CuadroTexto"/>
          <p:cNvGrpSpPr/>
          <p:nvPr/>
        </p:nvGrpSpPr>
        <p:grpSpPr>
          <a:xfrm>
            <a:off x="-60480" y="6559560"/>
            <a:ext cx="9259920" cy="390600"/>
            <a:chOff x="-60480" y="6559560"/>
            <a:chExt cx="9259920" cy="390600"/>
          </a:xfrm>
        </p:grpSpPr>
        <p:pic>
          <p:nvPicPr>
            <p:cNvPr id="194" name="7 CuadroTexto" descr=""/>
            <p:cNvPicPr/>
            <p:nvPr/>
          </p:nvPicPr>
          <p:blipFill>
            <a:blip r:embed="rId1"/>
            <a:stretch/>
          </p:blipFill>
          <p:spPr>
            <a:xfrm>
              <a:off x="-60480" y="6559560"/>
              <a:ext cx="925992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0" y="6597720"/>
              <a:ext cx="914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eaeaea"/>
                  </a:solidFill>
                  <a:latin typeface="Verdana"/>
                </a:rPr>
                <a:t>Diseño de procesos para la producción de Biocombustibles </a:t>
              </a:r>
              <a:r>
                <a:rPr b="1" lang="es-CL" sz="1200" spc="-1" strike="noStrike">
                  <a:solidFill>
                    <a:srgbClr val="006666"/>
                  </a:solidFill>
                  <a:latin typeface="Arial"/>
                  <a:ea typeface="Linux Libertine"/>
                </a:rPr>
                <a:t>	</a:t>
              </a:r>
              <a:endParaRPr b="0" lang="en-US" sz="12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pic>
        <p:nvPicPr>
          <p:cNvPr id="196" name="10 Diagrama" descr=""/>
          <p:cNvPicPr/>
          <p:nvPr/>
        </p:nvPicPr>
        <p:blipFill>
          <a:blip r:embed="rId2"/>
          <a:stretch/>
        </p:blipFill>
        <p:spPr>
          <a:xfrm>
            <a:off x="7132680" y="-6480"/>
            <a:ext cx="2023920" cy="6443640"/>
          </a:xfrm>
          <a:prstGeom prst="rect">
            <a:avLst/>
          </a:prstGeom>
          <a:ln w="0">
            <a:noFill/>
          </a:ln>
        </p:spPr>
      </p:pic>
      <p:sp>
        <p:nvSpPr>
          <p:cNvPr id="197" name="6 Rectángulo"/>
          <p:cNvSpPr/>
          <p:nvPr/>
        </p:nvSpPr>
        <p:spPr>
          <a:xfrm>
            <a:off x="1097280" y="357120"/>
            <a:ext cx="159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339966"/>
                </a:solidFill>
                <a:latin typeface="Tahoma"/>
              </a:rPr>
              <a:t>Actividade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428760" y="357120"/>
          <a:ext cx="8715240" cy="6303960"/>
        </p:xfrm>
        <a:graphic>
          <a:graphicData uri="http://schemas.openxmlformats.org/drawingml/2006/table">
            <a:tbl>
              <a:tblPr/>
              <a:tblGrid>
                <a:gridCol w="1528560"/>
                <a:gridCol w="1773360"/>
                <a:gridCol w="54133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b0b0b0"/>
                          </a:solidFill>
                          <a:latin typeface="Verdana"/>
                        </a:rPr>
                        <a:t>Semana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b0b0b0"/>
                          </a:solidFill>
                          <a:latin typeface="Verdana"/>
                        </a:rPr>
                        <a:t>Fecha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b0b0b0"/>
                          </a:solidFill>
                          <a:latin typeface="Verdana"/>
                        </a:rPr>
                        <a:t>Actividad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339966"/>
                    </a:solidFill>
                  </a:tcPr>
                </a:tc>
              </a:tr>
              <a:tr h="33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b0b0b0"/>
                          </a:solidFill>
                          <a:latin typeface="Verdana"/>
                        </a:rPr>
                        <a:t>1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b0b0b0"/>
                          </a:solidFill>
                          <a:latin typeface="Verdana"/>
                        </a:rPr>
                        <a:t>8-Marzo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b0b0b0"/>
                          </a:solidFill>
                          <a:latin typeface="Verdana"/>
                        </a:rPr>
                        <a:t>Introducción-Formación de grupos-Presentaciones (mel)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</a:tr>
              <a:tr h="33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b0b0b0"/>
                          </a:solidFill>
                          <a:latin typeface="Verdana"/>
                        </a:rPr>
                        <a:t>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b0b0b0"/>
                          </a:solidFill>
                          <a:latin typeface="Verdana"/>
                        </a:rPr>
                        <a:t>15-Marzo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b0b0b0"/>
                          </a:solidFill>
                          <a:latin typeface="Verdana"/>
                        </a:rPr>
                        <a:t>Concepto de Biomasa-Presentaciones (os)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b0b0b0"/>
                          </a:solidFill>
                          <a:latin typeface="Verdana"/>
                        </a:rPr>
                        <a:t>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b0b0b0"/>
                          </a:solidFill>
                          <a:latin typeface="Verdana"/>
                        </a:rPr>
                        <a:t>22-Marzo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b0b0b0"/>
                          </a:solidFill>
                          <a:latin typeface="Verdana"/>
                        </a:rPr>
                        <a:t>-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</a:tr>
              <a:tr h="33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b0b0b0"/>
                          </a:solidFill>
                          <a:latin typeface="Verdana"/>
                        </a:rPr>
                        <a:t>4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b0b0b0"/>
                          </a:solidFill>
                          <a:latin typeface="Verdana"/>
                        </a:rPr>
                        <a:t>29-Marzo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b0b0b0"/>
                          </a:solidFill>
                          <a:latin typeface="Verdana"/>
                        </a:rPr>
                        <a:t>Biodiesel y Biogás (os)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</a:tr>
              <a:tr h="33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5-Abril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Bioetanol y Biobutanol – Selección del Tema (os)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</a:tr>
              <a:tr h="33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6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12-Abril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Elaboración de Informes-Laboratorio de BIOGAS (mel)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7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19-Abril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Informe 1-Descripcion del Biocombustible y Presentaciones (equipo)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</a:tr>
              <a:tr h="33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8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26-Abril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Introducción al Diseño conceptual de Procesos (mel)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</a:tr>
              <a:tr h="33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9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3-Mayo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Elaboración de diagramas de entrada y salida (mel)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</a:tr>
              <a:tr h="33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1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10-Mayo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Balance de Masa sin y  con reacción Química (mel)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</a:tr>
              <a:tr h="33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11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24-Mayo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Elaboración diagramas de Bloques y  de flujo (mel)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</a:tr>
              <a:tr h="51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1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31-Mayo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Informe 2-Descripcion del Proceso  y Presentaciones (equipo)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</a:tr>
              <a:tr h="33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1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7-Junio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Laboratorio (os)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14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14-Junio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Taller sobre elaboración de Flowsheet-calculo economía potencial (mel)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</a:tr>
              <a:tr h="33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1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21-Julio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Laboratorio (os)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Examen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Presentaciones (mel-os)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Object 12" descr=""/>
          <p:cNvPicPr/>
          <p:nvPr/>
        </p:nvPicPr>
        <p:blipFill>
          <a:blip r:embed="rId1"/>
          <a:stretch/>
        </p:blipFill>
        <p:spPr>
          <a:xfrm>
            <a:off x="1908000" y="404640"/>
            <a:ext cx="4324680" cy="506736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13"/>
          <p:cNvSpPr/>
          <p:nvPr/>
        </p:nvSpPr>
        <p:spPr>
          <a:xfrm>
            <a:off x="2627280" y="371628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6"/>
                </a:solidFill>
                <a:latin typeface="Arial"/>
              </a:rPr>
              <a:t>¿¿Preguntas?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7T21:24:28Z</dcterms:created>
  <dc:creator>guest</dc:creator>
  <dc:description/>
  <dc:language>en-US</dc:language>
  <cp:lastModifiedBy>Ing Quimica</cp:lastModifiedBy>
  <dcterms:modified xsi:type="dcterms:W3CDTF">2011-04-05T16:29:14Z</dcterms:modified>
  <cp:revision>192</cp:revision>
  <dc:subject/>
  <dc:title>Diapositiva 1</dc:title>
</cp:coreProperties>
</file>