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025D-5443-49EC-9E40-B9E716DB04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FDD-1F61-4C55-ABB8-A650D96DC393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F313-93CF-40BF-8B67-CC95A089A68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08D-4DBB-4FE5-9302-ED11D79A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FAA-F832-4022-813C-E47946B0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937-213A-40E3-894F-79AF4081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945-1B21-4E61-A373-FF737FE1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8629-547A-4D85-BF90-51672195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5A06-B5C4-477E-A4BA-3D8CA195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6288-5E71-4D08-8841-E507D2D6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F7FA-203B-47DC-AAA6-845EA71A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967-C37F-47E3-B552-5EBA4E5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082-AEC2-48C4-99AD-209602C4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4631-A96E-4D2F-9BAB-3396389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BF7-BA6C-4D3A-99B6-620618BB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3D67-9335-4E34-8A8D-5C51FD2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BAB1-B33A-4791-85C2-855063B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B0AE-F9D8-4770-8A7F-57B338AA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B6A-3816-4C34-96A4-860F8521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7951-0946-4A34-A1AF-E603F306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491A-A932-4DB6-804E-FE25A59C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001A-7D40-42CA-BCFB-71C49CCB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8253-A693-4F60-A31B-D644D257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1CC2-6E09-4259-8ECA-6118910E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AA37-8E84-4654-B9CA-8EAFE59B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E15-9B74-43D5-83EA-009E21B8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5BD7-6EDD-4882-933B-E42CDC5D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5607-9562-463A-B533-1897198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E2FB-E53B-4B38-B4FE-7C182DB6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1166-B1A9-4F44-8F3F-830CA6F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2D8E-A2C6-424C-82C1-D16ED854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BEBD-986D-4493-8B8E-7EFD456A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7D06-9279-42A6-BC34-00A2BDE3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2D6-5246-4266-89CB-690E5FB5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BA3-98D2-4E6F-9982-9C887474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B7F-1473-489E-931C-FEBB9583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76F-2E47-480C-9C6E-663318F7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6D9-2CBF-4F5E-8F98-263E8CA4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FFB-CEBC-4805-BC26-62FB9F66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8FB9-0A0C-4D3A-8024-4720505889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64E8-C9F0-4F68-A08A-F92C97A3FB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AE1-5EF6-4401-B6B7-056C722B3382}" type="slidenum"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2071800"/>
            <a:ext cx="7340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iseño de procesos para la producción de Biocombustibl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200"/>
            </a:br>
            <a:br>
              <a:rPr sz="4000"/>
            </a:b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Tarea 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0040" y="43578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s. M.Elena Lienqueo y Oriana Salazar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1 Título"/>
          <p:cNvGrpSpPr/>
          <p:nvPr/>
        </p:nvGrpSpPr>
        <p:grpSpPr>
          <a:xfrm>
            <a:off x="378000" y="689040"/>
            <a:ext cx="3608280" cy="682560"/>
            <a:chOff x="378000" y="689040"/>
            <a:chExt cx="3608280" cy="682560"/>
          </a:xfrm>
        </p:grpSpPr>
        <p:pic>
          <p:nvPicPr>
            <p:cNvPr id="181" name="1 Título" descr=""/>
            <p:cNvPicPr/>
            <p:nvPr/>
          </p:nvPicPr>
          <p:blipFill>
            <a:blip r:embed="rId1"/>
            <a:stretch/>
          </p:blipFill>
          <p:spPr>
            <a:xfrm>
              <a:off x="378000" y="689040"/>
              <a:ext cx="3608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38120" y="723960"/>
              <a:ext cx="3490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500" spc="-1" strike="noStrike">
                  <a:solidFill>
                    <a:srgbClr val="eaeaea"/>
                  </a:solidFill>
                  <a:latin typeface="Verdana"/>
                </a:rPr>
                <a:t>Proceso en Estudio</a:t>
              </a:r>
              <a:endParaRPr b="0" lang="en-US" sz="2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83" name="1 Título"/>
          <p:cNvGrpSpPr/>
          <p:nvPr/>
        </p:nvGrpSpPr>
        <p:grpSpPr>
          <a:xfrm>
            <a:off x="298440" y="676440"/>
            <a:ext cx="5187960" cy="828360"/>
            <a:chOff x="298440" y="676440"/>
            <a:chExt cx="5187960" cy="828360"/>
          </a:xfrm>
        </p:grpSpPr>
        <p:pic>
          <p:nvPicPr>
            <p:cNvPr id="184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51879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28760" y="714240"/>
              <a:ext cx="50004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 General del Taller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6" name="22 Rectángulo"/>
          <p:cNvSpPr/>
          <p:nvPr/>
        </p:nvSpPr>
        <p:spPr>
          <a:xfrm>
            <a:off x="642960" y="178596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Realizar el diseño conceptual de plantas productoras de biocombustible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Verdana"/>
              </a:rPr>
              <a:t>Promover el trabajo en equipo y la expresión oral y escrita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14240" y="10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 la materia prim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duct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entrada y salid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Balance de mas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bloqu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fluj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Economía Poten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57120" y="30492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ontenido Fundamental de cada infor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sumiendo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Informe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1000080" y="40719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tenidos del Informe (detalles en la próxima clas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Introduc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sultados y Disc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Materia Prim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Produc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cl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ferenci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1000080" y="142884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Actividad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ocidos los diferentes tipos de biocombustibles vistos en clases cada grupo deberán seleccionar uno y la materia prima a partir de la cual lo generará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Ejemplo: Bioetanol de 2da generación a partir de residuos de trigo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6 Rectángulo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93" name="7 CuadroTexto"/>
          <p:cNvGrpSpPr/>
          <p:nvPr/>
        </p:nvGrpSpPr>
        <p:grpSpPr>
          <a:xfrm>
            <a:off x="-60480" y="6559560"/>
            <a:ext cx="9259920" cy="390600"/>
            <a:chOff x="-60480" y="6559560"/>
            <a:chExt cx="9259920" cy="390600"/>
          </a:xfrm>
        </p:grpSpPr>
        <p:pic>
          <p:nvPicPr>
            <p:cNvPr id="194" name="7 CuadroTexto" descr=""/>
            <p:cNvPicPr/>
            <p:nvPr/>
          </p:nvPicPr>
          <p:blipFill>
            <a:blip r:embed="rId1"/>
            <a:stretch/>
          </p:blipFill>
          <p:spPr>
            <a:xfrm>
              <a:off x="-60480" y="6559560"/>
              <a:ext cx="92599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597720"/>
              <a:ext cx="914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Verdana"/>
                </a:rPr>
                <a:t>Diseño de procesos para la producción de Biocombustibles </a:t>
              </a:r>
              <a:r>
                <a:rPr b="1" lang="es-CL" sz="1200" spc="-1" strike="noStrike">
                  <a:solidFill>
                    <a:srgbClr val="006666"/>
                  </a:solidFill>
                  <a:latin typeface="Arial"/>
                  <a:ea typeface="Linux Libertine"/>
                </a:rPr>
                <a:t>	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96" name="10 Diagrama" descr=""/>
          <p:cNvPicPr/>
          <p:nvPr/>
        </p:nvPicPr>
        <p:blipFill>
          <a:blip r:embed="rId2"/>
          <a:stretch/>
        </p:blipFill>
        <p:spPr>
          <a:xfrm>
            <a:off x="7132680" y="-6480"/>
            <a:ext cx="2023920" cy="6443640"/>
          </a:xfrm>
          <a:prstGeom prst="rect">
            <a:avLst/>
          </a:prstGeom>
          <a:ln w="0">
            <a:noFill/>
          </a:ln>
        </p:spPr>
      </p:pic>
      <p:sp>
        <p:nvSpPr>
          <p:cNvPr id="197" name="6 Rectángulo"/>
          <p:cNvSpPr/>
          <p:nvPr/>
        </p:nvSpPr>
        <p:spPr>
          <a:xfrm>
            <a:off x="1097280" y="35712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9966"/>
                </a:solidFill>
                <a:latin typeface="Tahoma"/>
              </a:rPr>
              <a:t>Activida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28760" y="357120"/>
          <a:ext cx="8715240" cy="6303960"/>
        </p:xfrm>
        <a:graphic>
          <a:graphicData uri="http://schemas.openxmlformats.org/drawingml/2006/table">
            <a:tbl>
              <a:tblPr/>
              <a:tblGrid>
                <a:gridCol w="1528560"/>
                <a:gridCol w="1773360"/>
                <a:gridCol w="541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8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Introducción-Formación de grupos-Presentacione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5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Concepto de Biomasa-Presentacione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2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9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Biodiesel y Biogá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ioetanol y Biobutanol – Selección del Tema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Informes-Laboratorio de BIOGA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9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1-Descripcion del Biocombustible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6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troducción al Diseño conceptual de Proceso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diagramas de entrada y salid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alance de Masa sin y  con reacción Químic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4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iagramas de Bloques y  de flujo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1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2-Descripcion del Proceso 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Taller sobre elaboración de Flowsheet-calculo economía potencial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1-Jul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xame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Presentaciones (mel-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ject 12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324680" cy="5067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11-04-05T16:29:14Z</dcterms:modified>
  <cp:revision>192</cp:revision>
  <dc:subject/>
  <dc:title>Diapositiva 1</dc:title>
</cp:coreProperties>
</file>