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10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ftr" idx="11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 type="sldNum" idx="12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2BFF3-46DD-4202-81DF-9D10F8E48EAE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ACEDC-6312-4CF5-B405-DA94289F060B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3 Marcador de número de diapositiva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E0E9-33CE-4392-806D-059DDCC40D0E}" type="slidenum">
              <a:rPr b="0" lang="es-E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241-76D4-4451-BF11-1902FE1E8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CC2-56FD-4E0F-BA5B-2E006AB13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77109-8E2C-482F-8CFE-62D2B17B9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537F-5761-477D-8550-D63E45E38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587B2-DFF3-46F1-B9E1-D6AA72E6A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8F83B-7FE1-4D8A-BC90-74F3D63BC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7900-4F22-40F3-8B4F-C720EB2E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4FCD6-9509-4E41-9B01-B74E7F7FC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D9DCC-1083-4E1B-BD8C-E876ECD3B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B250BF-80CE-496F-98E5-B8A71243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F9098-0CC3-4D37-B01B-EBBD143BB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718D-8675-48D2-87AF-6B01D074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45C8D-9906-4DF1-BB63-D15E99E1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6C94-F915-4E30-9FA0-E4183ECD2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2577-2DEF-4957-807C-0A8A38DD2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94B0A-75FE-4644-BC7A-D2C8D696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AED70-F506-4681-9594-31A02BC64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4CF881-CFC4-4F1E-9B5E-4F17E2906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775FCB-8012-41B6-9420-3B67F47C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0BCDE-E674-4D7D-9BE1-272812621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936CEA-BAA1-4DB9-9576-44ABA594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0568F9-C96F-4B29-A420-7DB46918C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1BF8-B55B-4C25-BD9C-480E5A95E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D26FD-6FF8-4ADC-AA7D-039450AE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42612-0814-4C5A-A3F9-9BD85AA8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1D1B1-34C0-4CC1-8F87-D746199D1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BD01E7-6C3D-466E-8CE6-B60931C08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E485A-F369-4FEA-A55C-B47755FB9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83778-9D82-468F-A609-E0ABEE50C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CB79E-8460-4723-B98F-2D7463B4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0045-2456-4488-941D-D8C156417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5848-D613-4CF8-9FCF-EB82D2332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20538-B69A-4DB1-8155-A548D0E1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5442-8882-4B9D-8DC8-E97AC833C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8CF38-75C4-43DB-8C7C-693A21B72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DDE2-90E3-4076-A34A-A5585A67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E9A15-6139-49D3-95A1-EEDF55D8748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950D-053D-4127-A433-3D062E514A2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5" name="Freeform 3"/>
            <p:cNvSpPr/>
            <p:nvPr/>
          </p:nvSpPr>
          <p:spPr>
            <a:xfrm>
              <a:off x="4716360" y="5345280"/>
              <a:ext cx="4427640" cy="1512720"/>
            </a:xfrm>
            <a:prstGeom prst="pie">
              <a:avLst/>
            </a:pr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6" name="Freeform 4"/>
            <p:cNvSpPr/>
            <p:nvPr/>
          </p:nvSpPr>
          <p:spPr>
            <a:xfrm>
              <a:off x="7305840" y="6372360"/>
              <a:ext cx="18720" cy="284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7" name="Freeform 5"/>
            <p:cNvSpPr/>
            <p:nvPr/>
          </p:nvSpPr>
          <p:spPr>
            <a:xfrm>
              <a:off x="7296120" y="6343560"/>
              <a:ext cx="9720" cy="288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8" name="Freeform 6"/>
            <p:cNvSpPr/>
            <p:nvPr/>
          </p:nvSpPr>
          <p:spPr>
            <a:xfrm>
              <a:off x="8223120" y="5678640"/>
              <a:ext cx="482760" cy="11761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9" name="Freeform 7"/>
            <p:cNvSpPr/>
            <p:nvPr/>
          </p:nvSpPr>
          <p:spPr>
            <a:xfrm>
              <a:off x="7807320" y="5640480"/>
              <a:ext cx="498600" cy="1217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0" name="Freeform 8"/>
            <p:cNvSpPr/>
            <p:nvPr/>
          </p:nvSpPr>
          <p:spPr>
            <a:xfrm>
              <a:off x="7461360" y="5869080"/>
              <a:ext cx="436320" cy="9889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1" name="Freeform 9"/>
            <p:cNvSpPr/>
            <p:nvPr/>
          </p:nvSpPr>
          <p:spPr>
            <a:xfrm>
              <a:off x="7178760" y="5888160"/>
              <a:ext cx="338040" cy="969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2" name="Freeform 10"/>
            <p:cNvSpPr/>
            <p:nvPr/>
          </p:nvSpPr>
          <p:spPr>
            <a:xfrm>
              <a:off x="6813720" y="6248520"/>
              <a:ext cx="264960" cy="6094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3" name="Freeform 11"/>
            <p:cNvSpPr/>
            <p:nvPr/>
          </p:nvSpPr>
          <p:spPr>
            <a:xfrm>
              <a:off x="6508800" y="6381720"/>
              <a:ext cx="263520" cy="47628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4" name="Freeform 12"/>
            <p:cNvSpPr/>
            <p:nvPr/>
          </p:nvSpPr>
          <p:spPr>
            <a:xfrm>
              <a:off x="6207120" y="6410160"/>
              <a:ext cx="376200" cy="44784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5" name="Freeform 13"/>
            <p:cNvSpPr/>
            <p:nvPr/>
          </p:nvSpPr>
          <p:spPr>
            <a:xfrm>
              <a:off x="5832360" y="6486480"/>
              <a:ext cx="311400" cy="371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6" name="Freeform 14"/>
            <p:cNvSpPr/>
            <p:nvPr/>
          </p:nvSpPr>
          <p:spPr>
            <a:xfrm>
              <a:off x="5518080" y="6458040"/>
              <a:ext cx="301680" cy="39996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5032440" y="6648480"/>
              <a:ext cx="365040" cy="2095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4832280" y="6696000"/>
              <a:ext cx="141480" cy="16200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9" name="Freeform 17"/>
            <p:cNvSpPr/>
            <p:nvPr/>
          </p:nvSpPr>
          <p:spPr>
            <a:xfrm>
              <a:off x="8702640" y="5345280"/>
              <a:ext cx="441360" cy="1512720"/>
            </a:xfrm>
            <a:prstGeom prst="pie">
              <a:avLst/>
            </a:pr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F183B-8E8B-47FC-87EC-817800B12117}" type="slidenum">
              <a:rPr b="0" lang="es-ES_tradnl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85880" y="2071800"/>
            <a:ext cx="7340400" cy="1285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s-ES" sz="2000" spc="-1" strike="noStrike">
                <a:solidFill>
                  <a:srgbClr val="ffffcc"/>
                </a:solidFill>
                <a:latin typeface="Arial"/>
              </a:rPr>
              <a:t>Diseño de procesos para la producción de Biocombustibles</a:t>
            </a:r>
            <a:r>
              <a:rPr b="0" lang="es-ES" sz="2800" spc="-1" strike="noStrike">
                <a:solidFill>
                  <a:srgbClr val="ffff00"/>
                </a:solidFill>
                <a:latin typeface="Arial"/>
              </a:rPr>
              <a:t>”</a:t>
            </a:r>
            <a:br>
              <a:rPr sz="3200"/>
            </a:br>
            <a:br>
              <a:rPr sz="4000"/>
            </a:br>
            <a:r>
              <a:rPr b="0" lang="es-ES" sz="4000" spc="-1" strike="noStrike">
                <a:solidFill>
                  <a:srgbClr val="ff0000"/>
                </a:solidFill>
                <a:latin typeface="Arial"/>
              </a:rPr>
              <a:t>Tarea 1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0040" y="4357800"/>
            <a:ext cx="80726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Verdana"/>
              </a:rPr>
              <a:t>Profs. M.Elena Lienqueo y Oriana Salazar</a:t>
            </a: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1 Título"/>
          <p:cNvGrpSpPr/>
          <p:nvPr/>
        </p:nvGrpSpPr>
        <p:grpSpPr>
          <a:xfrm>
            <a:off x="378000" y="689040"/>
            <a:ext cx="3608280" cy="682560"/>
            <a:chOff x="378000" y="689040"/>
            <a:chExt cx="3608280" cy="682560"/>
          </a:xfrm>
        </p:grpSpPr>
        <p:pic>
          <p:nvPicPr>
            <p:cNvPr id="181" name="1 Título" descr=""/>
            <p:cNvPicPr/>
            <p:nvPr/>
          </p:nvPicPr>
          <p:blipFill>
            <a:blip r:embed="rId1"/>
            <a:stretch/>
          </p:blipFill>
          <p:spPr>
            <a:xfrm>
              <a:off x="378000" y="689040"/>
              <a:ext cx="360828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438120" y="723960"/>
              <a:ext cx="3490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4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CL" sz="2500" spc="-1" strike="noStrike">
                  <a:solidFill>
                    <a:srgbClr val="eaeaea"/>
                  </a:solidFill>
                  <a:latin typeface="Verdana"/>
                </a:rPr>
                <a:t>Proceso en Estudio</a:t>
              </a:r>
              <a:endParaRPr b="0" lang="en-US" sz="25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grpSp>
        <p:nvGrpSpPr>
          <p:cNvPr id="183" name="1 Título"/>
          <p:cNvGrpSpPr/>
          <p:nvPr/>
        </p:nvGrpSpPr>
        <p:grpSpPr>
          <a:xfrm>
            <a:off x="298440" y="676440"/>
            <a:ext cx="5187960" cy="828360"/>
            <a:chOff x="298440" y="676440"/>
            <a:chExt cx="5187960" cy="828360"/>
          </a:xfrm>
        </p:grpSpPr>
        <p:pic>
          <p:nvPicPr>
            <p:cNvPr id="184" name="1 Título" descr=""/>
            <p:cNvPicPr/>
            <p:nvPr/>
          </p:nvPicPr>
          <p:blipFill>
            <a:blip r:embed="rId2"/>
            <a:stretch/>
          </p:blipFill>
          <p:spPr>
            <a:xfrm>
              <a:off x="298440" y="676440"/>
              <a:ext cx="5187960" cy="82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428760" y="714240"/>
              <a:ext cx="5000400" cy="7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b">
              <a:no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3000" spc="-1" strike="noStrike">
                  <a:solidFill>
                    <a:srgbClr val="eaeaea"/>
                  </a:solidFill>
                  <a:latin typeface="Verdana"/>
                </a:rPr>
                <a:t> </a:t>
              </a:r>
              <a:r>
                <a:rPr b="0" lang="es-MX" sz="2700" spc="-1" strike="noStrike">
                  <a:solidFill>
                    <a:srgbClr val="eaeaea"/>
                  </a:solidFill>
                  <a:latin typeface="Verdana"/>
                </a:rPr>
                <a:t>Objetivo General del Taller</a:t>
              </a:r>
              <a:endParaRPr b="0" lang="en-US" sz="27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86" name="22 Rectángulo"/>
          <p:cNvSpPr/>
          <p:nvPr/>
        </p:nvSpPr>
        <p:spPr>
          <a:xfrm>
            <a:off x="642960" y="1785960"/>
            <a:ext cx="764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eaeaea"/>
                </a:solidFill>
                <a:latin typeface="Verdana"/>
              </a:rPr>
              <a:t>Realizar el diseño conceptual de plantas productoras de biocombustibles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Verdana"/>
              </a:rPr>
              <a:t>Promover el trabajo en equipo y la expresión oral y escrita.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714240" y="1071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1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 la materia prim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l product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2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Caracterización del proces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entrada y salida 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Balance de masa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-281160">
              <a:lnSpc>
                <a:spcPct val="9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ahoma"/>
              </a:rPr>
              <a:t>Informe 3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bloqu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Diagrama de flujo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-187200">
              <a:lnSpc>
                <a:spcPct val="9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Verdana"/>
              </a:rPr>
              <a:t>Economía Potencia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2" marL="937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2811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357120" y="304920"/>
            <a:ext cx="8358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ahoma"/>
              </a:rPr>
              <a:t>Contenido Fundamental de cada informe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Resumiendo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Arial"/>
              </a:rPr>
              <a:t>Informe 1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Rectangle 68"/>
          <p:cNvSpPr/>
          <p:nvPr/>
        </p:nvSpPr>
        <p:spPr>
          <a:xfrm>
            <a:off x="1000080" y="4071960"/>
            <a:ext cx="712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tenidos del Informe (detalles en la próxima clase)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Introducción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sultados y Discus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racterísticas Materia Prima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lvl="2" marL="1371600" indent="-457200">
              <a:lnSpc>
                <a:spcPct val="100000"/>
              </a:lnSpc>
              <a:buClr>
                <a:srgbClr val="ffff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aracterísticas Producto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clusion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Referencia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1" name="Rectangle 68"/>
          <p:cNvSpPr/>
          <p:nvPr/>
        </p:nvSpPr>
        <p:spPr>
          <a:xfrm>
            <a:off x="1000080" y="1428840"/>
            <a:ext cx="712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Actividade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Conocidos los diferentes tipos de biocombustibles vistos en clases cada grupo deberán seleccionar uno y la materia prima a partir de la cual lo generará.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Verdana"/>
              </a:rPr>
              <a:t>Ejemplo: Bioetanol de 2da generación a partir de residuos de trigo.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6 Rectángulo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ffff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grpSp>
        <p:nvGrpSpPr>
          <p:cNvPr id="193" name="7 CuadroTexto"/>
          <p:cNvGrpSpPr/>
          <p:nvPr/>
        </p:nvGrpSpPr>
        <p:grpSpPr>
          <a:xfrm>
            <a:off x="-60480" y="6559560"/>
            <a:ext cx="9259920" cy="390600"/>
            <a:chOff x="-60480" y="6559560"/>
            <a:chExt cx="9259920" cy="390600"/>
          </a:xfrm>
        </p:grpSpPr>
        <p:pic>
          <p:nvPicPr>
            <p:cNvPr id="194" name="7 CuadroTexto" descr=""/>
            <p:cNvPicPr/>
            <p:nvPr/>
          </p:nvPicPr>
          <p:blipFill>
            <a:blip r:embed="rId1"/>
            <a:stretch/>
          </p:blipFill>
          <p:spPr>
            <a:xfrm>
              <a:off x="-60480" y="6559560"/>
              <a:ext cx="925992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0" y="6597720"/>
              <a:ext cx="914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eaeaea"/>
                  </a:solidFill>
                  <a:latin typeface="Verdana"/>
                </a:rPr>
                <a:t>Diseño de procesos para la producción de Biocombustibles </a:t>
              </a:r>
              <a:r>
                <a:rPr b="1" lang="es-CL" sz="1200" spc="-1" strike="noStrike">
                  <a:solidFill>
                    <a:srgbClr val="006666"/>
                  </a:solidFill>
                  <a:latin typeface="Arial"/>
                  <a:ea typeface="Linux Libertine"/>
                </a:rPr>
                <a:t>	</a:t>
              </a:r>
              <a:endParaRPr b="0" lang="en-US" sz="12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pic>
        <p:nvPicPr>
          <p:cNvPr id="196" name="10 Diagrama" descr=""/>
          <p:cNvPicPr/>
          <p:nvPr/>
        </p:nvPicPr>
        <p:blipFill>
          <a:blip r:embed="rId2"/>
          <a:stretch/>
        </p:blipFill>
        <p:spPr>
          <a:xfrm>
            <a:off x="7132680" y="-6480"/>
            <a:ext cx="2023920" cy="6443640"/>
          </a:xfrm>
          <a:prstGeom prst="rect">
            <a:avLst/>
          </a:prstGeom>
          <a:ln w="0">
            <a:noFill/>
          </a:ln>
        </p:spPr>
      </p:pic>
      <p:sp>
        <p:nvSpPr>
          <p:cNvPr id="197" name="6 Rectángulo"/>
          <p:cNvSpPr/>
          <p:nvPr/>
        </p:nvSpPr>
        <p:spPr>
          <a:xfrm>
            <a:off x="1097280" y="357120"/>
            <a:ext cx="1593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339966"/>
                </a:solidFill>
                <a:latin typeface="Tahoma"/>
              </a:rPr>
              <a:t>Actividades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28760" y="357120"/>
          <a:ext cx="8715240" cy="6303960"/>
        </p:xfrm>
        <a:graphic>
          <a:graphicData uri="http://schemas.openxmlformats.org/drawingml/2006/table">
            <a:tbl>
              <a:tblPr/>
              <a:tblGrid>
                <a:gridCol w="1528560"/>
                <a:gridCol w="1773360"/>
                <a:gridCol w="54133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Seman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Fecha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Actividad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8720">
                      <a:solidFill>
                        <a:srgbClr val="eaeaea"/>
                      </a:solidFill>
                    </a:lnB>
                    <a:solidFill>
                      <a:srgbClr val="339966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8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Introducción-Formación de grupos-Presentacione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872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15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Concepto de Biomasa-Presentaciones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2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-</a:t>
                      </a: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29-Marz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b0b0b0"/>
                          </a:solidFill>
                          <a:latin typeface="Verdana"/>
                        </a:rPr>
                        <a:t>Biodiesel y Biogás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5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Bioetanol y Biobutanol – Selección del Tema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6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2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e Informes-Laboratorio de BIOGA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7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9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forme 1-Descripcion del Biocombustible y Presentaciones (equip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8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6-Abril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troducción al Diseño conceptual de Procesos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9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3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e diagramas de entrada y salida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0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0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Balance de Masa sin y  con reacción Química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1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4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laboración diagramas de Bloques y  de flujo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1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2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31-Mayo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Informe 2-Descripcion del Proceso  y Presentaciones (equipo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3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7-Jun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Laboratorio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4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4-Jun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Taller sobre elaboración de Flowsheet-calculo economía potencial (mel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15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21-Julio 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Laboratorio (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cdded3"/>
                    </a:solidFill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Examen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5e855b"/>
                          </a:solidFill>
                          <a:latin typeface="Verdana"/>
                        </a:rPr>
                        <a:t>Presentaciones (mel-os)</a:t>
                      </a:r>
                      <a:endParaRPr b="0" lang="en-US" sz="1400" spc="-1" strike="noStrike">
                        <a:solidFill>
                          <a:srgbClr val="eaeaea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e8efea"/>
                    </a:solidFill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Object 12" descr=""/>
          <p:cNvPicPr/>
          <p:nvPr/>
        </p:nvPicPr>
        <p:blipFill>
          <a:blip r:embed="rId1"/>
          <a:stretch/>
        </p:blipFill>
        <p:spPr>
          <a:xfrm>
            <a:off x="1908000" y="404640"/>
            <a:ext cx="4324680" cy="506736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13"/>
          <p:cNvSpPr/>
          <p:nvPr/>
        </p:nvSpPr>
        <p:spPr>
          <a:xfrm>
            <a:off x="2627280" y="3716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66"/>
                </a:solidFill>
                <a:latin typeface="Arial"/>
              </a:rPr>
              <a:t>¿¿Preguntas??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7T21:24:28Z</dcterms:created>
  <dc:creator>guest</dc:creator>
  <dc:description/>
  <dc:language>en-US</dc:language>
  <cp:lastModifiedBy>Ing Quimica</cp:lastModifiedBy>
  <dcterms:modified xsi:type="dcterms:W3CDTF">2011-04-05T16:29:14Z</dcterms:modified>
  <cp:revision>192</cp:revision>
  <dc:subject/>
  <dc:title>Diapositiva 1</dc:title>
</cp:coreProperties>
</file>