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0B94-8094-4AF7-9364-A196954E70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023-E12C-4392-ADF9-6872A42FF8FA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809E-342D-4A3A-ACF8-5354B4039902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C9D-801A-493B-9A56-D9E4D99F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CE8-CCC9-469F-A816-31F0740D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AA4-6E2A-4EE5-9277-FCA64664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B0E-C9C3-4E09-86F7-91C51BCB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9F1D-50CC-4A47-B996-B2CEFE90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D275-ACA1-4063-A989-A0AB941B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EB49-B4BD-48FB-834C-63C987B1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F094-EBC9-485C-A9D8-CABBDFD0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B4F-6449-4778-8A6F-E1A296EC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04E9-E5C3-4702-BF7A-9C55D0B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1825-429C-41F9-8821-1AB45388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95E-CFAA-41B4-812A-390029A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D734-A769-496D-927A-BBF067F2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FC9A-F0F8-433C-A8D7-DC71982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36C7-01FE-4EF8-8272-90B3D47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167D-BE76-4AA8-A93E-7BAC1A1C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7916-7FA6-4B0D-B42B-65A0CA4E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1627-8CC4-4FFA-B2E1-E351E765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7DB3-05D0-498E-8CC8-3C49EEB4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02C6-4D23-4255-B7B0-6B556FC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B64C-223C-4859-82C0-775BAEA9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1444-15F6-4715-A0F3-D5FFEF88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FDC-6DC7-41D5-8836-7C84A8B8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9654-3D58-4880-878E-6F7F91CB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44CF-FBA2-48D0-A693-E41941F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045E-6EC2-46E2-8FA4-A54556F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FEA8-30C0-482C-AF5F-23AC6093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06C6-AB58-4324-BA86-96B5BFC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907C-072A-42C5-8D84-4F06747E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6645-EE9E-4930-8364-F47BFEE2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03D-889A-4DE0-98AC-921AAD8D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E85-FD7A-4713-A7D6-527F61EF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BC1-B70E-43CE-BFF7-A64E6106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D24-3B8B-4326-936D-4873B1F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1BE-E5FE-48F1-B83A-5F86AB4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7C0-D489-426C-ABB1-190B7EB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E6FC-17A0-49F1-9591-12668E87DE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4346-77AB-42AD-9040-46774CB947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B268-9662-4485-9CBF-5346E67CD8EB}" type="slidenum"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20718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Tarea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0040" y="43578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y Oriana Salazar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1 Título"/>
          <p:cNvGrpSpPr/>
          <p:nvPr/>
        </p:nvGrpSpPr>
        <p:grpSpPr>
          <a:xfrm>
            <a:off x="378000" y="689040"/>
            <a:ext cx="3608280" cy="682560"/>
            <a:chOff x="378000" y="689040"/>
            <a:chExt cx="3608280" cy="682560"/>
          </a:xfrm>
        </p:grpSpPr>
        <p:pic>
          <p:nvPicPr>
            <p:cNvPr id="181" name="1 Título" descr=""/>
            <p:cNvPicPr/>
            <p:nvPr/>
          </p:nvPicPr>
          <p:blipFill>
            <a:blip r:embed="rId1"/>
            <a:stretch/>
          </p:blipFill>
          <p:spPr>
            <a:xfrm>
              <a:off x="378000" y="689040"/>
              <a:ext cx="3608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38120" y="723960"/>
              <a:ext cx="3490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500" spc="-1" strike="noStrike">
                  <a:solidFill>
                    <a:srgbClr val="eaeaea"/>
                  </a:solidFill>
                  <a:latin typeface="Verdana"/>
                </a:rPr>
                <a:t>Proceso en Estudio</a:t>
              </a:r>
              <a:endParaRPr b="0" lang="en-US" sz="2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83" name="1 Título"/>
          <p:cNvGrpSpPr/>
          <p:nvPr/>
        </p:nvGrpSpPr>
        <p:grpSpPr>
          <a:xfrm>
            <a:off x="298440" y="676440"/>
            <a:ext cx="5187960" cy="828360"/>
            <a:chOff x="298440" y="676440"/>
            <a:chExt cx="5187960" cy="828360"/>
          </a:xfrm>
        </p:grpSpPr>
        <p:pic>
          <p:nvPicPr>
            <p:cNvPr id="184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51879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28760" y="714240"/>
              <a:ext cx="50004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6" name="22 Rectángulo"/>
          <p:cNvSpPr/>
          <p:nvPr/>
        </p:nvSpPr>
        <p:spPr>
          <a:xfrm>
            <a:off x="642960" y="178596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Verdana"/>
              </a:rPr>
              <a:t>Promover el trabajo en equipo y la expresión oral y escrita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 la materia prim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duc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entrada y sali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Balance de 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bloqu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fluj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conomía Poten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57120" y="30492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ontenido Fundamental de cada infor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sumiendo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Inform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1000080" y="40719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tenidos del Informe (detalles en la próxima cla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Introduc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sultados y Disc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Materia Prim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Produc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ferenci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1000080" y="14288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Actividad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ocidos los diferentes tipos de biocombustibles vistos en clases cada grupo deberán seleccionar uno y la materia prima a partir de la cual lo generar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Ejemplo: Bioetanol de 2da generación a partir de residuos de trigo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6 Rectángulo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93" name="7 CuadroTexto"/>
          <p:cNvGrpSpPr/>
          <p:nvPr/>
        </p:nvGrpSpPr>
        <p:grpSpPr>
          <a:xfrm>
            <a:off x="-60480" y="6559560"/>
            <a:ext cx="9259920" cy="390600"/>
            <a:chOff x="-60480" y="6559560"/>
            <a:chExt cx="9259920" cy="390600"/>
          </a:xfrm>
        </p:grpSpPr>
        <p:pic>
          <p:nvPicPr>
            <p:cNvPr id="194" name="7 CuadroTexto" descr=""/>
            <p:cNvPicPr/>
            <p:nvPr/>
          </p:nvPicPr>
          <p:blipFill>
            <a:blip r:embed="rId1"/>
            <a:stretch/>
          </p:blipFill>
          <p:spPr>
            <a:xfrm>
              <a:off x="-60480" y="6559560"/>
              <a:ext cx="92599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597720"/>
              <a:ext cx="914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Verdana"/>
                </a:rPr>
                <a:t>Diseño de procesos para la producción de Biocombustibles </a:t>
              </a:r>
              <a:r>
                <a:rPr b="1" lang="es-CL" sz="1200" spc="-1" strike="noStrike">
                  <a:solidFill>
                    <a:srgbClr val="006666"/>
                  </a:solidFill>
                  <a:latin typeface="Arial"/>
                  <a:ea typeface="Linux Libertine"/>
                </a:rPr>
                <a:t>	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96" name="10 Diagrama" descr=""/>
          <p:cNvPicPr/>
          <p:nvPr/>
        </p:nvPicPr>
        <p:blipFill>
          <a:blip r:embed="rId2"/>
          <a:stretch/>
        </p:blipFill>
        <p:spPr>
          <a:xfrm>
            <a:off x="7132680" y="-6480"/>
            <a:ext cx="2023920" cy="6443640"/>
          </a:xfrm>
          <a:prstGeom prst="rect">
            <a:avLst/>
          </a:prstGeom>
          <a:ln w="0">
            <a:noFill/>
          </a:ln>
        </p:spPr>
      </p:pic>
      <p:sp>
        <p:nvSpPr>
          <p:cNvPr id="197" name="6 Rectángulo"/>
          <p:cNvSpPr/>
          <p:nvPr/>
        </p:nvSpPr>
        <p:spPr>
          <a:xfrm>
            <a:off x="1097280" y="35712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9966"/>
                </a:solidFill>
                <a:latin typeface="Tahoma"/>
              </a:rPr>
              <a:t>Activ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28760" y="357120"/>
          <a:ext cx="8715240" cy="6303960"/>
        </p:xfrm>
        <a:graphic>
          <a:graphicData uri="http://schemas.openxmlformats.org/drawingml/2006/table">
            <a:tbl>
              <a:tblPr/>
              <a:tblGrid>
                <a:gridCol w="1528560"/>
                <a:gridCol w="1773360"/>
                <a:gridCol w="541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8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Introducción-Formación de grupos-Presentacione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5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Concepto de Biomasa-Presentacione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2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9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Biodiesel y Biogá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ioetanol y Biobutanol – Selección del Tema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Informes-Laboratorio de BIOGA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9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1-Descripcion del Biocombustible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6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troducción al Diseño conceptual de Proceso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diagramas de entrada y salid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alance de Masa sin y  con reacción Químic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4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iagramas de Bloques y  de flujo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1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2-Descripcion del Proceso 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Taller sobre elaboración de Flowsheet-calculo economía potencial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1-Jul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xame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Presentaciones (mel-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ject 12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324680" cy="5067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1-04-05T16:29:14Z</dcterms:modified>
  <cp:revision>192</cp:revision>
  <dc:subject/>
  <dc:title>Diapositiva 1</dc:title>
</cp:coreProperties>
</file>