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553-8785-481D-8B05-1AB74722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650-9EC0-4BCD-B49B-B5B19B77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2E1-09FC-4E11-B92A-8D015535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E33-EE8A-4871-B44B-F7BE2773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A7F-A1D6-4A00-B5FB-98F40B4F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887-41DD-462E-A3F3-BB0EC9BC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1EB-8485-47B7-9533-015CA39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771-085B-43F3-8E5C-A012FA4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106-03A7-4D34-8B8F-B125820F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AEB-D291-4252-B047-699055A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75F-8ABD-45FF-BD22-979CEFB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B1F-2FA2-423E-852B-4AE056F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de 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E049-4651-49AA-919B-1524E24B7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ergía a partir de Biom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29264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to de Dinámica Celular y Biotecnología (ICDB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entro de Ing. Bio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cultad de Cs.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12 Grupo"/>
          <p:cNvGrpSpPr/>
          <p:nvPr/>
        </p:nvGrpSpPr>
        <p:grpSpPr>
          <a:xfrm>
            <a:off x="3203640" y="189000"/>
            <a:ext cx="2382840" cy="1739880"/>
            <a:chOff x="3203640" y="189000"/>
            <a:chExt cx="2382840" cy="1739880"/>
          </a:xfrm>
        </p:grpSpPr>
        <p:pic>
          <p:nvPicPr>
            <p:cNvPr id="44" name="6 Imagen" descr="Logo-Trans-01.gif"/>
            <p:cNvPicPr/>
            <p:nvPr/>
          </p:nvPicPr>
          <p:blipFill>
            <a:blip r:embed="rId1"/>
            <a:stretch/>
          </p:blipFill>
          <p:spPr>
            <a:xfrm>
              <a:off x="3990600" y="189000"/>
              <a:ext cx="7794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1 Imagen" descr="UChile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203640" y="1689120"/>
              <a:ext cx="2382840" cy="2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C447-6D6B-4CF6-AE2A-E7D00015CE9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Rectángulo"/>
          <p:cNvSpPr/>
          <p:nvPr/>
        </p:nvSpPr>
        <p:spPr>
          <a:xfrm>
            <a:off x="571680" y="1857240"/>
            <a:ext cx="757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CARACTERISTICAS DE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QUÍM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1280" y="1916280"/>
          <a:ext cx="7562520" cy="3241080"/>
        </p:xfrm>
        <a:graphic>
          <a:graphicData uri="http://schemas.openxmlformats.org/drawingml/2006/table">
            <a:tbl>
              <a:tblPr/>
              <a:tblGrid>
                <a:gridCol w="3781080"/>
                <a:gridCol w="3781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Com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orcentaje aproxim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í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ó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ógeno, Azufre, 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908000" y="765000"/>
          <a:ext cx="68565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6856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13"/>
          <p:cNvGrpSpPr/>
          <p:nvPr/>
        </p:nvGrpSpPr>
        <p:grpSpPr>
          <a:xfrm>
            <a:off x="0" y="785880"/>
            <a:ext cx="1971720" cy="3855960"/>
            <a:chOff x="0" y="785880"/>
            <a:chExt cx="1971720" cy="3855960"/>
          </a:xfrm>
        </p:grpSpPr>
        <p:pic>
          <p:nvPicPr>
            <p:cNvPr id="91" name="Picture 6" descr="550"/>
            <p:cNvPicPr/>
            <p:nvPr/>
          </p:nvPicPr>
          <p:blipFill>
            <a:blip r:embed="rId3"/>
            <a:stretch/>
          </p:blipFill>
          <p:spPr>
            <a:xfrm>
              <a:off x="936360" y="785880"/>
              <a:ext cx="103536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551"/>
            <p:cNvPicPr/>
            <p:nvPr/>
          </p:nvPicPr>
          <p:blipFill>
            <a:blip r:embed="rId4"/>
            <a:stretch/>
          </p:blipFill>
          <p:spPr>
            <a:xfrm>
              <a:off x="73080" y="1119240"/>
              <a:ext cx="72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561"/>
            <p:cNvPicPr/>
            <p:nvPr/>
          </p:nvPicPr>
          <p:blipFill>
            <a:blip r:embed="rId5"/>
            <a:stretch/>
          </p:blipFill>
          <p:spPr>
            <a:xfrm>
              <a:off x="0" y="2990880"/>
              <a:ext cx="1035000" cy="16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8 CuadroTexto"/>
          <p:cNvSpPr/>
          <p:nvPr/>
        </p:nvSpPr>
        <p:spPr>
          <a:xfrm>
            <a:off x="7358040" y="26431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5-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9 CuadroTexto"/>
          <p:cNvSpPr/>
          <p:nvPr/>
        </p:nvSpPr>
        <p:spPr>
          <a:xfrm>
            <a:off x="6715080" y="42148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ulosa (45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CuadroTexto"/>
          <p:cNvSpPr/>
          <p:nvPr/>
        </p:nvSpPr>
        <p:spPr>
          <a:xfrm>
            <a:off x="4643280" y="2357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nina (15-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CuadroTexto"/>
          <p:cNvSpPr/>
          <p:nvPr/>
        </p:nvSpPr>
        <p:spPr>
          <a:xfrm>
            <a:off x="285840" y="5380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 Estructu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aíble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enoles, terpenos, azúcares y otros), ≤ 5 -1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mpuestos inorgánicos o ceniza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carbonatos, silicatos, oxalatos fosfatos) ≤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2 CuadroTexto"/>
          <p:cNvSpPr/>
          <p:nvPr/>
        </p:nvSpPr>
        <p:spPr>
          <a:xfrm>
            <a:off x="2428920" y="785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6"/>
          <a:stretch/>
        </p:blipFill>
        <p:spPr>
          <a:xfrm>
            <a:off x="971640" y="3860640"/>
            <a:ext cx="1295280" cy="100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0004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 ESTRUCTUR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Rectángulo"/>
          <p:cNvSpPr/>
          <p:nvPr/>
        </p:nvSpPr>
        <p:spPr>
          <a:xfrm>
            <a:off x="500040" y="1285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Celulos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polímero lineal de anhidro-glucopiranosas, unidas por enlaces β 1- 4, de alto P.M. (10.000), asociados en estructuras supramoleculares (fibrillas), altamente ordenadas y unidas por puentes de hidrógeno formando zonas cristalinas y amorfas.  Forman entre 45-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CuadroTexto"/>
          <p:cNvSpPr/>
          <p:nvPr/>
        </p:nvSpPr>
        <p:spPr>
          <a:xfrm>
            <a:off x="27147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00040" y="4287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3789360"/>
          <a:ext cx="80643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8064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ulosa forma fibr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457880" cy="329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4562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EMI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Rectángulo"/>
          <p:cNvSpPr/>
          <p:nvPr/>
        </p:nvSpPr>
        <p:spPr>
          <a:xfrm>
            <a:off x="500040" y="12859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micelulosas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án compuestas por otros azúc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emás de glucosa (xilosa, galactosa, manosa, arabinosa, ramnosa y ácidos urónicos y grupos acetilo principalmente), son de menor  PM  (60 - 200) y ramificadas. Forman entre 15 –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5742000" cy="2370240"/>
          </a:xfrm>
          <a:prstGeom prst="rect">
            <a:avLst/>
          </a:prstGeom>
          <a:ln w="0">
            <a:noFill/>
          </a:ln>
        </p:spPr>
      </p:pic>
      <p:sp>
        <p:nvSpPr>
          <p:cNvPr id="112" name="4 CuadroTexto"/>
          <p:cNvSpPr/>
          <p:nvPr/>
        </p:nvSpPr>
        <p:spPr>
          <a:xfrm>
            <a:off x="271476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 Rectángulo"/>
          <p:cNvSpPr/>
          <p:nvPr/>
        </p:nvSpPr>
        <p:spPr>
          <a:xfrm>
            <a:off x="500040" y="9288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Lignin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sponde a un polímero fenólico tridimensional, amorfo de muy alto P.M., constituído en proporciones variables por tres unidades básicas fenil-propanoides (Guayacilo, Siringilo y p- Hidroxifenilo). – Forman entre 15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CuadroTexto"/>
          <p:cNvSpPr/>
          <p:nvPr/>
        </p:nvSpPr>
        <p:spPr>
          <a:xfrm>
            <a:off x="4714920" y="4071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876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GNIN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95560" y="2492280"/>
          <a:ext cx="343512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492280"/>
                    <a:ext cx="343512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AFD7-3B61-493F-A224-02BFA7A3C3D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 Rectángulo"/>
          <p:cNvSpPr/>
          <p:nvPr/>
        </p:nvSpPr>
        <p:spPr>
          <a:xfrm>
            <a:off x="826920" y="134136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¿ QUE ES LA BIOMAS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14172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eria orgánica originada en un proceso biológico, espontáneo o provocado, utilizable como fuente de energí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6360" y="1052640"/>
            <a:ext cx="5884920" cy="5564160"/>
            <a:chOff x="1476360" y="1052640"/>
            <a:chExt cx="5884920" cy="5564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6360" y="1052640"/>
              <a:ext cx="5884920" cy="55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32720" y="45086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0360" y="1413000"/>
              <a:ext cx="5029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: la celulosa como un 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9280" y="2205000"/>
            <a:ext cx="9396360" cy="2670480"/>
            <a:chOff x="179280" y="2205000"/>
            <a:chExt cx="9396360" cy="2670480"/>
          </a:xfrm>
        </p:grpSpPr>
        <p:sp>
          <p:nvSpPr>
            <p:cNvPr id="56" name=""/>
            <p:cNvSpPr/>
            <p:nvPr/>
          </p:nvSpPr>
          <p:spPr>
            <a:xfrm>
              <a:off x="503280" y="2636640"/>
              <a:ext cx="720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             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63600" y="2938320"/>
              <a:ext cx="68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7640" y="4365360"/>
              <a:ext cx="640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               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38560" y="4581360"/>
              <a:ext cx="6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9280" y="263664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96000" y="2781000"/>
              <a:ext cx="503280" cy="287640"/>
            </a:xfrm>
            <a:prstGeom prst="rightArrow">
              <a:avLst>
                <a:gd name="adj1" fmla="val 50000"/>
                <a:gd name="adj2" fmla="val 437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280" y="436536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3640" y="2205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560" y="3933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1640" y="4508280"/>
              <a:ext cx="718920" cy="217440"/>
            </a:xfrm>
            <a:prstGeom prst="rightArrow">
              <a:avLst>
                <a:gd name="adj1" fmla="val 50000"/>
                <a:gd name="adj2" fmla="val 8265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06920" y="22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35280" y="40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6728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merización (en la pl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213372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30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Despolimerización (en el 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1979280" y="4581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5D90-0C04-4BE9-B908-5384926230D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71B-9E7E-4F90-BB33-9D7B8D0446A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5060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CuadroTexto"/>
          <p:cNvSpPr/>
          <p:nvPr/>
        </p:nvSpPr>
        <p:spPr>
          <a:xfrm>
            <a:off x="1428840" y="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ASA S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 Imagen" descr="biomasa_seca.JPG"/>
          <p:cNvPicPr/>
          <p:nvPr/>
        </p:nvPicPr>
        <p:blipFill>
          <a:blip r:embed="rId1"/>
          <a:stretch/>
        </p:blipFill>
        <p:spPr>
          <a:xfrm>
            <a:off x="0" y="71424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la biom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62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gotamiento de combustibles fósiles (petróleo, gas natural, carbón de pied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reado por combustión es fijado por la biomasa al c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 emisión neta d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es c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urso Reno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529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Otras ventajas del uso de la Biom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No emite contaminant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ulfurados o nitrogenados y muy pocas partículas só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Permite el reciclaje y disminución de residu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Canaliza, por tanto, los excedentes agrícolas alimentarios, permitiendo el aprovechamiento de las tierras de reti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Los cultivos energétic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sustituir a cultivos excedentes en el mercado de alimentos. Eso puede ofrecer una nueva oportunidad al sector agríco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 uso estimula la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económico en el medio r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Disminuye la dependencia exter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el abastecimiento de combusti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20:10:55Z</dcterms:created>
  <dc:creator>Ing Quimica</dc:creator>
  <dc:description/>
  <dc:language>en-US</dc:language>
  <cp:lastModifiedBy>Ing Quimica</cp:lastModifiedBy>
  <dcterms:modified xsi:type="dcterms:W3CDTF">2011-03-14T21:17:59Z</dcterms:modified>
  <cp:revision>32</cp:revision>
  <dc:subject/>
  <dc:title>Energía a partir de Biomasa</dc:title>
</cp:coreProperties>
</file>