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E1B-63BD-48E0-86F6-68B927E5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7EB-E69D-4B5D-A936-2CCCF91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6D4-1220-4658-8688-F8091482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030-CAF7-45B3-9F0E-DF0BE81B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D26-4517-4C56-843D-DF0F3BB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553-E6CE-400D-8E17-7F1D778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F40-90D3-4630-9843-5E158DC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FB3-09AE-46E4-88CE-9361195A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50A-3B98-4D4D-94D3-0E88652D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5EC-09E7-471D-955D-10DF29E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DC7-6229-40B4-BF3C-775005E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D8A-B0FD-4C8B-AA6D-3DE4553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de 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662-11DC-46A2-B183-868E2053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ergía a partir de Biom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to de Dinámica Celular y Biotecnología (ICDB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ntro de Ing. Bio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cultad de Cs.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12 Grupo"/>
          <p:cNvGrpSpPr/>
          <p:nvPr/>
        </p:nvGrpSpPr>
        <p:grpSpPr>
          <a:xfrm>
            <a:off x="3203640" y="189000"/>
            <a:ext cx="2382840" cy="1739880"/>
            <a:chOff x="3203640" y="189000"/>
            <a:chExt cx="2382840" cy="1739880"/>
          </a:xfrm>
        </p:grpSpPr>
        <p:pic>
          <p:nvPicPr>
            <p:cNvPr id="44" name="6 Imagen" descr="Logo-Trans-01.gif"/>
            <p:cNvPicPr/>
            <p:nvPr/>
          </p:nvPicPr>
          <p:blipFill>
            <a:blip r:embed="rId1"/>
            <a:stretch/>
          </p:blipFill>
          <p:spPr>
            <a:xfrm>
              <a:off x="3990600" y="189000"/>
              <a:ext cx="7794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1 Imagen" descr="UChile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203640" y="1689120"/>
              <a:ext cx="238284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0435-BA8C-4E7E-B8D4-25EECC35D0B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Rectángulo"/>
          <p:cNvSpPr/>
          <p:nvPr/>
        </p:nvSpPr>
        <p:spPr>
          <a:xfrm>
            <a:off x="571680" y="1857240"/>
            <a:ext cx="757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CARACTERISTICAS DE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QUÍM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916280"/>
          <a:ext cx="7562520" cy="3241080"/>
        </p:xfrm>
        <a:graphic>
          <a:graphicData uri="http://schemas.openxmlformats.org/drawingml/2006/table">
            <a:tbl>
              <a:tblPr/>
              <a:tblGrid>
                <a:gridCol w="3781080"/>
                <a:gridCol w="3781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Com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rcentaje aproxim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í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ógeno, Azufre, 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08000" y="765000"/>
          <a:ext cx="6856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6856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13"/>
          <p:cNvGrpSpPr/>
          <p:nvPr/>
        </p:nvGrpSpPr>
        <p:grpSpPr>
          <a:xfrm>
            <a:off x="0" y="785880"/>
            <a:ext cx="1971720" cy="3855960"/>
            <a:chOff x="0" y="785880"/>
            <a:chExt cx="1971720" cy="3855960"/>
          </a:xfrm>
        </p:grpSpPr>
        <p:pic>
          <p:nvPicPr>
            <p:cNvPr id="91" name="Picture 6" descr="550"/>
            <p:cNvPicPr/>
            <p:nvPr/>
          </p:nvPicPr>
          <p:blipFill>
            <a:blip r:embed="rId3"/>
            <a:stretch/>
          </p:blipFill>
          <p:spPr>
            <a:xfrm>
              <a:off x="936360" y="785880"/>
              <a:ext cx="103536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551"/>
            <p:cNvPicPr/>
            <p:nvPr/>
          </p:nvPicPr>
          <p:blipFill>
            <a:blip r:embed="rId4"/>
            <a:stretch/>
          </p:blipFill>
          <p:spPr>
            <a:xfrm>
              <a:off x="73080" y="1119240"/>
              <a:ext cx="72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561"/>
            <p:cNvPicPr/>
            <p:nvPr/>
          </p:nvPicPr>
          <p:blipFill>
            <a:blip r:embed="rId5"/>
            <a:stretch/>
          </p:blipFill>
          <p:spPr>
            <a:xfrm>
              <a:off x="0" y="2990880"/>
              <a:ext cx="103500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8 CuadroTexto"/>
          <p:cNvSpPr/>
          <p:nvPr/>
        </p:nvSpPr>
        <p:spPr>
          <a:xfrm>
            <a:off x="7358040" y="26431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5-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6715080" y="4214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ulosa (45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4643280" y="2357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nina (15-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285840" y="5380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 Estructu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íble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enoles, terpenos, azúcares y otros), ≤ 5 -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mpuestos inorgánicos o ceniz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arbonatos, silicatos, oxalatos fosfatos) ≤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428920" y="785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6"/>
          <a:stretch/>
        </p:blipFill>
        <p:spPr>
          <a:xfrm>
            <a:off x="971640" y="3860640"/>
            <a:ext cx="1295280" cy="100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0004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 ESTRUC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Rectángulo"/>
          <p:cNvSpPr/>
          <p:nvPr/>
        </p:nvSpPr>
        <p:spPr>
          <a:xfrm>
            <a:off x="500040" y="1285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Celulos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polímero lineal de anhidro-glucopiranosas, unidas por enlaces β 1- 4, de alto P.M. (10.000), asociados en estructuras supramoleculares (fibrillas), altamente ordenadas y unidas por puentes de hidrógeno formando zonas cristalinas y amorfas.  Forman entre 45-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714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00040" y="4287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3789360"/>
          <a:ext cx="8064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8064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ulosa forma fib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57880" cy="329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562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EMI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Rectángulo"/>
          <p:cNvSpPr/>
          <p:nvPr/>
        </p:nvSpPr>
        <p:spPr>
          <a:xfrm>
            <a:off x="500040" y="1285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micelulosas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án compuestas por otros azúc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emás de glucosa (xilosa, galactosa, manosa, arabinosa, ramnosa y ácidos urónicos y grupos acetilo principalmente), son de menor  PM  (60 - 200) y ramificadas. Forman entre 15 –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74200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271476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500040" y="9288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gni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sponde a un polímero fenólico tridimensional, amorfo de muy alto P.M., constituído en proporciones variables por tres unidades básicas fenil-propanoides (Guayacilo, Siringilo y p- Hidroxifenilo). – Forman entre 1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CuadroTexto"/>
          <p:cNvSpPr/>
          <p:nvPr/>
        </p:nvSpPr>
        <p:spPr>
          <a:xfrm>
            <a:off x="4714920" y="4071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76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GNIN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95560" y="2492280"/>
          <a:ext cx="34351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492280"/>
                    <a:ext cx="34351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7D6F-B4C2-44DC-BB1D-75F2735D0C4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Rectángulo"/>
          <p:cNvSpPr/>
          <p:nvPr/>
        </p:nvSpPr>
        <p:spPr>
          <a:xfrm>
            <a:off x="826920" y="134136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¿ QUE ES LA BIOMAS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14172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 orgánica originada en un proceso biológico, espontáneo o provocado, utilizable como fuente de energí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1052640"/>
            <a:ext cx="5884920" cy="5564160"/>
            <a:chOff x="1476360" y="1052640"/>
            <a:chExt cx="5884920" cy="5564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1052640"/>
              <a:ext cx="5884920" cy="55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4508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0360" y="1413000"/>
              <a:ext cx="5029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: la celulosa como un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2205000"/>
            <a:ext cx="9396360" cy="2670480"/>
            <a:chOff x="179280" y="2205000"/>
            <a:chExt cx="9396360" cy="2670480"/>
          </a:xfrm>
        </p:grpSpPr>
        <p:sp>
          <p:nvSpPr>
            <p:cNvPr id="56" name=""/>
            <p:cNvSpPr/>
            <p:nvPr/>
          </p:nvSpPr>
          <p:spPr>
            <a:xfrm>
              <a:off x="503280" y="2636640"/>
              <a:ext cx="720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             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63600" y="2938320"/>
              <a:ext cx="68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7640" y="4365360"/>
              <a:ext cx="64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               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8560" y="4581360"/>
              <a:ext cx="6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9280" y="263664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96000" y="2781000"/>
              <a:ext cx="503280" cy="287640"/>
            </a:xfrm>
            <a:prstGeom prst="rightArrow">
              <a:avLst>
                <a:gd name="adj1" fmla="val 50000"/>
                <a:gd name="adj2" fmla="val 437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280" y="43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3640" y="2205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3933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1640" y="4508280"/>
              <a:ext cx="718920" cy="217440"/>
            </a:xfrm>
            <a:prstGeom prst="rightArrow">
              <a:avLst>
                <a:gd name="adj1" fmla="val 50000"/>
                <a:gd name="adj2" fmla="val 826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22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5280" y="40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6728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merización (en la pl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13372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0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Despolimerización (en el 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979280" y="4581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DEA-BF51-4E78-8337-FB3C79F16D8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5F0-D2AF-45AB-9E9D-B7FFBF15559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60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CuadroTexto"/>
          <p:cNvSpPr/>
          <p:nvPr/>
        </p:nvSpPr>
        <p:spPr>
          <a:xfrm>
            <a:off x="1428840" y="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AS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 Imagen" descr="biomasa_seca.JPG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la biom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62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gotamiento de combustibles fósiles (petróleo, gas natural, carbón de pied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reado por combustión es fijado por la biomasa al c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 emisión neta d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es c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urso Reno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Otras ventajas del uso de la Biom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No emite contaminant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ulfurados o nitrogenados y muy pocas partículas só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Permite el reciclaje y disminución de residu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Canaliza, por tanto, los excedentes agrícolas alimentarios, permitiendo el aprovechamiento de las tierras de reti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cultivos energétic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sustituir a cultivos excedentes en el mercado de alimentos. Eso puede ofrecer una nueva oportunidad al sector agríco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uso estimula l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conómico en el medio r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sminuye la dependencia exter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l abastecimiento de combusti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0:10:55Z</dcterms:created>
  <dc:creator>Ing Quimica</dc:creator>
  <dc:description/>
  <dc:language>en-US</dc:language>
  <cp:lastModifiedBy>Ing Quimica</cp:lastModifiedBy>
  <dcterms:modified xsi:type="dcterms:W3CDTF">2011-03-14T21:17:59Z</dcterms:modified>
  <cp:revision>32</cp:revision>
  <dc:subject/>
  <dc:title>Energía a partir de Biomasa</dc:title>
</cp:coreProperties>
</file>