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097-9681-4594-8B93-59F3830D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659-A13F-4F1F-88FF-2AFA257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8D1-406B-438D-9B14-7AB34245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EBF-5996-45F5-AC54-4403A95B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176-CFD4-487E-B5AE-6B77F36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8FE-774C-400D-9BF3-5E0CAF7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503-184D-4CB1-8808-F413EEC3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EEB-5C26-482A-A779-812F97C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F85-3985-43A2-9743-B93CFE2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BF2-49DB-4E07-A51B-99799A7E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52D-A192-4543-93AC-E9BAFAA5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2BC-314E-4DF5-A9CE-767F164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de 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474-41A5-4540-A892-55202B4C1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ergía a partir de Bioma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29264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stituto de Dinámica Celular y Biotecnología (ICDB)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entro de Ing. Bioquímica y Biotecnolog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cultad de Cs. Físicas y Matemá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12 Grupo"/>
          <p:cNvGrpSpPr/>
          <p:nvPr/>
        </p:nvGrpSpPr>
        <p:grpSpPr>
          <a:xfrm>
            <a:off x="3203640" y="189000"/>
            <a:ext cx="2382840" cy="1739880"/>
            <a:chOff x="3203640" y="189000"/>
            <a:chExt cx="2382840" cy="1739880"/>
          </a:xfrm>
        </p:grpSpPr>
        <p:pic>
          <p:nvPicPr>
            <p:cNvPr id="44" name="6 Imagen" descr="Logo-Trans-01.gif"/>
            <p:cNvPicPr/>
            <p:nvPr/>
          </p:nvPicPr>
          <p:blipFill>
            <a:blip r:embed="rId1"/>
            <a:stretch/>
          </p:blipFill>
          <p:spPr>
            <a:xfrm>
              <a:off x="3990600" y="189000"/>
              <a:ext cx="779400" cy="15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11 Imagen" descr="UChile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203640" y="1689120"/>
              <a:ext cx="2382840" cy="2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3E92-5C37-4552-9EEF-9D7D5243BB31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Rectángulo"/>
          <p:cNvSpPr/>
          <p:nvPr/>
        </p:nvSpPr>
        <p:spPr>
          <a:xfrm>
            <a:off x="571680" y="1857240"/>
            <a:ext cx="757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CARACTERISTICAS DE 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QUÍM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1280" y="1916280"/>
          <a:ext cx="7562520" cy="3241080"/>
        </p:xfrm>
        <a:graphic>
          <a:graphicData uri="http://schemas.openxmlformats.org/drawingml/2006/table">
            <a:tbl>
              <a:tblPr/>
              <a:tblGrid>
                <a:gridCol w="3781080"/>
                <a:gridCol w="3781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Com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Porcentaje aproxim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í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óg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ógeno, Azufre, O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908000" y="765000"/>
          <a:ext cx="685656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765000"/>
                    <a:ext cx="685656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13"/>
          <p:cNvGrpSpPr/>
          <p:nvPr/>
        </p:nvGrpSpPr>
        <p:grpSpPr>
          <a:xfrm>
            <a:off x="0" y="785880"/>
            <a:ext cx="1971720" cy="3855960"/>
            <a:chOff x="0" y="785880"/>
            <a:chExt cx="1971720" cy="3855960"/>
          </a:xfrm>
        </p:grpSpPr>
        <p:pic>
          <p:nvPicPr>
            <p:cNvPr id="91" name="Picture 6" descr="550"/>
            <p:cNvPicPr/>
            <p:nvPr/>
          </p:nvPicPr>
          <p:blipFill>
            <a:blip r:embed="rId3"/>
            <a:stretch/>
          </p:blipFill>
          <p:spPr>
            <a:xfrm>
              <a:off x="936360" y="785880"/>
              <a:ext cx="103536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551"/>
            <p:cNvPicPr/>
            <p:nvPr/>
          </p:nvPicPr>
          <p:blipFill>
            <a:blip r:embed="rId4"/>
            <a:stretch/>
          </p:blipFill>
          <p:spPr>
            <a:xfrm>
              <a:off x="73080" y="1119240"/>
              <a:ext cx="722160" cy="15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9" descr="561"/>
            <p:cNvPicPr/>
            <p:nvPr/>
          </p:nvPicPr>
          <p:blipFill>
            <a:blip r:embed="rId5"/>
            <a:stretch/>
          </p:blipFill>
          <p:spPr>
            <a:xfrm>
              <a:off x="0" y="2990880"/>
              <a:ext cx="1035000" cy="165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8 CuadroTexto"/>
          <p:cNvSpPr/>
          <p:nvPr/>
        </p:nvSpPr>
        <p:spPr>
          <a:xfrm>
            <a:off x="7358040" y="26431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(15-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9 CuadroTexto"/>
          <p:cNvSpPr/>
          <p:nvPr/>
        </p:nvSpPr>
        <p:spPr>
          <a:xfrm>
            <a:off x="6715080" y="42148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ulosa (45-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0 CuadroTexto"/>
          <p:cNvSpPr/>
          <p:nvPr/>
        </p:nvSpPr>
        <p:spPr>
          <a:xfrm>
            <a:off x="4643280" y="2357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nina (15-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CuadroTexto"/>
          <p:cNvSpPr/>
          <p:nvPr/>
        </p:nvSpPr>
        <p:spPr>
          <a:xfrm>
            <a:off x="285840" y="53802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 Estructur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aíbles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enoles, terpenos, azúcares y otros), ≤ 5 -1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compuestos inorgánicos o ceniza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carbonatos, silicatos, oxalatos fosfatos) ≤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2 CuadroTexto"/>
          <p:cNvSpPr/>
          <p:nvPr/>
        </p:nvSpPr>
        <p:spPr>
          <a:xfrm>
            <a:off x="2428920" y="785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struc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6"/>
          <a:stretch/>
        </p:blipFill>
        <p:spPr>
          <a:xfrm>
            <a:off x="971640" y="3860640"/>
            <a:ext cx="1295280" cy="100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50004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POSICIÓN  ESTRUCTUR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Rectángulo"/>
          <p:cNvSpPr/>
          <p:nvPr/>
        </p:nvSpPr>
        <p:spPr>
          <a:xfrm>
            <a:off x="500040" y="1285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Celulos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 polímero lineal de anhidro-glucopiranosas, unidas por enlaces β 1- 4, de alto P.M. (10.000), asociados en estructuras supramoleculares (fibrillas), altamente ordenadas y unidas por puentes de hidrógeno formando zonas cristalinas y amorfas.  Forman entre 45-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CuadroTexto"/>
          <p:cNvSpPr/>
          <p:nvPr/>
        </p:nvSpPr>
        <p:spPr>
          <a:xfrm>
            <a:off x="27147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00040" y="4287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3789360"/>
          <a:ext cx="80643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89360"/>
                    <a:ext cx="8064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ulosa forma fibri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457880" cy="329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45626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46836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HEMICELULOS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Rectángulo"/>
          <p:cNvSpPr/>
          <p:nvPr/>
        </p:nvSpPr>
        <p:spPr>
          <a:xfrm>
            <a:off x="500040" y="128592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Hemicelulosas,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án compuestas por otros azúcar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demás de glucosa (xilosa, galactosa, manosa, arabinosa, ramnosa y ácidos urónicos y grupos acetilo principalmente), son de menor  PM  (60 - 200) y ramificadas. Forman entre 15 – 25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5742000" cy="2370240"/>
          </a:xfrm>
          <a:prstGeom prst="rect">
            <a:avLst/>
          </a:prstGeom>
          <a:ln w="0">
            <a:noFill/>
          </a:ln>
        </p:spPr>
      </p:pic>
      <p:sp>
        <p:nvSpPr>
          <p:cNvPr id="112" name="4 CuadroTexto"/>
          <p:cNvSpPr/>
          <p:nvPr/>
        </p:nvSpPr>
        <p:spPr>
          <a:xfrm>
            <a:off x="2714760" y="55720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Hemicel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2 Rectángulo"/>
          <p:cNvSpPr/>
          <p:nvPr/>
        </p:nvSpPr>
        <p:spPr>
          <a:xfrm>
            <a:off x="500040" y="92880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Lignin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rresponde a un polímero fenólico tridimensional, amorfo de muy alto P.M., constituído en proporciones variables por tres unidades básicas fenil-propanoides (Guayacilo, Siringilo y p- Hidroxifenilo). – Forman entre 15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CuadroTexto"/>
          <p:cNvSpPr/>
          <p:nvPr/>
        </p:nvSpPr>
        <p:spPr>
          <a:xfrm>
            <a:off x="4714920" y="4071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g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28760" y="2858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GNIN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95560" y="2492280"/>
          <a:ext cx="343512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492280"/>
                    <a:ext cx="343512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428-E09A-4C85-9073-CFEA30DF4066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 Rectángulo"/>
          <p:cNvSpPr/>
          <p:nvPr/>
        </p:nvSpPr>
        <p:spPr>
          <a:xfrm>
            <a:off x="826920" y="134136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굴림"/>
              </a:rPr>
              <a:t>¿ QUE ES LA BIOMAS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314172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eria orgánica originada en un proceso biológico, espontáneo o provocado, utilizable como fuente de energía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76360" y="1052640"/>
            <a:ext cx="5884920" cy="5564160"/>
            <a:chOff x="1476360" y="1052640"/>
            <a:chExt cx="5884920" cy="5564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76360" y="1052640"/>
              <a:ext cx="5884920" cy="556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32720" y="45086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0360" y="1413000"/>
              <a:ext cx="50292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 biomasa contiene energía: la celulosa como un ejemp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9280" y="2205000"/>
            <a:ext cx="9396360" cy="2670480"/>
            <a:chOff x="179280" y="2205000"/>
            <a:chExt cx="9396360" cy="2670480"/>
          </a:xfrm>
        </p:grpSpPr>
        <p:sp>
          <p:nvSpPr>
            <p:cNvPr id="56" name=""/>
            <p:cNvSpPr/>
            <p:nvPr/>
          </p:nvSpPr>
          <p:spPr>
            <a:xfrm>
              <a:off x="503280" y="2636640"/>
              <a:ext cx="720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                 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63600" y="2938320"/>
              <a:ext cx="6811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7640" y="4365360"/>
              <a:ext cx="640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                       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s-CL" sz="24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s-CL" sz="24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38560" y="4581360"/>
              <a:ext cx="6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199280" y="263664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96000" y="2781000"/>
              <a:ext cx="503280" cy="287640"/>
            </a:xfrm>
            <a:prstGeom prst="rightArrow">
              <a:avLst>
                <a:gd name="adj1" fmla="val 50000"/>
                <a:gd name="adj2" fmla="val 4374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9280" y="4365360"/>
              <a:ext cx="2376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(C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s-CL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s-CL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43640" y="2205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4560" y="3933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lul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1640" y="4508280"/>
              <a:ext cx="718920" cy="217440"/>
            </a:xfrm>
            <a:prstGeom prst="rightArrow">
              <a:avLst>
                <a:gd name="adj1" fmla="val 50000"/>
                <a:gd name="adj2" fmla="val 8265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06920" y="22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35280" y="4005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uc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867280" y="148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merización (en la plan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2133720"/>
            <a:ext cx="360360" cy="71892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30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Despolimerización (en el 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800000">
            <a:off x="1979280" y="4581360"/>
            <a:ext cx="360360" cy="719280"/>
          </a:xfrm>
          <a:prstGeom prst="downArrow">
            <a:avLst>
              <a:gd name="adj1" fmla="val 50000"/>
              <a:gd name="adj2" fmla="val 49900"/>
            </a:avLst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Biom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263-4A3D-4C70-A129-C40ED3F1210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542880" y="1157400"/>
            <a:ext cx="805824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29AB-A03F-4E40-979D-31776CC1E72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850608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CuadroTexto"/>
          <p:cNvSpPr/>
          <p:nvPr/>
        </p:nvSpPr>
        <p:spPr>
          <a:xfrm>
            <a:off x="1428840" y="0"/>
            <a:ext cx="59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MASA SE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 Imagen" descr="biomasa_seca.JPG"/>
          <p:cNvPicPr/>
          <p:nvPr/>
        </p:nvPicPr>
        <p:blipFill>
          <a:blip r:embed="rId1"/>
          <a:stretch/>
        </p:blipFill>
        <p:spPr>
          <a:xfrm>
            <a:off x="0" y="71424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la bioma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97000"/>
            <a:ext cx="6275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gotamiento de combustibles fósiles (petróleo, gas natural, carbón de pied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tosí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reado por combustión es fijado por la biomasa al cre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 emisión neta de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i="1" lang="en-C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es c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urso Reno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292720" y="3068640"/>
            <a:ext cx="3529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Otras ventajas del uso de la Bioma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No emite contaminant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ulfurados o nitrogenados y muy pocas partículas só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Permite el reciclaje y disminución de residu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Canaliza, por tanto, los excedentes agrícolas alimentarios, permitiendo el aprovechamiento de las tierras de reti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Los cultivos energétic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ueden sustituir a cultivos excedentes en el mercado de alimentos. Eso puede ofrecer una nueva oportunidad al sector agríco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 uso estimula la </a:t>
            </a: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económico en el medio r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Disminuye la dependencia exter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el abastecimiento de combusti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20:10:55Z</dcterms:created>
  <dc:creator>Ing Quimica</dc:creator>
  <dc:description/>
  <dc:language>en-US</dc:language>
  <cp:lastModifiedBy>Ing Quimica</cp:lastModifiedBy>
  <dcterms:modified xsi:type="dcterms:W3CDTF">2011-03-14T21:17:59Z</dcterms:modified>
  <cp:revision>32</cp:revision>
  <dc:subject/>
  <dc:title>Energía a partir de Biomasa</dc:title>
</cp:coreProperties>
</file>