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3EF-76A8-4953-8961-BB6D51A9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3F7-A165-459F-9B0D-641CA843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F0D-1381-4D32-9EF0-01A8C443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F31-FD66-43F3-945A-F941157A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3D3-3AF9-416D-96FA-C270B6AE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ED6-836F-4356-94D1-2F2EAA83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AEA-0718-4C3A-9E3E-29868735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65D-ADCE-4008-BCD2-E7A3722E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003-AD71-4BC9-9532-3D0A46C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A5E-A203-485D-9DE0-DA6AD754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832-5E77-4426-8C77-5D7D32E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9627-3C12-4498-ACE1-549287F7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856C-26CB-428D-B1E9-19540463B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9-04-28T15:12:44Z</dcterms:modified>
  <cp:revision>13</cp:revision>
  <dc:subject/>
  <dc:title>Diapositiva 1</dc:title>
</cp:coreProperties>
</file>