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5FC0-142C-4369-8F6E-B81DBCDF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D256-A8D5-4227-B1A5-0F5A4097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C042-D2E9-4B54-8F9F-7456410F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0BCB-36B5-464B-B410-836512A3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F297-61B8-4D97-AE93-6CCDF8A3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748B-BE8F-4223-B4EA-2FD09A93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F2B3-4F8F-4C8D-8EA5-CC145935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DDCF-89A2-4515-8225-790C1E03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CA34-1FE2-4D44-B3B7-957C6CE6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2C5C-1CDA-4422-816D-92E25922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27FE-23E6-4565-A0B4-8BA19393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CD57-3AA9-40C1-B08F-BAD6953D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1877-F1DA-480E-AFA1-2D7EB16CC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I-1101 Introducción a la Ingenierí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entaciones Or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551628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.: Héctor Ag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63400" y="517680"/>
            <a:ext cx="8017200" cy="58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989000"/>
            <a:ext cx="8604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animaciones y trans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s de sonido (pocas vec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557360"/>
            <a:ext cx="8064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gir bien tipo de gráfic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n aportar información claramente,    si requiere demasiada explicación no si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ítulos, escalas deben ser legi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852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gotado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Por qué hacer una buena presen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276640"/>
            <a:ext cx="7488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el trabajo (conciso, objetiv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ar ejemp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log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bjetivo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clus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l Examen de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234936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º Lectura-Corrección de Res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º Presentación (máx. 20 min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º Deliberación de Com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198900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LA PRESENTACIÓN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 apoyo a la 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APUN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TORP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989000"/>
            <a:ext cx="7345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 reforzar palabras (no repeti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ejar conceptos, ideas, imágenes, etc. (más que texto), apoyar a emo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989000"/>
            <a:ext cx="8604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uidado con fondos, dibujos pre-definidos (mejor algo propio y si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No más de 2-3 Col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oco texto, tamaño &gt;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4653000"/>
            <a:ext cx="2810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8:AaBbCc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4:AaBbCc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-27360"/>
            <a:ext cx="8425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: malos 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93800" y="1052640"/>
            <a:ext cx="58579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17600" y="657360"/>
            <a:ext cx="830736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5960" y="503280"/>
            <a:ext cx="791064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3:11:50Z</dcterms:created>
  <dc:creator>Jvargas</dc:creator>
  <dc:description/>
  <dc:language>en-US</dc:language>
  <cp:lastModifiedBy>Uchile</cp:lastModifiedBy>
  <dcterms:modified xsi:type="dcterms:W3CDTF">2009-04-28T15:12:44Z</dcterms:modified>
  <cp:revision>13</cp:revision>
  <dc:subject/>
  <dc:title>Diapositiva 1</dc:title>
</cp:coreProperties>
</file>