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9.png" ContentType="image/png"/>
  <Override PartName="/ppt/media/image8.wmf" ContentType="image/x-wmf"/>
  <Override PartName="/ppt/media/image13.png" ContentType="image/png"/>
  <Override PartName="/ppt/media/image12.png" ContentType="image/png"/>
  <Override PartName="/ppt/media/image19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2513-6275-4964-A9D0-67EFF913C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9634-178A-4D92-A28A-EAF38F1E0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6E2B-9218-4840-B092-57B34A517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8D0D-DBAF-4F2D-B077-AB192F04F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8FE2-2A13-4196-8216-D61BADCC9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6295-7EA7-4CBF-B51A-0EA838DA5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30C4-EC83-4C12-AB9F-30DEEDDFA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8B9A-6AA8-4FAD-9969-B878E9C53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0408-BFA0-4AE3-92B1-421E7042B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1CFC-2C4D-476D-8D1F-9D5961B9C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6DE6-7B1B-4213-A985-DE2EAFA57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4F8C-42BE-4862-A61D-BDFF18F37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E1A1E-CC4B-4A97-9E7A-ECB84117BB3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77300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I1101- Introducción a la Ingeniería 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: 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95280" y="1486080"/>
            <a:ext cx="806436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Raúl Sáez Sáez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(1913-199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Premio Nacional de Ciencias Aplicadas y Tecnológicas 199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42920" y="47628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042920" y="275760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4292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94036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324000" y="2637000"/>
          <a:ext cx="8135280" cy="2617560"/>
        </p:xfrm>
        <a:graphic>
          <a:graphicData uri="http://schemas.openxmlformats.org/drawingml/2006/table">
            <a:tbl>
              <a:tblPr/>
              <a:tblGrid>
                <a:gridCol w="8135280"/>
              </a:tblGrid>
              <a:tr h="2617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         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Ingeniero Civil, Universidad de Chile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Dirigió los trabajos para evitar que el lago </a:t>
                      </a:r>
                      <a:r>
                        <a:rPr b="1" lang="es-E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Riñihue</a:t>
                      </a:r>
                      <a:r>
                        <a:rPr b="0" lang="es-E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inundara con sus aguas la ciudad de Valdivia, a raíz del terremoto de 1960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6" name="" descr="Raúl Sáez"/>
          <p:cNvPicPr/>
          <p:nvPr/>
        </p:nvPicPr>
        <p:blipFill>
          <a:blip r:embed="rId2"/>
          <a:stretch/>
        </p:blipFill>
        <p:spPr>
          <a:xfrm>
            <a:off x="6851520" y="476280"/>
            <a:ext cx="1551240" cy="17892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965280" y="621504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http://www.uchile.c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195640" y="5381640"/>
          <a:ext cx="6480000" cy="639720"/>
        </p:xfrm>
        <a:graphic>
          <a:graphicData uri="http://schemas.openxmlformats.org/drawingml/2006/table">
            <a:tbl>
              <a:tblPr/>
              <a:tblGrid>
                <a:gridCol w="648000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981000" indent="-981000" algn="just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ENTE: Premios Nacionales de Ciencias. Comisión Nacional de Investigación Científica y Tecnológica (CONICY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042920" y="47628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042920" y="275760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4292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94036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08000" y="836640"/>
            <a:ext cx="896472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1204920"/>
            <a:ext cx="9144000" cy="424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042920" y="47628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42920" y="275760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4292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94036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8000" y="-27000"/>
            <a:ext cx="903600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22 de Mayo 1960, Valdiv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Deslizamientos de tierra producen 3 tacos en el desagüe del Riñih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2997360"/>
            <a:ext cx="2016000" cy="1296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042920" y="47628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42920" y="275760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4292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94036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541440"/>
            <a:ext cx="8569080" cy="48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Riñihue sube 40 cms por d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Raúl Sáez S. Gerente de ENDESA</a:t>
            </a:r>
            <a:r>
              <a:rPr b="0" lang="es-ES" sz="28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Eliminar al máximo los afluentes al l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Construir un canal de desagü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Fernando Martínez  Ingeniero de ENDESA, debe definir el trazado, sin tiempo para realizar estudios acab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042920" y="47628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42920" y="275760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4292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94036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-50760" y="1020600"/>
            <a:ext cx="3470400" cy="36324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564000" y="907920"/>
            <a:ext cx="5580000" cy="38926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68360" y="5084640"/>
            <a:ext cx="86756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Luego de 2 meses de trabajo se abre el canal y evacua a 700 m</a:t>
            </a:r>
            <a:r>
              <a:rPr b="0" lang="es-ES" sz="2400" spc="-1" strike="noStrike" baseline="30000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/s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I1101 Introducción a la Ingeni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8200" y="1989000"/>
            <a:ext cx="8066160" cy="39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rabajo en Grupos (5 c/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Desarrollo de temas en cátedra (no obligatoria pero con evaluacion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rabajo en Proyectos en horario de laboratorio (2 horas, asistencia obligatoria, así como a las presentaciones, máx. 2 inasistenci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yec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84360" y="2060640"/>
            <a:ext cx="4535280" cy="28731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4932360" y="5589720"/>
            <a:ext cx="2916360" cy="4586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724360" y="1773360"/>
            <a:ext cx="302436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ceb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señ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plemen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lanteamiento de los Proyec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95280" y="1413000"/>
            <a:ext cx="8424720" cy="48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alu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95280" y="1197000"/>
            <a:ext cx="8532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5000"/>
              </a:lnSpc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NF= 40%NP</a:t>
            </a:r>
            <a:r>
              <a:rPr b="0" lang="es-MX" sz="36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 + 40%NP</a:t>
            </a:r>
            <a:r>
              <a:rPr b="0" lang="es-MX" sz="36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 +  20%N</a:t>
            </a:r>
            <a:r>
              <a:rPr b="0" lang="es-MX" sz="3600" spc="-1" strike="noStrike" baseline="-25000">
                <a:solidFill>
                  <a:srgbClr val="0000ff"/>
                </a:solidFill>
                <a:latin typeface="Times New Roman"/>
              </a:rPr>
              <a:t>Cl</a:t>
            </a:r>
            <a:br>
              <a:rPr sz="3600"/>
            </a:br>
            <a:br>
              <a:rPr sz="3600"/>
            </a:b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NP</a:t>
            </a:r>
            <a:r>
              <a:rPr b="0" lang="es-MX" sz="36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, NP</a:t>
            </a:r>
            <a:r>
              <a:rPr b="0" lang="es-MX" sz="36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: Notas proyectos</a:t>
            </a:r>
            <a:br>
              <a:rPr sz="3600"/>
            </a:b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N</a:t>
            </a:r>
            <a:r>
              <a:rPr b="0" lang="es-MX" sz="3600" spc="-1" strike="noStrike" baseline="-25000">
                <a:solidFill>
                  <a:srgbClr val="0000ff"/>
                </a:solidFill>
                <a:latin typeface="Times New Roman"/>
              </a:rPr>
              <a:t>Cl</a:t>
            </a: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: Nota de Clase </a:t>
            </a:r>
            <a:br>
              <a:rPr sz="3600"/>
            </a:b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        (actividades en horario de cátedra)</a:t>
            </a:r>
            <a:r>
              <a:rPr b="0" lang="es-E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8569080" cy="62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964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¿Qué es la Ingeniería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11280" y="620640"/>
            <a:ext cx="4133880" cy="5029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5867280" y="1125360"/>
            <a:ext cx="2571840" cy="39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176480" y="895320"/>
            <a:ext cx="679104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rmas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900000" y="1773360"/>
          <a:ext cx="7416720" cy="3170160"/>
        </p:xfrm>
        <a:graphic>
          <a:graphicData uri="http://schemas.openxmlformats.org/drawingml/2006/table">
            <a:tbl>
              <a:tblPr/>
              <a:tblGrid>
                <a:gridCol w="7416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RMAS GENERA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 asistencia a taller y presentaciones es </a:t>
                      </a:r>
                      <a:r>
                        <a:rPr b="1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ligatoria</a:t>
                      </a: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y se reprobará el curso con más de 2 inasistencias no justificadas ante la escuel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 cátedra se realizarán  periódicamente actividades evaluadas, con notas cualitativas o cuantitativa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rmas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395280" y="1052640"/>
          <a:ext cx="8424360" cy="4523760"/>
        </p:xfrm>
        <a:graphic>
          <a:graphicData uri="http://schemas.openxmlformats.org/drawingml/2006/table">
            <a:tbl>
              <a:tblPr/>
              <a:tblGrid>
                <a:gridCol w="8424360"/>
              </a:tblGrid>
              <a:tr h="47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RMAS DE TRABAJO EN TALL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ntualidad: La duración del taller es de 2 horas, se pasará lista y los atrasos deben ser justificados. Retirarse antes del fin del taller sin autorización puede significar  una inasistenci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guir indicaciones de Profesor y ayudantes, ante cualquier duda preguntar antes de realizar una activid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bajar en forma de segura, sin generar condiciones de riesgo, respetando las normas específicas dadas. Utilizar elementos de protección personal (EPP): lentes de seguridad, guantes y otros según las herramientas a utilizar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539640" y="333360"/>
          <a:ext cx="8569080" cy="570384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RMAS DE TRABAJO EN TALL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4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tilizar herramientas correctamente, para la función que fueron diseñadas y con la finalidad para la que fueron entregadas (trabajo en los proyecto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bajar en forma responsable. Aprovechar el tiempo en el trabajo grupal en el tall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 prohíbe estrictamente realizar actividades ajenas al trabajo en el proyecto, en el horario de tall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letar análisis de riesgo: Analista debe entregar un análisis de riesgo antes de cada sesión, realizado y firmado por todos los integrantes del grup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do lo que se construya debe ser guardado en el casillero asignad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rmas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324000" y="1539720"/>
          <a:ext cx="8569080" cy="311328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NALIZ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ienes sean sorprendidos infringiendo estas normas, o realizando actividades que atenten contra la seguridad y/o el normal desarrollo del trabajo del grupo, serán multados, cada vez con un descuento en 5 décimas en su nota individual, y su grupo con una décima en la nota del proyecto correspondiente.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303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igen del Térmi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1628640"/>
            <a:ext cx="8532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spcAft>
                <a:spcPts val="27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0000ff"/>
                </a:solidFill>
                <a:latin typeface="Times New Roman"/>
              </a:rPr>
              <a:t>Ingenerare</a:t>
            </a:r>
            <a:r>
              <a:rPr b="1" lang="es-MX" sz="4400" spc="-1" strike="noStrike">
                <a:solidFill>
                  <a:srgbClr val="0000ff"/>
                </a:solidFill>
                <a:latin typeface="Times New Roman"/>
              </a:rPr>
              <a:t>:  Crear (latín)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95280" y="1125360"/>
            <a:ext cx="835344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395280" y="907920"/>
          <a:ext cx="8353440" cy="460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907920"/>
                    <a:ext cx="835344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777744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“… 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es el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rte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 de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provechar 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los recursos de la naturaleza en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beneficio 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del hombre y de la sociedad”</a:t>
            </a:r>
            <a:r>
              <a:rPr b="0" lang="en-US" sz="4000" spc="-1" strike="noStrike" baseline="30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03280" y="5084640"/>
            <a:ext cx="8064720" cy="8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Thomas Tredgold,  fundador de</a:t>
            </a:r>
            <a:br>
              <a:rPr sz="2400"/>
            </a:b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The Institution of Civil Engineers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, Inglaterra 1828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11280" y="2060640"/>
            <a:ext cx="82818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rte (no ciencia ni técnica).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provechar recursos naturales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Beneficiar al ser humano (ética)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Beneficiar a la sociedad (Rol Socia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042920" y="836640"/>
            <a:ext cx="77058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Utiliza ciencia y técnica.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ctualmente: trabajo en equip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0920" y="260280"/>
            <a:ext cx="8281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¿Cóm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708360" y="3832200"/>
            <a:ext cx="5256360" cy="26211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2529000" y="4336920"/>
            <a:ext cx="4275000" cy="1089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08000" y="2708280"/>
            <a:ext cx="77058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j. Teorema de Pitágor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50920" y="549360"/>
            <a:ext cx="8281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abajo en proyec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476440" y="1884240"/>
            <a:ext cx="666756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9-03-09T01:37:54Z</dcterms:modified>
  <cp:revision>29</cp:revision>
  <dc:subject/>
  <dc:title>EL63A-Taller de Proyecto en Control II</dc:title>
</cp:coreProperties>
</file>