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12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6305-9EAB-4ED3-B54A-388024179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7CF0-82C1-4F55-97CD-A6CE6F50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B709-02A2-4A4C-9E43-9B21E9517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4260-19D4-4F60-88EE-1967053B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DF92-E359-41CA-89C0-89A25650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10F2-5EE6-4B0E-B728-756CABEA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6E29-4A61-4BBE-A754-3E75E9AB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B278-0699-40F2-B419-3782EC96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1443-2E94-4A1E-900E-3D7BB540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D930-8456-4B32-A5AC-15DCCC8D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00A3-E293-41D4-AFD5-8DF1166D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1F48-E1A9-4AD7-8E79-8C68D1EE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B307-445E-4A2C-AE03-FF524D0B342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1486080"/>
            <a:ext cx="8064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aúl Sáez Sáez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1913-19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Premio Nacional de Ciencias Aplicadas y Tecnológicas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24000" y="2637000"/>
          <a:ext cx="8135280" cy="2617560"/>
        </p:xfrm>
        <a:graphic>
          <a:graphicData uri="http://schemas.openxmlformats.org/drawingml/2006/table">
            <a:tbl>
              <a:tblPr/>
              <a:tblGrid>
                <a:gridCol w="8135280"/>
              </a:tblGrid>
              <a:tr h="261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Ingeniero Civil, Universidad de Chile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irigió los trabajos para evitar que el lago </a:t>
                      </a:r>
                      <a:r>
                        <a:rPr b="1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Riñihue</a:t>
                      </a: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inundara con sus aguas la ciudad de Valdivia, a raíz del terremoto de 196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Raúl Sáez"/>
          <p:cNvPicPr/>
          <p:nvPr/>
        </p:nvPicPr>
        <p:blipFill>
          <a:blip r:embed="rId2"/>
          <a:stretch/>
        </p:blipFill>
        <p:spPr>
          <a:xfrm>
            <a:off x="6851520" y="476280"/>
            <a:ext cx="1551240" cy="1789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965280" y="621504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ttp://www.uchile.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195640" y="5381640"/>
          <a:ext cx="6480000" cy="639720"/>
        </p:xfrm>
        <a:graphic>
          <a:graphicData uri="http://schemas.openxmlformats.org/drawingml/2006/table">
            <a:tbl>
              <a:tblPr/>
              <a:tblGrid>
                <a:gridCol w="64800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981000" indent="-981000" algn="just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ENTE: Premios Nacionales de Ciencias. Comisión Nacional de Investigación Científica y Tecnológica (CONICY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08000" y="836640"/>
            <a:ext cx="89647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1204920"/>
            <a:ext cx="9144000" cy="424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-27000"/>
            <a:ext cx="90360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22 de Mayo 1960, Valdiv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Deslizamientos de tierra producen 3 tacos en el desagüe del Riñih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2997360"/>
            <a:ext cx="2016000" cy="1296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541440"/>
            <a:ext cx="8569080" cy="48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iñihue sube 40 cms por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Raúl Sáez S. Gerente de ENDESA</a:t>
            </a:r>
            <a:r>
              <a:rPr b="0" lang="es-ES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Eliminar al máximo los afluentes al l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Construir un canal de desagü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Fernando Martínez  Ingeniero de ENDESA, debe definir el trazado, sin tiempo para realizar estudios acab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50760" y="1020600"/>
            <a:ext cx="3470400" cy="3632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564000" y="907920"/>
            <a:ext cx="5580000" cy="3892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5084640"/>
            <a:ext cx="867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Luego de 2 meses de trabajo se abre el canal y evacua a 700 m</a:t>
            </a:r>
            <a:r>
              <a:rPr b="0" lang="es-ES" sz="2400" spc="-1" strike="noStrike" baseline="30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/s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I1101 Introducción a la Ingeni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8200" y="1989000"/>
            <a:ext cx="8066160" cy="39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bajo en Grupos (5 c/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sarrollo de temas en cátedra (no obligatoria pero con evalu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bajo en Proyectos en horario de laboratorio (2 horas, asistencia obligatoria, así como a las presentaciones, máx. 2 inasistenc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932360" y="5589720"/>
            <a:ext cx="2916360" cy="458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724360" y="1773360"/>
            <a:ext cx="302436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Planteamiento de los 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842472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119700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F= 4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4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 20%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br>
              <a:rPr sz="3600"/>
            </a:b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, 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s proyectos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 de Clase 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       (actividades en horario de cátedra)</a:t>
            </a:r>
            <a:r>
              <a:rPr b="0" lang="es-E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56908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Qué es la Ingenierí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4133880" cy="5029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867280" y="1125360"/>
            <a:ext cx="257184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176480" y="895320"/>
            <a:ext cx="67910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00000" y="1773360"/>
          <a:ext cx="7416720" cy="317016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GEN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sistencia a taller y presentaciones es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ia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 se reprobará el curso con más de 2 inasistencias no justificadas ante la escue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átedra se realizarán  periódicamente actividades evaluadas, con notas cualitativas o cuantitativ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1052640"/>
          <a:ext cx="8424360" cy="4523760"/>
        </p:xfrm>
        <a:graphic>
          <a:graphicData uri="http://schemas.openxmlformats.org/drawingml/2006/table">
            <a:tbl>
              <a:tblPr/>
              <a:tblGrid>
                <a:gridCol w="8424360"/>
              </a:tblGrid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lidad: La duración del taller es de 2 horas, se pasará lista y los atrasos deben ser justificados. Retirarse antes del fin del taller sin autorización puede significar  una inasistenci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 y ayudantes, ante cualquier duda preguntar antes de realizar una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de segura, sin generar condiciones de riesgo, respetando las normas específicas dadas. Utilizar elementos de protección personal (EPP): lentes de seguridad, guantes y otros según las herramientas a utiliz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539640" y="333360"/>
          <a:ext cx="8569080" cy="57038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herramientas correctamente, para la función que fueron diseñadas y con la finalidad para la que fueron entregadas (trabajo en los proyec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. Aprovechar el tiempo en el trabajo grupal en 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prohíbe estrictamente realizar actividades ajenas al trabajo en el proyecto, en el horario de ta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ar análisis de riesgo: Analista debe entregar un análisis de riesgo antes de cada sesión, realizado y firmado por todos los integrantes del 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o lo que se construya debe ser guardado en el casillero asign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24000" y="1539720"/>
          <a:ext cx="8569080" cy="3113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enes sean sorprendidos infringiendo estas normas, o realizando actividades que atenten contra la seguridad y/o el normal desarrollo del trabajo del grupo, serán multados, cada vez con un descuento en 5 décimas en su nota individual, y su grupo con una décima en la nota del proyecto correspondiente.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303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igen del Térm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62864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ff"/>
                </a:solidFill>
                <a:latin typeface="Times New Roman"/>
              </a:rPr>
              <a:t>Ingenerare</a:t>
            </a:r>
            <a:r>
              <a:rPr b="1" lang="es-MX" sz="4400" spc="-1" strike="noStrike">
                <a:solidFill>
                  <a:srgbClr val="0000ff"/>
                </a:solidFill>
                <a:latin typeface="Times New Roman"/>
              </a:rPr>
              <a:t>:  Crear (latín)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95280" y="907920"/>
          <a:ext cx="8353440" cy="46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907920"/>
                    <a:ext cx="8353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7777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“…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es el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 de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los recursos de la naturaleza en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o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del hombre y de la sociedad”</a:t>
            </a:r>
            <a:r>
              <a:rPr b="0" lang="en-US" sz="4000" spc="-1" strike="noStrike" baseline="30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5084640"/>
            <a:ext cx="80647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Thomas Tredgold,  fundador de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The Institution of Civil Engineer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, Inglaterra 1828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206064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 (no ciencia ni técnica).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recursos naturales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l ser humano (ética)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 la sociedad (Rol Soci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42920" y="836640"/>
            <a:ext cx="77058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Utiliza ciencia y técnica.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ctualmente: trabajo en equi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60280"/>
            <a:ext cx="8281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Cóm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708360" y="3832200"/>
            <a:ext cx="5256360" cy="2621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529000" y="4336920"/>
            <a:ext cx="4275000" cy="108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8000" y="2708280"/>
            <a:ext cx="7705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j. Teorema de Pitágo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549360"/>
            <a:ext cx="8281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bajo en 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476440" y="188424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9-03-09T01:37:54Z</dcterms:modified>
  <cp:revision>29</cp:revision>
  <dc:subject/>
  <dc:title>EL63A-Taller de Proyecto en Control II</dc:title>
</cp:coreProperties>
</file>