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50ED-3F61-410A-9082-FC3651C41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35F4-E6A4-47A4-9613-D3A04BED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48E4-915A-4BF5-82A6-9093E32AE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9B85-A2EC-4FD7-83C9-B37649267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5D6E-7D7B-4AD1-BC0B-364B6EFC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0C79-6E83-4C6D-A7F9-A96E1587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4F6B-4461-4A8A-8A00-81D88D86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A260-529A-488B-8735-9491C5EA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07CD-0BF5-47C7-8BF0-20A2D9DD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8020-A76F-4350-BEC0-DDB0CFB4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AEA2-6029-4F88-A8E2-4FC7E48D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D8FF-529A-4D9A-BD98-4CEF38EC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E4A7-79AC-40FE-B8FF-E4E3AC01892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3 CuadroTexto"/>
          <p:cNvSpPr/>
          <p:nvPr/>
        </p:nvSpPr>
        <p:spPr>
          <a:xfrm>
            <a:off x="594720" y="1643040"/>
            <a:ext cx="521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Doble Rol de Ingenier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4 CuadroTexto"/>
          <p:cNvSpPr/>
          <p:nvPr/>
        </p:nvSpPr>
        <p:spPr>
          <a:xfrm>
            <a:off x="1285920" y="2643120"/>
            <a:ext cx="7429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omo trabajador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iegos, uso de E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Ingeniero (propiamente tal)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signar labores, capacitar,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Vid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708120" y="466560"/>
            <a:ext cx="7726320" cy="59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260280" y="752400"/>
            <a:ext cx="862164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2803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09520" y="790560"/>
            <a:ext cx="872352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57120" y="714240"/>
          <a:ext cx="8429760" cy="5691240"/>
        </p:xfrm>
        <a:graphic>
          <a:graphicData uri="http://schemas.openxmlformats.org/drawingml/2006/table">
            <a:tbl>
              <a:tblPr/>
              <a:tblGrid>
                <a:gridCol w="500040"/>
                <a:gridCol w="2746440"/>
                <a:gridCol w="2654280"/>
                <a:gridCol w="2529000"/>
              </a:tblGrid>
              <a:tr h="305280">
                <a:tc gridSpan="4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IFIC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lase de Cáted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l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s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200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sentación del Curso, 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teamiento del Proyecto 1, Dise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vestigación personal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5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guridad Indust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rmación de Grupos: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luvia de Ideas, Bosquej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finición Roles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Entregar lista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nidades de Med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delo en Cartón Pl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 informe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trument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fección de planos</a:t>
                      </a: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e Revisión infor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forme (UCursos) Listados de Materiales, piezas y partes, Planos, cubicación , manual construc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fcf2a988ba1d2541e1af16c336a_740"/>
          <p:cNvPicPr/>
          <p:nvPr/>
        </p:nvPicPr>
        <p:blipFill>
          <a:blip r:embed="rId1"/>
          <a:stretch/>
        </p:blipFill>
        <p:spPr>
          <a:xfrm>
            <a:off x="684360" y="620640"/>
            <a:ext cx="7775280" cy="58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~Oh_dear~9"/>
          <p:cNvPicPr/>
          <p:nvPr/>
        </p:nvPicPr>
        <p:blipFill>
          <a:blip r:embed="rId1"/>
          <a:stretch/>
        </p:blipFill>
        <p:spPr>
          <a:xfrm>
            <a:off x="826920" y="692280"/>
            <a:ext cx="6409080" cy="47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~Oh_dear2_"/>
          <p:cNvPicPr/>
          <p:nvPr/>
        </p:nvPicPr>
        <p:blipFill>
          <a:blip r:embed="rId1"/>
          <a:stretch/>
        </p:blipFill>
        <p:spPr>
          <a:xfrm>
            <a:off x="1042920" y="620640"/>
            <a:ext cx="669780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~safety_first~14"/>
          <p:cNvPicPr/>
          <p:nvPr/>
        </p:nvPicPr>
        <p:blipFill>
          <a:blip r:embed="rId1"/>
          <a:stretch/>
        </p:blipFill>
        <p:spPr>
          <a:xfrm>
            <a:off x="900000" y="620640"/>
            <a:ext cx="676764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3222b8dd1d736c82020c65151389_612"/>
          <p:cNvPicPr/>
          <p:nvPr/>
        </p:nvPicPr>
        <p:blipFill>
          <a:blip r:embed="rId1"/>
          <a:stretch/>
        </p:blipFill>
        <p:spPr>
          <a:xfrm>
            <a:off x="1657440" y="-100080"/>
            <a:ext cx="5172120" cy="692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459263e6f799c9b170c552985459_740"/>
          <p:cNvPicPr/>
          <p:nvPr/>
        </p:nvPicPr>
        <p:blipFill>
          <a:blip r:embed="rId1"/>
          <a:stretch/>
        </p:blipFill>
        <p:spPr>
          <a:xfrm>
            <a:off x="1047600" y="33480"/>
            <a:ext cx="6980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File_2008124164757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3 CuadroTexto"/>
          <p:cNvSpPr/>
          <p:nvPr/>
        </p:nvSpPr>
        <p:spPr>
          <a:xfrm>
            <a:off x="585360" y="1643040"/>
            <a:ext cx="282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Implicancia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4 CuadroTexto"/>
          <p:cNvSpPr/>
          <p:nvPr/>
        </p:nvSpPr>
        <p:spPr>
          <a:xfrm>
            <a:off x="1500120" y="2428920"/>
            <a:ext cx="76438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écnicas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cedimientos, investigación acc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Legales (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y 16744, seguro social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vención repa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conómicas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érd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Éticas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guridad y Vida de perso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Hector Agusto</cp:lastModifiedBy>
  <dcterms:modified xsi:type="dcterms:W3CDTF">2010-08-16T21:38:26Z</dcterms:modified>
  <cp:revision>37</cp:revision>
  <dc:subject/>
  <dc:title>EL63A-Taller de Proyecto en Control II</dc:title>
</cp:coreProperties>
</file>