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562-D4E5-4C26-8670-C40C5FC8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C44-A921-49A5-B1D9-97E33D0E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7D2-F8E7-4245-851C-84D52DBB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2C2-0ED5-4D8D-8077-62B2175D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F81-A3E8-4CA4-A5F2-9322D07F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57B-A2A3-43A1-A3E1-DF9A2632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417-0B8B-4E44-B102-F5E6595F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728-7075-489A-B25B-C1D3A61F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5F7-4751-4954-87FB-5111D1C2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D26-A85A-4D00-B7F7-44F3059D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3A8-A9BE-4DFD-883D-DED45C5E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656-DB8D-45D5-8959-003425E3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8BFE-6AC1-41D2-894F-DF15E10F5F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1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1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1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1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16T21:38:26Z</dcterms:modified>
  <cp:revision>37</cp:revision>
  <dc:subject/>
  <dc:title>EL63A-Taller de Proyecto en Control II</dc:title>
</cp:coreProperties>
</file>