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504-E43E-4705-8C2F-795EDD60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B45-CBA3-4B4A-BF2D-6B1B7F32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D788-00F7-48BD-A1CA-590E1C12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55D-DED8-47D2-BE54-429F8922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882-D909-404C-AA0E-3C45C270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3B4-7810-4450-8253-1D623784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4A63-48D1-4B5A-9661-CF16F915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75B-BC82-44EE-B535-E76DFC1C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018-1712-4604-A0D2-606447D9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040-7288-43E4-91DB-01DEC7BB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CA8-5E14-4A63-837E-D5AB0221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8EA-6D10-43DC-A85F-42E7BDA1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1244-BB3C-4DFA-823C-8F2F472D7AA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CuadroTexto"/>
          <p:cNvSpPr/>
          <p:nvPr/>
        </p:nvSpPr>
        <p:spPr>
          <a:xfrm>
            <a:off x="594720" y="1643040"/>
            <a:ext cx="52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oble Rol de Ingenier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CuadroTexto"/>
          <p:cNvSpPr/>
          <p:nvPr/>
        </p:nvSpPr>
        <p:spPr>
          <a:xfrm>
            <a:off x="1285920" y="2643120"/>
            <a:ext cx="742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mo trabajador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iegos, uso de E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geniero (propiamente tal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ignar labores, capacitar,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708120" y="466560"/>
            <a:ext cx="772632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60280" y="752400"/>
            <a:ext cx="86216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09520" y="790560"/>
            <a:ext cx="872352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fcf2a988ba1d2541e1af16c336a_740"/>
          <p:cNvPicPr/>
          <p:nvPr/>
        </p:nvPicPr>
        <p:blipFill>
          <a:blip r:embed="rId1"/>
          <a:stretch/>
        </p:blipFill>
        <p:spPr>
          <a:xfrm>
            <a:off x="684360" y="620640"/>
            <a:ext cx="777528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~Oh_dear~9"/>
          <p:cNvPicPr/>
          <p:nvPr/>
        </p:nvPicPr>
        <p:blipFill>
          <a:blip r:embed="rId1"/>
          <a:stretch/>
        </p:blipFill>
        <p:spPr>
          <a:xfrm>
            <a:off x="826920" y="692280"/>
            <a:ext cx="64090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~Oh_dear2_"/>
          <p:cNvPicPr/>
          <p:nvPr/>
        </p:nvPicPr>
        <p:blipFill>
          <a:blip r:embed="rId1"/>
          <a:stretch/>
        </p:blipFill>
        <p:spPr>
          <a:xfrm>
            <a:off x="1042920" y="620640"/>
            <a:ext cx="669780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~safety_first~14"/>
          <p:cNvPicPr/>
          <p:nvPr/>
        </p:nvPicPr>
        <p:blipFill>
          <a:blip r:embed="rId1"/>
          <a:stretch/>
        </p:blipFill>
        <p:spPr>
          <a:xfrm>
            <a:off x="900000" y="620640"/>
            <a:ext cx="676764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3222b8dd1d736c82020c65151389_612"/>
          <p:cNvPicPr/>
          <p:nvPr/>
        </p:nvPicPr>
        <p:blipFill>
          <a:blip r:embed="rId1"/>
          <a:stretch/>
        </p:blipFill>
        <p:spPr>
          <a:xfrm>
            <a:off x="1657440" y="-100080"/>
            <a:ext cx="5172120" cy="69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459263e6f799c9b170c552985459_740"/>
          <p:cNvPicPr/>
          <p:nvPr/>
        </p:nvPicPr>
        <p:blipFill>
          <a:blip r:embed="rId1"/>
          <a:stretch/>
        </p:blipFill>
        <p:spPr>
          <a:xfrm>
            <a:off x="1047600" y="33480"/>
            <a:ext cx="698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ile_2008124164757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3 CuadroTexto"/>
          <p:cNvSpPr/>
          <p:nvPr/>
        </p:nvSpPr>
        <p:spPr>
          <a:xfrm>
            <a:off x="585360" y="1643040"/>
            <a:ext cx="282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mplicanci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1500120" y="2428920"/>
            <a:ext cx="7643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cedimientos, investigación acc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egales (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y 16744, seguro soci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vención 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conóm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Éticas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ridad y Vida de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ector Agusto</cp:lastModifiedBy>
  <dcterms:modified xsi:type="dcterms:W3CDTF">2010-08-16T21:38:26Z</dcterms:modified>
  <cp:revision>37</cp:revision>
  <dc:subject/>
  <dc:title>EL63A-Taller de Proyecto en Control II</dc:title>
</cp:coreProperties>
</file>