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7C60-F94E-42D4-9E61-402F15FAB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F82C-9CC7-406F-9C0B-FEA75EF9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F562-CE6F-4393-B91A-B947CD7DA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023A-387E-44C3-BEA8-57AE11F8E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B8E3-7AEE-4998-80B5-3AE2CE4E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3A77-4CF8-4F58-B55D-2C368835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A3C6-D174-4496-AB71-EA4CFB35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B229-4DC6-4BCF-826E-E27EC3CB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C181-F289-4443-890F-323EC37B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2E72-5930-4F29-BA27-A7940B34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2F9D-B59B-4FA1-AA67-70D8156F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ABF2-F816-4906-AB28-1BD75D38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81B3-164F-4EC5-8E2D-38011E1A5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4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75326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21:28:28Z</dcterms:created>
  <dc:creator>sebastian.barrios</dc:creator>
  <dc:description/>
  <dc:language>en-US</dc:language>
  <cp:lastModifiedBy>sebastian.barrios</cp:lastModifiedBy>
  <dcterms:modified xsi:type="dcterms:W3CDTF">2011-04-13T21:28:47Z</dcterms:modified>
  <cp:revision>1</cp:revision>
  <dc:subject/>
  <dc:title>Diapositiva 1</dc:title>
</cp:coreProperties>
</file>