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32E-E4D7-4CA9-B821-0AA346B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BC-7AED-4F84-9115-BD34B978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40F-882B-498F-9F3B-F0A3D0A4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FB7-D38C-4F26-BDE6-3537F6FB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D41-4545-45F2-B0C2-236B9233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AF7-75A0-4554-9549-929A1BE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213-76D1-44FE-8FCB-A2001DE9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AE5-1CEF-448F-990B-2E4B9AE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5CA-E543-4897-9886-B84A351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D38-2B10-4D46-AC28-8FE6C5A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558-0520-43EB-9E39-4ACF909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39D-255B-4DE1-AEC6-9BDBC3D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0F59-F850-4C72-994E-80F878BF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532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1:28:28Z</dcterms:created>
  <dc:creator>sebastian.barrios</dc:creator>
  <dc:description/>
  <dc:language>en-US</dc:language>
  <cp:lastModifiedBy>sebastian.barrios</cp:lastModifiedBy>
  <dcterms:modified xsi:type="dcterms:W3CDTF">2011-04-13T21:28:47Z</dcterms:modified>
  <cp:revision>1</cp:revision>
  <dc:subject/>
  <dc:title>Diapositiva 1</dc:title>
</cp:coreProperties>
</file>