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6CA-3290-415D-8DFD-819B91F8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E93-70D9-4672-8AA9-EF22551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129-0773-4A9E-B9AE-4850348E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675-1B48-4928-A0DC-89205259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7A5-BB01-4D67-BB23-CC60E1CB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191-1AC0-4017-8FC2-49858BF0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B38-7F7F-4124-9496-CAFB7A00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2CB-D89A-42A7-A50B-77FED0D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CB3-A66C-47E1-84B5-7A90A03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E85-5B08-4F5D-995B-6285969D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E51-E674-4B8F-B625-81BE8C1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A9B-56D6-488B-AD5F-A9B8297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441-ED0B-4F14-BE37-345CCC89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532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1:28:28Z</dcterms:created>
  <dc:creator>sebastian.barrios</dc:creator>
  <dc:description/>
  <dc:language>en-US</dc:language>
  <cp:lastModifiedBy>sebastian.barrios</cp:lastModifiedBy>
  <dcterms:modified xsi:type="dcterms:W3CDTF">2011-04-13T21:28:47Z</dcterms:modified>
  <cp:revision>1</cp:revision>
  <dc:subject/>
  <dc:title>Diapositiva 1</dc:title>
</cp:coreProperties>
</file>