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63F-57AB-489F-87F2-6C0B23FF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949-5E80-4C99-9B4F-F52DAF5B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A5B-098E-47DB-A185-7E3F895D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EB3-508A-4302-8431-9F960D1A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AC2-947A-4153-A204-3B188842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F49-B5F1-4A3D-AAAD-6E7D0ECD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E1A-0BDF-45C0-8072-7BD7AB65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66C-2EA1-4DA4-AC32-2325A956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AD4-436D-4FBB-84A2-CB8D96EB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2B4-A077-451F-A5B7-B3E53D80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36A-343F-4F5E-8156-7D4C6AE2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179-D45C-40D3-AD25-FF9B2A0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782D-B9A4-4AA2-86C5-6FE6823A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9-04-28T15:12:44Z</dcterms:modified>
  <cp:revision>13</cp:revision>
  <dc:subject/>
  <dc:title>Diapositiva 1</dc:title>
</cp:coreProperties>
</file>