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5C30-976B-472B-8DF6-F3BCB5EC2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5A37-0B2B-46F2-B13A-1F82BA38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6572-4DF9-4F61-93C1-C0C363A39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3D25-4B7D-4760-8FFE-B14C62CE1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F507-AC83-479F-A58F-D5C1A286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B00D-2855-40BD-A4CD-4CE72EBF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68E7-E5B9-44FC-835F-D6FDD86A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044C-86A0-470A-B21A-5BD63785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BC6A-61F5-4093-9E5C-28B0914D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41C5-693F-4AB3-A876-F1BD08E2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7414-DCCA-4A24-8C11-F4F9161B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5A61-54DE-4BE6-8AF7-63C91336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AC77-E65D-4379-81D3-C43DFD418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I-1101 Introducción a la Ingeniería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esentaciones Ora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551628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.: Héctor Agu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63400" y="517680"/>
            <a:ext cx="8017200" cy="58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1989000"/>
            <a:ext cx="86043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jo con animaciones y transi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ectos de sonido (pocas vec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jo con contraste y colores de fo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557360"/>
            <a:ext cx="80647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legir bien tipo de gráfic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ben aportar información claramente,    si requiere demasiada explicación no si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ítulos, escalas deben ser legi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jo con contraste y colores de fo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Int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468360" y="1968480"/>
            <a:ext cx="831852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201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Desarro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39640" y="1703520"/>
            <a:ext cx="8280360" cy="44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5977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Cier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5280" y="2157480"/>
            <a:ext cx="82519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11280" y="1413000"/>
          <a:ext cx="7777080" cy="4573440"/>
        </p:xfrm>
        <a:graphic>
          <a:graphicData uri="http://schemas.openxmlformats.org/drawingml/2006/table">
            <a:tbl>
              <a:tblPr/>
              <a:tblGrid>
                <a:gridCol w="1584360"/>
                <a:gridCol w="619272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1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 Las ideas expresadas son claras y coherent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 El lenguaje utilizado es rico  en vocabulari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9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 Existió organización, síntesis y jerarquización de ide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2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 Las ideas expresadas demostraron un manejo conceptu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3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 La exposición del tema incorporó las siguientes fases: introducción, desarrollo del tema y cierre. (Introducción 10%, desarrollo 65% y cierre 25%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81000" y="2708280"/>
            <a:ext cx="45864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998280" y="1988640"/>
            <a:ext cx="5461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11280" y="1197000"/>
          <a:ext cx="8064360" cy="5214960"/>
        </p:xfrm>
        <a:graphic>
          <a:graphicData uri="http://schemas.openxmlformats.org/drawingml/2006/table">
            <a:tbl>
              <a:tblPr/>
              <a:tblGrid>
                <a:gridCol w="1728720"/>
                <a:gridCol w="63356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04040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 El apoyo audiovisual es claro y permite la compresión de lo que se expon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 El recurso Power-point, utiliza el tamaño de letra adecuado (28-44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 El recurso Power-point, no se encuentra agotado de tex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8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 El expositor hizo Variación en la vo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. El expositor realizó gestos y movimientos corporales para dar énfasis a las ideas expuest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. El expositor tuvo contacto visual con los oyent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 rot="10800000">
            <a:off x="998280" y="1844640"/>
            <a:ext cx="5461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NO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Por qué hacer una buena presentació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276640"/>
            <a:ext cx="7488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ar el trabajo (conciso, objetiv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ar ejemp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ar logr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bjetivo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nclusion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l Examen de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2349360"/>
            <a:ext cx="6769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º Lectura-Corrección de Resu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º Presentación (máx. 20 min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º Deliberación de Comis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16000" y="1989000"/>
            <a:ext cx="6769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LA PRESENTACIÓN 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 apoyo a la pres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APUN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TORP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989000"/>
            <a:ext cx="734544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be reforzar palabras (no repeti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nejar conceptos, ideas, imágenes, etc. (más que texto), apoyar a emo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989000"/>
            <a:ext cx="86043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uidado con fondos, dibujos pre-definidos (mejor algo propio y simp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No más de 2-3 Col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Poco texto, tamaño &gt; 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84720" y="4653000"/>
            <a:ext cx="28101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8:AaBbCc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4:AaBbCc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280" y="-27360"/>
            <a:ext cx="8425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: malos 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93800" y="1052640"/>
            <a:ext cx="585792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17600" y="657360"/>
            <a:ext cx="830736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15960" y="503280"/>
            <a:ext cx="7910640" cy="58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3:11:50Z</dcterms:created>
  <dc:creator>Jvargas</dc:creator>
  <dc:description/>
  <dc:language>en-US</dc:language>
  <cp:lastModifiedBy>Uchile</cp:lastModifiedBy>
  <dcterms:modified xsi:type="dcterms:W3CDTF">2009-04-28T15:12:44Z</dcterms:modified>
  <cp:revision>13</cp:revision>
  <dc:subject/>
  <dc:title>Diapositiva 1</dc:title>
</cp:coreProperties>
</file>