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B344-6287-47F1-BFC6-10A6F9B09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4CB5-4479-4040-88B4-93383FD7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2DF8-F0DA-4E46-8108-CCE724FEE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3C9B-A447-47ED-A55E-F0F405AE3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B18B-CB6B-48B7-AAD9-216EF728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2414-A187-48DC-8B49-29DB3F0C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60D9-6D8E-4BD2-BA85-C543C0AD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9155-86D8-4A00-850D-B532AD6F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0538-FCDC-48E2-A5E5-93A05E4C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804A-B28B-4D02-BA04-EB3B1F9F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9D72-FC6A-4260-B19F-2F19083B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FB26-CD28-490E-B902-1F1A57E5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8FAB-D7D7-436C-BE49-0CE252512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I-1101 Introducción a la Ingeniería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sentaciones Ora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551628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.: Héctor Agu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63400" y="517680"/>
            <a:ext cx="8017200" cy="58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989000"/>
            <a:ext cx="8604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animaciones y transi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ectos de sonido (pocas vec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contraste y colores de fo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557360"/>
            <a:ext cx="80647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legir bien tipo de gráfic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ben aportar información claramente,    si requiere demasiada explicación no si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ítulos, escalas deben ser legi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jo con contraste y colores de fo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468360" y="1968480"/>
            <a:ext cx="831852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Desarr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9640" y="1703520"/>
            <a:ext cx="8280360" cy="44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5977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Cier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5280" y="2157480"/>
            <a:ext cx="82519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11280" y="1413000"/>
          <a:ext cx="7777080" cy="4573440"/>
        </p:xfrm>
        <a:graphic>
          <a:graphicData uri="http://schemas.openxmlformats.org/drawingml/2006/table">
            <a:tbl>
              <a:tblPr/>
              <a:tblGrid>
                <a:gridCol w="1584360"/>
                <a:gridCol w="61927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1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 Las ideas expresadas son claras y coher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 El lenguaje utilizado es rico  en vocabular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9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 Existió organización, síntesis y jerarquización de id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2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 Las ideas expresadas demostraron un manejo conceptu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3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 La exposición del tema incorporó las siguientes fases: introducción, desarrollo del tema y cierre. (Introducción 10%, desarrollo 65% y cierre 25%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81000" y="2708280"/>
            <a:ext cx="4586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998280" y="1988640"/>
            <a:ext cx="5461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11280" y="1197000"/>
          <a:ext cx="8064360" cy="5214960"/>
        </p:xfrm>
        <a:graphic>
          <a:graphicData uri="http://schemas.openxmlformats.org/drawingml/2006/table">
            <a:tbl>
              <a:tblPr/>
              <a:tblGrid>
                <a:gridCol w="1728720"/>
                <a:gridCol w="63356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04040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 El apoyo audiovisual es claro y permite la compresión de lo que se expon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 El recurso Power-point, utiliza el tamaño de letra adecuado (28-44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 El recurso Power-point, no se encuentra agotado de tex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8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 El expositor hizo Variación en la vo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. El expositor realizó gestos y movimientos corporales para dar énfasis a las ideas expuest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. El expositor tuvo contacto visual con los oyent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 rot="10800000">
            <a:off x="998280" y="1844640"/>
            <a:ext cx="5461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NO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Por qué hacer una buena presentaci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276640"/>
            <a:ext cx="7488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r el trabajo (conciso, objetiv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ar ejemp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sentar logr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Objetivos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onclusion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l Examen de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2349360"/>
            <a:ext cx="6769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º Lectura-Corrección de Resu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º Presentación (máx. 20 min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º Deliberación de Comi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16000" y="1989000"/>
            <a:ext cx="6769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LA PRESENTACIÓN 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 apoyo a la presen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APUN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ES TORP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989000"/>
            <a:ext cx="734544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be reforzar palabras (no repeti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ejar conceptos, ideas, imágenes, etc. (más que texto), apoyar a emo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265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989000"/>
            <a:ext cx="8604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uidado con fondos, dibujos pre-definidos (mejor algo propio y simp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No más de 2-3 Col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Poco texto, tamaño &gt; 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84720" y="4653000"/>
            <a:ext cx="28101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8:AaBbCc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4:AaBbCc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-27360"/>
            <a:ext cx="8425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Point: malos 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93800" y="1052640"/>
            <a:ext cx="58579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17600" y="657360"/>
            <a:ext cx="830736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15960" y="503280"/>
            <a:ext cx="7910640" cy="58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3:11:50Z</dcterms:created>
  <dc:creator>Jvargas</dc:creator>
  <dc:description/>
  <dc:language>en-US</dc:language>
  <cp:lastModifiedBy>Uchile</cp:lastModifiedBy>
  <dcterms:modified xsi:type="dcterms:W3CDTF">2009-04-28T15:12:44Z</dcterms:modified>
  <cp:revision>13</cp:revision>
  <dc:subject/>
  <dc:title>Diapositiva 1</dc:title>
</cp:coreProperties>
</file>