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AE7-E6CA-4BD2-9397-531AE598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4D8-6639-4A63-8046-C26DCB0E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06F-88A4-4C63-A920-F8716598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C81-E636-4886-9B78-915D40E8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829-8D27-420B-A9B9-D448D2D6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4EF-38DA-4983-BEAC-654F8930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E56-6A82-4E44-93AC-C48EE06C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1E3-035D-470A-951D-08084A19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104-7975-4544-8A4B-C903CD51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AFF-11A7-4D1B-85FB-900EE613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049-F4D9-4F2E-97B6-C2C4FF8A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5FB-9DD4-4768-9688-F80A42EA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2C75-3252-4CA5-B7B1-5661D5557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1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3400" y="517680"/>
            <a:ext cx="80172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gir bien tipo de gráf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n aportar información claramente,    si requiere demasiada explicación no si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ítulos, escalas deben ser le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 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276640"/>
            <a:ext cx="748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el trabajo (conciso, objeti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l Examen de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34936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º Lectura-Corrección de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º Presentación (máx. 20 min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º Deliberación de Co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4653000"/>
            <a:ext cx="2810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8: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4:AaBbCc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42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: malos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93800" y="1052640"/>
            <a:ext cx="5857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7600" y="657360"/>
            <a:ext cx="83073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5960" y="503280"/>
            <a:ext cx="79106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9-04-28T15:12:44Z</dcterms:modified>
  <cp:revision>13</cp:revision>
  <dc:subject/>
  <dc:title>Diapositiva 1</dc:title>
</cp:coreProperties>
</file>