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D267-14E9-485E-9C81-189DF0089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408C-458A-4D6D-AE71-3CD2EE22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158B-25FE-491E-8C8F-808FC998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59DB-42C3-44E7-B92E-389BFEDF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BCB0-E782-4FA6-82E4-F5D8BD3E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315C-3E14-4BE0-A9F6-9442E77D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88B6-C441-4CB3-8E75-B61D91F0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830A-93AA-4EC3-84BE-8A9202B9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6F5A-528E-418B-BF31-FEEC52D7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B071-0E81-41B0-A1B5-EC9B3080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9DA1-3148-4D60-8ED4-D6381DBA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5671-E141-4833-BA63-E75DA355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B1C1-DE6B-42CE-8C96-2C98B00C8F4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1486080"/>
            <a:ext cx="8064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aúl Sáez Sáez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1913-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Premio Nacional de Ciencias Aplicadas y Tecnológicas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2637000"/>
          <a:ext cx="8135280" cy="2617560"/>
        </p:xfrm>
        <a:graphic>
          <a:graphicData uri="http://schemas.openxmlformats.org/drawingml/2006/table">
            <a:tbl>
              <a:tblPr/>
              <a:tblGrid>
                <a:gridCol w="8135280"/>
              </a:tblGrid>
              <a:tr h="261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Ingeniero Civil, Universidad de Chil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irigió los trabajos para evitar que el lago </a:t>
                      </a:r>
                      <a:r>
                        <a:rPr b="1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Riñihue</a:t>
                      </a: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inundara con sus aguas la ciudad de Valdivia, a raíz del terremoto de 196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Raúl Sáez"/>
          <p:cNvPicPr/>
          <p:nvPr/>
        </p:nvPicPr>
        <p:blipFill>
          <a:blip r:embed="rId2"/>
          <a:stretch/>
        </p:blipFill>
        <p:spPr>
          <a:xfrm>
            <a:off x="6851520" y="476280"/>
            <a:ext cx="1551240" cy="1789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965280" y="621504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ttp://www.uchile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195640" y="5381640"/>
          <a:ext cx="6480000" cy="639720"/>
        </p:xfrm>
        <a:graphic>
          <a:graphicData uri="http://schemas.openxmlformats.org/drawingml/2006/table">
            <a:tbl>
              <a:tblPr/>
              <a:tblGrid>
                <a:gridCol w="6480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81000" indent="-981000" algn="just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ENTE: Premios Nacionales de Ciencias. Comisión Nacional de Investigación Científica y Tecnológica (CONICY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8000" y="836640"/>
            <a:ext cx="89647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120492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-27000"/>
            <a:ext cx="9036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22 de Mayo 1960, Valdiv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Deslizamientos de tierra producen 3 tacos en el desagüe del Riñih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2997360"/>
            <a:ext cx="2016000" cy="1296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541440"/>
            <a:ext cx="8569080" cy="48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iñihue sube 40 cms por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Raúl Sáez S. Gerente de ENDESA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liminar al máximo los afluentes al l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onstruir un canal de desagü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Fernando Martínez  Ingeniero de ENDESA, debe definir el trazado, sin tiempo para realizar estudios acab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50760" y="1020600"/>
            <a:ext cx="3470400" cy="3632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564000" y="907920"/>
            <a:ext cx="5580000" cy="3892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5084640"/>
            <a:ext cx="867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uego de 2 meses de trabajo se abre el canal y evacua a 700 m</a:t>
            </a:r>
            <a:r>
              <a:rPr b="0" lang="es-ES" sz="24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/s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I1101 Introducción a la Ingeni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8200" y="1989000"/>
            <a:ext cx="806616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Grupos (5 c/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sarrollo de temas en cátedra (no obligatoria pero con evalu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Proyectos en horario de laboratorio (2 horas, asistencia obligatoria, así como a las presentaciones, máx. 2 inasistenc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932360" y="5589720"/>
            <a:ext cx="2916360" cy="458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724360" y="1773360"/>
            <a:ext cx="302436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lanteamiento de los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842472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119700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F=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 20%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br>
              <a:rPr sz="3600"/>
            </a:b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, 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s proyectos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 de Clase 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       (actividades en horario de cátedra)</a:t>
            </a:r>
            <a:r>
              <a:rPr b="0" lang="es-E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6908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la Ingenierí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4133880" cy="5029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867280" y="1125360"/>
            <a:ext cx="2571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76480" y="895320"/>
            <a:ext cx="67910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1773360"/>
          <a:ext cx="7416720" cy="317016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 y presentaciones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1052640"/>
          <a:ext cx="8424360" cy="4523760"/>
        </p:xfrm>
        <a:graphic>
          <a:graphicData uri="http://schemas.openxmlformats.org/drawingml/2006/table">
            <a:tbl>
              <a:tblPr/>
              <a:tblGrid>
                <a:gridCol w="8424360"/>
              </a:tblGrid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. Retirarse antes del fin del taller sin autorización puede significar  una inasistenc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539640" y="333360"/>
          <a:ext cx="8569080" cy="57038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igen del Térm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ff"/>
                </a:solidFill>
                <a:latin typeface="Times New Roman"/>
              </a:rPr>
              <a:t>Ingenerare</a:t>
            </a:r>
            <a:r>
              <a:rPr b="1" lang="es-MX" sz="4400" spc="-1" strike="noStrike">
                <a:solidFill>
                  <a:srgbClr val="0000ff"/>
                </a:solidFill>
                <a:latin typeface="Times New Roman"/>
              </a:rPr>
              <a:t>:  Crear (latín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907920"/>
          <a:ext cx="835344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907920"/>
                    <a:ext cx="8353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777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5084640"/>
            <a:ext cx="80647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 (no ciencia ni técnica)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recursos naturales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l ser humano (ética)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 la sociedad (Rol Soci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42920" y="836640"/>
            <a:ext cx="7705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tiliza ciencia y técnica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tualmente: trabajo en equ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60280"/>
            <a:ext cx="8281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Cóm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708360" y="3832200"/>
            <a:ext cx="5256360" cy="262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529000" y="4336920"/>
            <a:ext cx="4275000" cy="108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8000" y="2708280"/>
            <a:ext cx="7705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j. Teorema de Pitágo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549360"/>
            <a:ext cx="828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bajo en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76440" y="188424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9-03-09T01:37:54Z</dcterms:modified>
  <cp:revision>29</cp:revision>
  <dc:subject/>
  <dc:title>EL63A-Taller de Proyecto en Control II</dc:title>
</cp:coreProperties>
</file>