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35C0-3948-4C3E-AD21-4B48AA7BB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CB1B-B7B0-4C91-8A51-FE5DBE4C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B307-8A5C-448F-BD9C-AC0C82AF6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1BD6-B801-42BC-85B3-E9562F453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303A-1FAD-4FC5-8B61-0E55008B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CFF5-F39D-4A78-9314-22BA2F4B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7F00-220E-4A85-99D4-C78D7E49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A55C-494A-4A3C-8BD3-EA16D5C1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B440-0144-4593-8723-0C85B399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C57C-55C2-43A9-BE0A-C51C62F2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44D1-0DAA-431B-91B8-53146E1F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8FBB-A1A5-48D0-AA86-384A20C9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DD15-1893-428A-B98C-7A792749D213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alibri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468360" y="1413000"/>
            <a:ext cx="781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Comportamiento de su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alibri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468360" y="1413000"/>
            <a:ext cx="86756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Comportamiento de su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Calibri"/>
              </a:rPr>
              <a:t>Ensayes en suelos cohesiv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Calibri"/>
              </a:rPr>
              <a:t>Condición drenada o se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alibri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-252360" y="114480"/>
            <a:ext cx="7272360" cy="6743520"/>
          </a:xfrm>
          <a:prstGeom prst="rect">
            <a:avLst/>
          </a:prstGeom>
          <a:ln w="0">
            <a:noFill/>
          </a:ln>
        </p:spPr>
      </p:pic>
      <p:sp>
        <p:nvSpPr>
          <p:cNvPr id="115" name="4 CuadroTexto"/>
          <p:cNvSpPr/>
          <p:nvPr/>
        </p:nvSpPr>
        <p:spPr>
          <a:xfrm>
            <a:off x="5292720" y="1628640"/>
            <a:ext cx="3311640" cy="137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Calibri"/>
              </a:rPr>
              <a:t>EFECTO DE LA CONSOLIDACION EN EL COMPORTAMIENTO TESION – DEFORMACIÓN EN ARCILL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Calibri"/>
              </a:rPr>
              <a:t>PRESION DE CONFINAMIENTO CONSTA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5 CuadroTexto"/>
          <p:cNvSpPr/>
          <p:nvPr/>
        </p:nvSpPr>
        <p:spPr>
          <a:xfrm>
            <a:off x="1116000" y="-57240"/>
            <a:ext cx="7272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Calibri"/>
              </a:rPr>
              <a:t>ENSAYES CD EN ARCI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alibri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7981920" cy="6408720"/>
          </a:xfrm>
          <a:prstGeom prst="rect">
            <a:avLst/>
          </a:prstGeom>
          <a:ln w="0">
            <a:noFill/>
          </a:ln>
        </p:spPr>
      </p:pic>
      <p:sp>
        <p:nvSpPr>
          <p:cNvPr id="119" name="7 CuadroTexto"/>
          <p:cNvSpPr/>
          <p:nvPr/>
        </p:nvSpPr>
        <p:spPr>
          <a:xfrm>
            <a:off x="0" y="260280"/>
            <a:ext cx="8785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Calibri"/>
              </a:rPr>
              <a:t>EFECTO DE LA PRESION DE CONFINAMIENTO EN EL COMPORTAMIENTO TESION – DEFORMACIÓN EN ARCILLAS SOBRECONSOLIDADA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alibri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316080" y="0"/>
            <a:ext cx="6487920" cy="6951600"/>
          </a:xfrm>
          <a:prstGeom prst="rect">
            <a:avLst/>
          </a:prstGeom>
          <a:ln w="0">
            <a:noFill/>
          </a:ln>
        </p:spPr>
      </p:pic>
      <p:sp>
        <p:nvSpPr>
          <p:cNvPr id="122" name="3 CuadroTexto"/>
          <p:cNvSpPr/>
          <p:nvPr/>
        </p:nvSpPr>
        <p:spPr>
          <a:xfrm>
            <a:off x="2987640" y="333360"/>
            <a:ext cx="54007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Calibri"/>
              </a:rPr>
              <a:t>EFECTO DE LA CONSOLIDACION EN EL COMPORTAMIENTO TESION – DEFORMACIÓN EN ARCILL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5 Conector recto de flecha"/>
          <p:cNvCxnSpPr/>
          <p:nvPr/>
        </p:nvCxnSpPr>
        <p:spPr>
          <a:xfrm flipH="1">
            <a:off x="2122200" y="1341000"/>
            <a:ext cx="2160" cy="47538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24" name="6 Conector recto de flecha"/>
          <p:cNvCxnSpPr/>
          <p:nvPr/>
        </p:nvCxnSpPr>
        <p:spPr>
          <a:xfrm flipH="1">
            <a:off x="1834920" y="2104560"/>
            <a:ext cx="2160" cy="3701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5" name="8 CuadroTexto"/>
          <p:cNvSpPr/>
          <p:nvPr/>
        </p:nvSpPr>
        <p:spPr>
          <a:xfrm>
            <a:off x="1908000" y="2852640"/>
            <a:ext cx="136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Calibri"/>
              </a:rPr>
              <a:t>Probeta normalmente consolid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10 CuadroTexto"/>
          <p:cNvSpPr/>
          <p:nvPr/>
        </p:nvSpPr>
        <p:spPr>
          <a:xfrm>
            <a:off x="395280" y="3429000"/>
            <a:ext cx="172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Calibri"/>
              </a:rPr>
              <a:t>Probeta sobreconsolidad consolid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11 Conector recto de flecha"/>
          <p:cNvCxnSpPr/>
          <p:nvPr/>
        </p:nvCxnSpPr>
        <p:spPr>
          <a:xfrm flipH="1">
            <a:off x="1834920" y="1699920"/>
            <a:ext cx="2160" cy="3610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28" name="12 Conector recto de flecha"/>
          <p:cNvCxnSpPr/>
          <p:nvPr/>
        </p:nvCxnSpPr>
        <p:spPr>
          <a:xfrm flipH="1">
            <a:off x="2123280" y="620280"/>
            <a:ext cx="2520" cy="3610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129" name="13 CuadroTexto"/>
          <p:cNvSpPr/>
          <p:nvPr/>
        </p:nvSpPr>
        <p:spPr>
          <a:xfrm>
            <a:off x="1987560" y="2602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70c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14 CuadroTexto"/>
          <p:cNvSpPr/>
          <p:nvPr/>
        </p:nvSpPr>
        <p:spPr>
          <a:xfrm>
            <a:off x="1700280" y="13413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70c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13 Conector recto de flecha"/>
          <p:cNvCxnSpPr/>
          <p:nvPr/>
        </p:nvCxnSpPr>
        <p:spPr>
          <a:xfrm flipH="1">
            <a:off x="5579280" y="2636640"/>
            <a:ext cx="2520" cy="3610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132" name="13 CuadroTexto"/>
          <p:cNvSpPr/>
          <p:nvPr/>
        </p:nvSpPr>
        <p:spPr>
          <a:xfrm>
            <a:off x="5443560" y="23493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70c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15 Conector recto de flecha"/>
          <p:cNvCxnSpPr/>
          <p:nvPr/>
        </p:nvCxnSpPr>
        <p:spPr>
          <a:xfrm flipH="1">
            <a:off x="5579280" y="3141360"/>
            <a:ext cx="2520" cy="14403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4" name="18 CuadroTexto"/>
          <p:cNvSpPr/>
          <p:nvPr/>
        </p:nvSpPr>
        <p:spPr>
          <a:xfrm>
            <a:off x="4284720" y="3284640"/>
            <a:ext cx="251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Calibri"/>
              </a:rPr>
              <a:t>Probeta normalmente consolidada PERO A DIFERENTE PRESION DE CONFIN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2"/>
          <a:srcRect l="12870" t="0" r="0" b="47647"/>
          <a:stretch/>
        </p:blipFill>
        <p:spPr>
          <a:xfrm>
            <a:off x="5796000" y="1052640"/>
            <a:ext cx="3348000" cy="1865160"/>
          </a:xfrm>
          <a:prstGeom prst="rect">
            <a:avLst/>
          </a:prstGeom>
          <a:ln w="0">
            <a:noFill/>
          </a:ln>
        </p:spPr>
      </p:pic>
      <p:cxnSp>
        <p:nvCxnSpPr>
          <p:cNvPr id="136" name="17 Conector recto de flecha"/>
          <p:cNvCxnSpPr/>
          <p:nvPr/>
        </p:nvCxnSpPr>
        <p:spPr>
          <a:xfrm flipH="1">
            <a:off x="6587280" y="907560"/>
            <a:ext cx="2520" cy="3610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alibri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-85680" y="1413000"/>
            <a:ext cx="922968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alibri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-324000" y="549360"/>
            <a:ext cx="9556920" cy="5904000"/>
          </a:xfrm>
          <a:prstGeom prst="rect">
            <a:avLst/>
          </a:prstGeom>
          <a:ln w="0">
            <a:noFill/>
          </a:ln>
        </p:spPr>
      </p:pic>
      <p:sp>
        <p:nvSpPr>
          <p:cNvPr id="141" name="3 CuadroTexto"/>
          <p:cNvSpPr/>
          <p:nvPr/>
        </p:nvSpPr>
        <p:spPr>
          <a:xfrm>
            <a:off x="900000" y="692280"/>
            <a:ext cx="583272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Calibri"/>
              </a:rPr>
              <a:t>PARA EL ANGULO RESIDUAL, UNA PROBETA SOBRECONSOLIDADA O NORMALMENTE CONSOLIDADA POSEEN UNA RELACION CON EL INDICE DE PLASTIC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alibri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2 CuadroTexto"/>
          <p:cNvSpPr/>
          <p:nvPr/>
        </p:nvSpPr>
        <p:spPr>
          <a:xfrm>
            <a:off x="1549080" y="26028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En resum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4 Conector recto de flecha"/>
          <p:cNvCxnSpPr/>
          <p:nvPr/>
        </p:nvCxnSpPr>
        <p:spPr>
          <a:xfrm flipV="1">
            <a:off x="1762560" y="691560"/>
            <a:ext cx="2520" cy="504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7 Conector recto de flecha"/>
          <p:cNvCxnSpPr/>
          <p:nvPr/>
        </p:nvCxnSpPr>
        <p:spPr>
          <a:xfrm flipV="1">
            <a:off x="1763640" y="5732280"/>
            <a:ext cx="640152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6" name="12 Forma libre"/>
          <p:cNvSpPr/>
          <p:nvPr/>
        </p:nvSpPr>
        <p:spPr>
          <a:xfrm>
            <a:off x="1773360" y="3402000"/>
            <a:ext cx="4362480" cy="2327400"/>
          </a:xfrm>
          <a:custGeom>
            <a:avLst/>
            <a:gdLst/>
            <a:ahLst/>
            <a:rect l="l" t="t" r="r" b="b"/>
            <a:pathLst>
              <a:path w="4362679" h="2326395">
                <a:moveTo>
                  <a:pt x="0" y="2326395"/>
                </a:moveTo>
                <a:cubicBezTo>
                  <a:pt x="98234" y="1396387"/>
                  <a:pt x="196468" y="466380"/>
                  <a:pt x="506776" y="233190"/>
                </a:cubicBezTo>
                <a:cubicBezTo>
                  <a:pt x="817084" y="0"/>
                  <a:pt x="1219199" y="784034"/>
                  <a:pt x="1861850" y="927253"/>
                </a:cubicBezTo>
                <a:cubicBezTo>
                  <a:pt x="2504501" y="1070472"/>
                  <a:pt x="4362679" y="1092506"/>
                  <a:pt x="4362679" y="1092506"/>
                </a:cubicBezTo>
                <a:lnTo>
                  <a:pt x="4362679" y="1092506"/>
                </a:lnTo>
              </a:path>
            </a:pathLst>
          </a:custGeom>
          <a:noFill/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3 Forma libre"/>
          <p:cNvSpPr/>
          <p:nvPr/>
        </p:nvSpPr>
        <p:spPr>
          <a:xfrm>
            <a:off x="1773360" y="4508640"/>
            <a:ext cx="4406760" cy="1220760"/>
          </a:xfrm>
          <a:custGeom>
            <a:avLst/>
            <a:gdLst/>
            <a:ahLst/>
            <a:rect l="l" t="t" r="r" b="b"/>
            <a:pathLst>
              <a:path w="4406747" h="1288974">
                <a:moveTo>
                  <a:pt x="0" y="1288974"/>
                </a:moveTo>
                <a:cubicBezTo>
                  <a:pt x="50494" y="875841"/>
                  <a:pt x="100988" y="462709"/>
                  <a:pt x="462708" y="253389"/>
                </a:cubicBezTo>
                <a:cubicBezTo>
                  <a:pt x="824428" y="44069"/>
                  <a:pt x="1512983" y="66102"/>
                  <a:pt x="2170323" y="33051"/>
                </a:cubicBezTo>
                <a:cubicBezTo>
                  <a:pt x="2827663" y="0"/>
                  <a:pt x="3617205" y="27542"/>
                  <a:pt x="4406747" y="55085"/>
                </a:cubicBezTo>
              </a:path>
            </a:pathLst>
          </a:cu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14 CuadroTexto"/>
          <p:cNvSpPr/>
          <p:nvPr/>
        </p:nvSpPr>
        <p:spPr>
          <a:xfrm>
            <a:off x="2465280" y="4149720"/>
            <a:ext cx="104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b050"/>
                </a:solidFill>
                <a:latin typeface="Calibri"/>
              </a:rPr>
              <a:t>Arcilla OC, </a:t>
            </a:r>
            <a:r>
              <a:rPr b="0" lang="es-CL" sz="1200" spc="-1" strike="noStrike">
                <a:solidFill>
                  <a:srgbClr val="00b050"/>
                </a:solidFill>
                <a:latin typeface="Symbol"/>
                <a:ea typeface="Symbol"/>
              </a:rPr>
              <a:t></a:t>
            </a:r>
            <a:r>
              <a:rPr b="0" lang="es-CL" sz="800" spc="-1" strike="noStrike">
                <a:solidFill>
                  <a:srgbClr val="00b050"/>
                </a:solidFill>
                <a:latin typeface="Symbol"/>
                <a:ea typeface="Symbol"/>
              </a:rPr>
              <a:t>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5 CuadroTexto"/>
          <p:cNvSpPr/>
          <p:nvPr/>
        </p:nvSpPr>
        <p:spPr>
          <a:xfrm>
            <a:off x="3132000" y="981000"/>
            <a:ext cx="432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0000"/>
                </a:solidFill>
                <a:latin typeface="Calibri"/>
              </a:rPr>
              <a:t>Arcilla NC y OC ensayada a elevada presión de confinamiento, &gt; </a:t>
            </a:r>
            <a:r>
              <a:rPr b="0" lang="es-CL" sz="12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s-CL" sz="800" spc="-1" strike="noStrike">
                <a:solidFill>
                  <a:srgbClr val="ff0000"/>
                </a:solidFill>
                <a:latin typeface="Symbol"/>
                <a:ea typeface="Symbol"/>
              </a:rPr>
              <a:t>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16 CuadroTexto"/>
          <p:cNvSpPr/>
          <p:nvPr/>
        </p:nvSpPr>
        <p:spPr>
          <a:xfrm>
            <a:off x="3059280" y="458136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70c0"/>
                </a:solidFill>
                <a:latin typeface="Calibri"/>
              </a:rPr>
              <a:t>Arcilla NC, </a:t>
            </a:r>
            <a:r>
              <a:rPr b="0" lang="es-CL" sz="1200" spc="-1" strike="noStrike">
                <a:solidFill>
                  <a:srgbClr val="0070c0"/>
                </a:solidFill>
                <a:latin typeface="Symbol"/>
                <a:ea typeface="Symbol"/>
              </a:rPr>
              <a:t></a:t>
            </a:r>
            <a:r>
              <a:rPr b="0" lang="es-CL" sz="700" spc="-1" strike="noStrike">
                <a:solidFill>
                  <a:srgbClr val="0070c0"/>
                </a:solidFill>
                <a:latin typeface="Symbol"/>
                <a:ea typeface="Symbol"/>
              </a:rPr>
              <a:t>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7 CuadroTexto"/>
          <p:cNvSpPr/>
          <p:nvPr/>
        </p:nvSpPr>
        <p:spPr>
          <a:xfrm rot="16200000">
            <a:off x="1136160" y="149256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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8 CuadroTexto"/>
          <p:cNvSpPr/>
          <p:nvPr/>
        </p:nvSpPr>
        <p:spPr>
          <a:xfrm>
            <a:off x="7887240" y="580536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9 CuadroTexto"/>
          <p:cNvSpPr/>
          <p:nvPr/>
        </p:nvSpPr>
        <p:spPr>
          <a:xfrm>
            <a:off x="4140360" y="1916280"/>
            <a:ext cx="47512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COMPORTAMIENTO DE ARCIL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EN CONDICIÓN DRE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8 Forma libre"/>
          <p:cNvSpPr/>
          <p:nvPr/>
        </p:nvSpPr>
        <p:spPr>
          <a:xfrm>
            <a:off x="1763640" y="3141720"/>
            <a:ext cx="5684760" cy="2595600"/>
          </a:xfrm>
          <a:custGeom>
            <a:avLst/>
            <a:gdLst/>
            <a:ahLst/>
            <a:rect l="l" t="t" r="r" b="b"/>
            <a:pathLst>
              <a:path w="5684703" h="5394592">
                <a:moveTo>
                  <a:pt x="0" y="5394592"/>
                </a:moveTo>
                <a:cubicBezTo>
                  <a:pt x="73446" y="3910987"/>
                  <a:pt x="146892" y="2427382"/>
                  <a:pt x="661012" y="1571739"/>
                </a:cubicBezTo>
                <a:cubicBezTo>
                  <a:pt x="1175132" y="716096"/>
                  <a:pt x="2247441" y="521464"/>
                  <a:pt x="3084723" y="260732"/>
                </a:cubicBezTo>
                <a:cubicBezTo>
                  <a:pt x="3922005" y="0"/>
                  <a:pt x="4803354" y="3672"/>
                  <a:pt x="5684703" y="7344"/>
                </a:cubicBezTo>
              </a:path>
            </a:pathLst>
          </a:cu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2 Forma libre"/>
          <p:cNvSpPr/>
          <p:nvPr/>
        </p:nvSpPr>
        <p:spPr>
          <a:xfrm>
            <a:off x="1751040" y="2343240"/>
            <a:ext cx="6392880" cy="3408120"/>
          </a:xfrm>
          <a:custGeom>
            <a:avLst/>
            <a:gdLst/>
            <a:ahLst/>
            <a:rect l="l" t="t" r="r" b="b"/>
            <a:pathLst>
              <a:path w="6391619" h="3407885">
                <a:moveTo>
                  <a:pt x="0" y="3407885"/>
                </a:moveTo>
                <a:cubicBezTo>
                  <a:pt x="179942" y="2159306"/>
                  <a:pt x="359884" y="910728"/>
                  <a:pt x="738130" y="455364"/>
                </a:cubicBezTo>
                <a:cubicBezTo>
                  <a:pt x="1116376" y="0"/>
                  <a:pt x="1439538" y="620618"/>
                  <a:pt x="2269475" y="675702"/>
                </a:cubicBezTo>
                <a:cubicBezTo>
                  <a:pt x="3099412" y="730786"/>
                  <a:pt x="5043889" y="765673"/>
                  <a:pt x="5717754" y="785870"/>
                </a:cubicBezTo>
                <a:cubicBezTo>
                  <a:pt x="6391619" y="806067"/>
                  <a:pt x="6352142" y="801477"/>
                  <a:pt x="6312665" y="796887"/>
                </a:cubicBezTo>
              </a:path>
            </a:pathLst>
          </a:custGeom>
          <a:noFill/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6 CuadroTexto"/>
          <p:cNvSpPr/>
          <p:nvPr/>
        </p:nvSpPr>
        <p:spPr>
          <a:xfrm>
            <a:off x="3708360" y="335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70c0"/>
                </a:solidFill>
                <a:latin typeface="Calibri"/>
              </a:rPr>
              <a:t>Arcilla NC, </a:t>
            </a:r>
            <a:r>
              <a:rPr b="0" lang="es-CL" sz="1200" spc="-1" strike="noStrike">
                <a:solidFill>
                  <a:srgbClr val="0070c0"/>
                </a:solidFill>
                <a:latin typeface="Symbol"/>
                <a:ea typeface="Symbol"/>
              </a:rPr>
              <a:t></a:t>
            </a:r>
            <a:r>
              <a:rPr b="0" lang="es-CL" sz="700" spc="-1" strike="noStrike">
                <a:solidFill>
                  <a:srgbClr val="0070c0"/>
                </a:solidFill>
                <a:latin typeface="Symbol"/>
                <a:ea typeface="Symbol"/>
              </a:rPr>
              <a:t>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14 CuadroTexto"/>
          <p:cNvSpPr/>
          <p:nvPr/>
        </p:nvSpPr>
        <p:spPr>
          <a:xfrm>
            <a:off x="2843280" y="292428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b050"/>
                </a:solidFill>
                <a:latin typeface="Calibri"/>
              </a:rPr>
              <a:t>Arcilla OC, </a:t>
            </a:r>
            <a:r>
              <a:rPr b="0" lang="es-CL" sz="1200" spc="-1" strike="noStrike">
                <a:solidFill>
                  <a:srgbClr val="00b050"/>
                </a:solidFill>
                <a:latin typeface="Symbol"/>
                <a:ea typeface="Symbol"/>
              </a:rPr>
              <a:t></a:t>
            </a:r>
            <a:r>
              <a:rPr b="0" lang="es-CL" sz="800" spc="-1" strike="noStrike">
                <a:solidFill>
                  <a:srgbClr val="00b050"/>
                </a:solidFill>
                <a:latin typeface="Symbol"/>
                <a:ea typeface="Symbol"/>
              </a:rPr>
              <a:t>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9 Forma libre"/>
          <p:cNvSpPr/>
          <p:nvPr/>
        </p:nvSpPr>
        <p:spPr>
          <a:xfrm>
            <a:off x="1762200" y="1125360"/>
            <a:ext cx="6257880" cy="4615200"/>
          </a:xfrm>
          <a:custGeom>
            <a:avLst/>
            <a:gdLst/>
            <a:ahLst/>
            <a:rect l="l" t="t" r="r" b="b"/>
            <a:pathLst>
              <a:path w="6257581" h="3756752">
                <a:moveTo>
                  <a:pt x="0" y="3756752"/>
                </a:moveTo>
                <a:cubicBezTo>
                  <a:pt x="132202" y="2796448"/>
                  <a:pt x="264404" y="1836145"/>
                  <a:pt x="627961" y="1266940"/>
                </a:cubicBezTo>
                <a:cubicBezTo>
                  <a:pt x="991518" y="697735"/>
                  <a:pt x="1243070" y="552680"/>
                  <a:pt x="2181340" y="341523"/>
                </a:cubicBezTo>
                <a:cubicBezTo>
                  <a:pt x="3119610" y="130366"/>
                  <a:pt x="4688595" y="65183"/>
                  <a:pt x="6257581" y="0"/>
                </a:cubicBezTo>
              </a:path>
            </a:pathLst>
          </a:custGeom>
          <a:noFill/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alibri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468360" y="1413000"/>
            <a:ext cx="86756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Comportamiento de su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Calibri"/>
              </a:rPr>
              <a:t>Ensayes en suelos no-cohesiv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Calibri"/>
              </a:rPr>
              <a:t>Condición saturada, no-drenad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alibri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1332000" y="0"/>
            <a:ext cx="491796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3 CuadroTexto"/>
          <p:cNvSpPr/>
          <p:nvPr/>
        </p:nvSpPr>
        <p:spPr>
          <a:xfrm>
            <a:off x="5722920" y="1125360"/>
            <a:ext cx="34210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Calibri"/>
              </a:rPr>
              <a:t>CONDICION SATURAD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Calibri"/>
              </a:rPr>
              <a:t>NO DRENADA PARA UNA PROBETA CREADA A DIFERENTES DENS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4 CuadroTexto"/>
          <p:cNvSpPr/>
          <p:nvPr/>
        </p:nvSpPr>
        <p:spPr>
          <a:xfrm>
            <a:off x="4356000" y="404640"/>
            <a:ext cx="21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Densidad relativa después de consolid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alibri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0" y="333360"/>
            <a:ext cx="9381960" cy="6120000"/>
          </a:xfrm>
          <a:prstGeom prst="rect">
            <a:avLst/>
          </a:prstGeom>
          <a:ln w="0">
            <a:noFill/>
          </a:ln>
        </p:spPr>
      </p:pic>
      <p:sp>
        <p:nvSpPr>
          <p:cNvPr id="167" name="3 CuadroTexto"/>
          <p:cNvSpPr/>
          <p:nvPr/>
        </p:nvSpPr>
        <p:spPr>
          <a:xfrm>
            <a:off x="5364000" y="3429000"/>
            <a:ext cx="342108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Calibri"/>
              </a:rPr>
              <a:t>CONDICIÓN SATURAD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Calibri"/>
              </a:rPr>
              <a:t>NO DRENADA PARA UNA PROBETA  ENSAYADA  A DIFERENTES PRESIONES DE CONFIN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4 CuadroTexto"/>
          <p:cNvSpPr/>
          <p:nvPr/>
        </p:nvSpPr>
        <p:spPr>
          <a:xfrm>
            <a:off x="3995640" y="2205000"/>
            <a:ext cx="216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CL" sz="1600" spc="-1" strike="noStrike" u="sng">
                <a:solidFill>
                  <a:srgbClr val="000000"/>
                </a:solidFill>
                <a:uFillTx/>
                <a:latin typeface="Calibri"/>
              </a:rPr>
              <a:t>e</a:t>
            </a:r>
            <a:r>
              <a:rPr b="0" lang="es-CL" sz="1600" spc="-1" strike="noStrike">
                <a:solidFill>
                  <a:srgbClr val="000000"/>
                </a:solidFill>
                <a:latin typeface="Calibri"/>
              </a:rPr>
              <a:t> después de consolid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alibri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68360" y="1413000"/>
            <a:ext cx="86756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Comportamiento de su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Calibri"/>
              </a:rPr>
              <a:t>Ensayes en suelos no cohesiv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Calibri"/>
              </a:rPr>
              <a:t>Condición drenada o se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alibri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-216000" y="260280"/>
            <a:ext cx="9694800" cy="6481800"/>
          </a:xfrm>
          <a:prstGeom prst="rect">
            <a:avLst/>
          </a:prstGeom>
          <a:ln w="0">
            <a:noFill/>
          </a:ln>
        </p:spPr>
      </p:pic>
      <p:sp>
        <p:nvSpPr>
          <p:cNvPr id="171" name="3 CuadroTexto"/>
          <p:cNvSpPr/>
          <p:nvPr/>
        </p:nvSpPr>
        <p:spPr>
          <a:xfrm>
            <a:off x="1763640" y="1484280"/>
            <a:ext cx="216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CL" sz="1600" spc="-1" strike="noStrike" u="sng">
                <a:solidFill>
                  <a:srgbClr val="000000"/>
                </a:solidFill>
                <a:uFillTx/>
                <a:latin typeface="Calibri"/>
              </a:rPr>
              <a:t>e</a:t>
            </a:r>
            <a:r>
              <a:rPr b="0" lang="es-CL" sz="1600" spc="-1" strike="noStrike">
                <a:solidFill>
                  <a:srgbClr val="000000"/>
                </a:solidFill>
                <a:latin typeface="Calibri"/>
              </a:rPr>
              <a:t> después de consolid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4 CuadroTexto"/>
          <p:cNvSpPr/>
          <p:nvPr/>
        </p:nvSpPr>
        <p:spPr>
          <a:xfrm>
            <a:off x="5076720" y="907920"/>
            <a:ext cx="342108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Calibri"/>
              </a:rPr>
              <a:t>CONDICION SATURAD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Calibri"/>
              </a:rPr>
              <a:t>NO DRENADA PARA UNA PROBETA  ENSAYADA  A DIFERENTES PRESIONES DE CONFIN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alibri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2 CuadroTexto"/>
          <p:cNvSpPr/>
          <p:nvPr/>
        </p:nvSpPr>
        <p:spPr>
          <a:xfrm>
            <a:off x="1549080" y="26028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En resum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4 Conector recto de flecha"/>
          <p:cNvCxnSpPr/>
          <p:nvPr/>
        </p:nvCxnSpPr>
        <p:spPr>
          <a:xfrm flipV="1">
            <a:off x="1762560" y="691560"/>
            <a:ext cx="2520" cy="504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7 Conector recto de flecha"/>
          <p:cNvCxnSpPr/>
          <p:nvPr/>
        </p:nvCxnSpPr>
        <p:spPr>
          <a:xfrm flipV="1">
            <a:off x="1763640" y="5732280"/>
            <a:ext cx="640152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12 Forma libre"/>
          <p:cNvSpPr/>
          <p:nvPr/>
        </p:nvSpPr>
        <p:spPr>
          <a:xfrm>
            <a:off x="1773360" y="3860640"/>
            <a:ext cx="4362480" cy="1868760"/>
          </a:xfrm>
          <a:custGeom>
            <a:avLst/>
            <a:gdLst/>
            <a:ahLst/>
            <a:rect l="l" t="t" r="r" b="b"/>
            <a:pathLst>
              <a:path w="4362679" h="2326395">
                <a:moveTo>
                  <a:pt x="0" y="2326395"/>
                </a:moveTo>
                <a:cubicBezTo>
                  <a:pt x="98234" y="1396387"/>
                  <a:pt x="196468" y="466380"/>
                  <a:pt x="506776" y="233190"/>
                </a:cubicBezTo>
                <a:cubicBezTo>
                  <a:pt x="817084" y="0"/>
                  <a:pt x="1219199" y="784034"/>
                  <a:pt x="1861850" y="927253"/>
                </a:cubicBezTo>
                <a:cubicBezTo>
                  <a:pt x="2504501" y="1070472"/>
                  <a:pt x="4362679" y="1092506"/>
                  <a:pt x="4362679" y="1092506"/>
                </a:cubicBezTo>
                <a:lnTo>
                  <a:pt x="4362679" y="1092506"/>
                </a:lnTo>
              </a:path>
            </a:pathLst>
          </a:custGeom>
          <a:noFill/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13 Forma libre"/>
          <p:cNvSpPr/>
          <p:nvPr/>
        </p:nvSpPr>
        <p:spPr>
          <a:xfrm>
            <a:off x="1773360" y="2492280"/>
            <a:ext cx="6038640" cy="3237120"/>
          </a:xfrm>
          <a:custGeom>
            <a:avLst/>
            <a:gdLst/>
            <a:ahLst/>
            <a:rect l="l" t="t" r="r" b="b"/>
            <a:pathLst>
              <a:path w="4406747" h="1288974">
                <a:moveTo>
                  <a:pt x="0" y="1288974"/>
                </a:moveTo>
                <a:cubicBezTo>
                  <a:pt x="50494" y="875841"/>
                  <a:pt x="100988" y="462709"/>
                  <a:pt x="462708" y="253389"/>
                </a:cubicBezTo>
                <a:cubicBezTo>
                  <a:pt x="824428" y="44069"/>
                  <a:pt x="1512983" y="66102"/>
                  <a:pt x="2170323" y="33051"/>
                </a:cubicBezTo>
                <a:cubicBezTo>
                  <a:pt x="2827663" y="0"/>
                  <a:pt x="3617205" y="27542"/>
                  <a:pt x="4406747" y="55085"/>
                </a:cubicBezTo>
              </a:path>
            </a:pathLst>
          </a:cu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14 CuadroTexto"/>
          <p:cNvSpPr/>
          <p:nvPr/>
        </p:nvSpPr>
        <p:spPr>
          <a:xfrm>
            <a:off x="3756600" y="4437000"/>
            <a:ext cx="123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b050"/>
                </a:solidFill>
                <a:latin typeface="Calibri"/>
              </a:rPr>
              <a:t>Arena suelta, </a:t>
            </a:r>
            <a:r>
              <a:rPr b="0" lang="es-CL" sz="1200" spc="-1" strike="noStrike">
                <a:solidFill>
                  <a:srgbClr val="00b050"/>
                </a:solidFill>
                <a:latin typeface="Symbol"/>
                <a:ea typeface="Symbol"/>
              </a:rPr>
              <a:t></a:t>
            </a:r>
            <a:r>
              <a:rPr b="0" lang="es-CL" sz="800" spc="-1" strike="noStrike">
                <a:solidFill>
                  <a:srgbClr val="00b050"/>
                </a:solidFill>
                <a:latin typeface="Symbol"/>
                <a:ea typeface="Symbol"/>
              </a:rPr>
              <a:t>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16 CuadroTexto"/>
          <p:cNvSpPr/>
          <p:nvPr/>
        </p:nvSpPr>
        <p:spPr>
          <a:xfrm>
            <a:off x="4427640" y="227664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70c0"/>
                </a:solidFill>
                <a:latin typeface="Calibri"/>
              </a:rPr>
              <a:t>Arena densa, </a:t>
            </a:r>
            <a:r>
              <a:rPr b="0" lang="es-CL" sz="1200" spc="-1" strike="noStrike">
                <a:solidFill>
                  <a:srgbClr val="0070c0"/>
                </a:solidFill>
                <a:latin typeface="Symbol"/>
                <a:ea typeface="Symbol"/>
              </a:rPr>
              <a:t></a:t>
            </a:r>
            <a:r>
              <a:rPr b="0" lang="es-CL" sz="700" spc="-1" strike="noStrike">
                <a:solidFill>
                  <a:srgbClr val="0070c0"/>
                </a:solidFill>
                <a:latin typeface="Symbol"/>
                <a:ea typeface="Symbol"/>
              </a:rPr>
              <a:t>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17 CuadroTexto"/>
          <p:cNvSpPr/>
          <p:nvPr/>
        </p:nvSpPr>
        <p:spPr>
          <a:xfrm rot="16200000">
            <a:off x="1136160" y="149256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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18 CuadroTexto"/>
          <p:cNvSpPr/>
          <p:nvPr/>
        </p:nvSpPr>
        <p:spPr>
          <a:xfrm>
            <a:off x="7887240" y="580536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19 CuadroTexto"/>
          <p:cNvSpPr/>
          <p:nvPr/>
        </p:nvSpPr>
        <p:spPr>
          <a:xfrm>
            <a:off x="3780000" y="620640"/>
            <a:ext cx="30956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COMPORTAMIENTO DE ARE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EN CONDICIÓN NO DRE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18 Forma libre"/>
          <p:cNvSpPr/>
          <p:nvPr/>
        </p:nvSpPr>
        <p:spPr>
          <a:xfrm>
            <a:off x="1763640" y="4724280"/>
            <a:ext cx="5684760" cy="1013040"/>
          </a:xfrm>
          <a:custGeom>
            <a:avLst/>
            <a:gdLst/>
            <a:ahLst/>
            <a:rect l="l" t="t" r="r" b="b"/>
            <a:pathLst>
              <a:path w="5684703" h="5394592">
                <a:moveTo>
                  <a:pt x="0" y="5394592"/>
                </a:moveTo>
                <a:cubicBezTo>
                  <a:pt x="73446" y="3910987"/>
                  <a:pt x="146892" y="2427382"/>
                  <a:pt x="661012" y="1571739"/>
                </a:cubicBezTo>
                <a:cubicBezTo>
                  <a:pt x="1175132" y="716096"/>
                  <a:pt x="2247441" y="521464"/>
                  <a:pt x="3084723" y="260732"/>
                </a:cubicBezTo>
                <a:cubicBezTo>
                  <a:pt x="3922005" y="0"/>
                  <a:pt x="4803354" y="3672"/>
                  <a:pt x="5684703" y="7344"/>
                </a:cubicBezTo>
              </a:path>
            </a:pathLst>
          </a:custGeom>
          <a:noFill/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16 CuadroTexto"/>
          <p:cNvSpPr/>
          <p:nvPr/>
        </p:nvSpPr>
        <p:spPr>
          <a:xfrm>
            <a:off x="2556000" y="4941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b050"/>
                </a:solidFill>
                <a:latin typeface="Calibri"/>
              </a:rPr>
              <a:t>Arena suelta, </a:t>
            </a:r>
            <a:r>
              <a:rPr b="0" lang="es-CL" sz="1200" spc="-1" strike="noStrike">
                <a:solidFill>
                  <a:srgbClr val="00b050"/>
                </a:solidFill>
                <a:latin typeface="Symbol"/>
                <a:ea typeface="Symbol"/>
              </a:rPr>
              <a:t></a:t>
            </a:r>
            <a:r>
              <a:rPr b="0" lang="es-CL" sz="700" spc="-1" strike="noStrike">
                <a:solidFill>
                  <a:srgbClr val="00b050"/>
                </a:solidFill>
                <a:latin typeface="Symbol"/>
                <a:ea typeface="Symbol"/>
              </a:rPr>
              <a:t>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14 CuadroTexto"/>
          <p:cNvSpPr/>
          <p:nvPr/>
        </p:nvSpPr>
        <p:spPr>
          <a:xfrm>
            <a:off x="3851280" y="141300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70c0"/>
                </a:solidFill>
                <a:latin typeface="Calibri"/>
              </a:rPr>
              <a:t>Arena densa, </a:t>
            </a:r>
            <a:r>
              <a:rPr b="0" lang="es-CL" sz="1200" spc="-1" strike="noStrike">
                <a:solidFill>
                  <a:srgbClr val="0070c0"/>
                </a:solidFill>
                <a:latin typeface="Symbol"/>
                <a:ea typeface="Symbol"/>
              </a:rPr>
              <a:t></a:t>
            </a:r>
            <a:r>
              <a:rPr b="0" lang="es-CL" sz="800" spc="-1" strike="noStrike">
                <a:solidFill>
                  <a:srgbClr val="0070c0"/>
                </a:solidFill>
                <a:latin typeface="Symbol"/>
                <a:ea typeface="Symbol"/>
              </a:rPr>
              <a:t>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29 Forma libre"/>
          <p:cNvSpPr/>
          <p:nvPr/>
        </p:nvSpPr>
        <p:spPr>
          <a:xfrm>
            <a:off x="1763640" y="1197000"/>
            <a:ext cx="4969080" cy="4543560"/>
          </a:xfrm>
          <a:custGeom>
            <a:avLst/>
            <a:gdLst/>
            <a:ahLst/>
            <a:rect l="l" t="t" r="r" b="b"/>
            <a:pathLst>
              <a:path w="6257581" h="3756752">
                <a:moveTo>
                  <a:pt x="0" y="3756752"/>
                </a:moveTo>
                <a:cubicBezTo>
                  <a:pt x="132202" y="2796448"/>
                  <a:pt x="264404" y="1836145"/>
                  <a:pt x="627961" y="1266940"/>
                </a:cubicBezTo>
                <a:cubicBezTo>
                  <a:pt x="991518" y="697735"/>
                  <a:pt x="1243070" y="552680"/>
                  <a:pt x="2181340" y="341523"/>
                </a:cubicBezTo>
                <a:cubicBezTo>
                  <a:pt x="3119610" y="130366"/>
                  <a:pt x="4688595" y="65183"/>
                  <a:pt x="6257581" y="0"/>
                </a:cubicBezTo>
              </a:path>
            </a:pathLst>
          </a:cu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alibri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468360" y="1413000"/>
            <a:ext cx="86756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Comportamiento de su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Calibri"/>
              </a:rPr>
              <a:t>Ensayes en suelos cohesiv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Calibri"/>
              </a:rPr>
              <a:t>Condición saturada, no-drenad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alibri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4 CuadroTexto"/>
          <p:cNvSpPr/>
          <p:nvPr/>
        </p:nvSpPr>
        <p:spPr>
          <a:xfrm>
            <a:off x="826920" y="0"/>
            <a:ext cx="792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Calibri"/>
              </a:rPr>
              <a:t>CONDICION SATURADA NO DRENAD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Calibri"/>
              </a:rPr>
              <a:t>PARA UNA PROBETA  ENSAYADA  DE ARCILLA A IGUAL PRESION DE CONFIN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1547640" y="549360"/>
            <a:ext cx="672012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alibri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2 CuadroTexto"/>
          <p:cNvSpPr/>
          <p:nvPr/>
        </p:nvSpPr>
        <p:spPr>
          <a:xfrm>
            <a:off x="1549080" y="26028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En resum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4 Conector recto de flecha"/>
          <p:cNvCxnSpPr/>
          <p:nvPr/>
        </p:nvCxnSpPr>
        <p:spPr>
          <a:xfrm flipV="1">
            <a:off x="1762560" y="691560"/>
            <a:ext cx="2520" cy="504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7 Conector recto de flecha"/>
          <p:cNvCxnSpPr/>
          <p:nvPr/>
        </p:nvCxnSpPr>
        <p:spPr>
          <a:xfrm flipV="1">
            <a:off x="1763640" y="5732280"/>
            <a:ext cx="640152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12 Forma libre"/>
          <p:cNvSpPr/>
          <p:nvPr/>
        </p:nvSpPr>
        <p:spPr>
          <a:xfrm>
            <a:off x="1773360" y="3860640"/>
            <a:ext cx="4362480" cy="1868760"/>
          </a:xfrm>
          <a:custGeom>
            <a:avLst/>
            <a:gdLst/>
            <a:ahLst/>
            <a:rect l="l" t="t" r="r" b="b"/>
            <a:pathLst>
              <a:path w="4362679" h="2326395">
                <a:moveTo>
                  <a:pt x="0" y="2326395"/>
                </a:moveTo>
                <a:cubicBezTo>
                  <a:pt x="98234" y="1396387"/>
                  <a:pt x="196468" y="466380"/>
                  <a:pt x="506776" y="233190"/>
                </a:cubicBezTo>
                <a:cubicBezTo>
                  <a:pt x="817084" y="0"/>
                  <a:pt x="1219199" y="784034"/>
                  <a:pt x="1861850" y="927253"/>
                </a:cubicBezTo>
                <a:cubicBezTo>
                  <a:pt x="2504501" y="1070472"/>
                  <a:pt x="4362679" y="1092506"/>
                  <a:pt x="4362679" y="1092506"/>
                </a:cubicBezTo>
                <a:lnTo>
                  <a:pt x="4362679" y="1092506"/>
                </a:lnTo>
              </a:path>
            </a:pathLst>
          </a:custGeom>
          <a:noFill/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13 Forma libre"/>
          <p:cNvSpPr/>
          <p:nvPr/>
        </p:nvSpPr>
        <p:spPr>
          <a:xfrm>
            <a:off x="1773360" y="2492280"/>
            <a:ext cx="6038640" cy="3237120"/>
          </a:xfrm>
          <a:custGeom>
            <a:avLst/>
            <a:gdLst/>
            <a:ahLst/>
            <a:rect l="l" t="t" r="r" b="b"/>
            <a:pathLst>
              <a:path w="4406747" h="1288974">
                <a:moveTo>
                  <a:pt x="0" y="1288974"/>
                </a:moveTo>
                <a:cubicBezTo>
                  <a:pt x="50494" y="875841"/>
                  <a:pt x="100988" y="462709"/>
                  <a:pt x="462708" y="253389"/>
                </a:cubicBezTo>
                <a:cubicBezTo>
                  <a:pt x="824428" y="44069"/>
                  <a:pt x="1512983" y="66102"/>
                  <a:pt x="2170323" y="33051"/>
                </a:cubicBezTo>
                <a:cubicBezTo>
                  <a:pt x="2827663" y="0"/>
                  <a:pt x="3617205" y="27542"/>
                  <a:pt x="4406747" y="55085"/>
                </a:cubicBezTo>
              </a:path>
            </a:pathLst>
          </a:cu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14 CuadroTexto"/>
          <p:cNvSpPr/>
          <p:nvPr/>
        </p:nvSpPr>
        <p:spPr>
          <a:xfrm>
            <a:off x="3712320" y="443700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b050"/>
                </a:solidFill>
                <a:latin typeface="Calibri"/>
              </a:rPr>
              <a:t>Arcilla NC, </a:t>
            </a:r>
            <a:r>
              <a:rPr b="0" lang="es-CL" sz="1200" spc="-1" strike="noStrike">
                <a:solidFill>
                  <a:srgbClr val="00b050"/>
                </a:solidFill>
                <a:latin typeface="Symbol"/>
                <a:ea typeface="Symbol"/>
              </a:rPr>
              <a:t></a:t>
            </a:r>
            <a:r>
              <a:rPr b="0" lang="es-CL" sz="800" spc="-1" strike="noStrike">
                <a:solidFill>
                  <a:srgbClr val="00b050"/>
                </a:solidFill>
                <a:latin typeface="Symbol"/>
                <a:ea typeface="Symbol"/>
              </a:rPr>
              <a:t>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16 CuadroTexto"/>
          <p:cNvSpPr/>
          <p:nvPr/>
        </p:nvSpPr>
        <p:spPr>
          <a:xfrm>
            <a:off x="4427640" y="227664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70c0"/>
                </a:solidFill>
                <a:latin typeface="Calibri"/>
              </a:rPr>
              <a:t>Arcilla OC, </a:t>
            </a:r>
            <a:r>
              <a:rPr b="0" lang="es-CL" sz="1200" spc="-1" strike="noStrike">
                <a:solidFill>
                  <a:srgbClr val="0070c0"/>
                </a:solidFill>
                <a:latin typeface="Symbol"/>
                <a:ea typeface="Symbol"/>
              </a:rPr>
              <a:t></a:t>
            </a:r>
            <a:r>
              <a:rPr b="0" lang="es-CL" sz="700" spc="-1" strike="noStrike">
                <a:solidFill>
                  <a:srgbClr val="0070c0"/>
                </a:solidFill>
                <a:latin typeface="Symbol"/>
                <a:ea typeface="Symbol"/>
              </a:rPr>
              <a:t>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7 CuadroTexto"/>
          <p:cNvSpPr/>
          <p:nvPr/>
        </p:nvSpPr>
        <p:spPr>
          <a:xfrm rot="16200000">
            <a:off x="1136160" y="149256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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18 CuadroTexto"/>
          <p:cNvSpPr/>
          <p:nvPr/>
        </p:nvSpPr>
        <p:spPr>
          <a:xfrm>
            <a:off x="7887240" y="580536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19 CuadroTexto"/>
          <p:cNvSpPr/>
          <p:nvPr/>
        </p:nvSpPr>
        <p:spPr>
          <a:xfrm>
            <a:off x="3780000" y="620640"/>
            <a:ext cx="30956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COMPORTAMIENTO DE ARCIL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EN CONDICIÓN NO DRE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18 Forma libre"/>
          <p:cNvSpPr/>
          <p:nvPr/>
        </p:nvSpPr>
        <p:spPr>
          <a:xfrm>
            <a:off x="1763640" y="4724280"/>
            <a:ext cx="5684760" cy="1013040"/>
          </a:xfrm>
          <a:custGeom>
            <a:avLst/>
            <a:gdLst/>
            <a:ahLst/>
            <a:rect l="l" t="t" r="r" b="b"/>
            <a:pathLst>
              <a:path w="5684703" h="5394592">
                <a:moveTo>
                  <a:pt x="0" y="5394592"/>
                </a:moveTo>
                <a:cubicBezTo>
                  <a:pt x="73446" y="3910987"/>
                  <a:pt x="146892" y="2427382"/>
                  <a:pt x="661012" y="1571739"/>
                </a:cubicBezTo>
                <a:cubicBezTo>
                  <a:pt x="1175132" y="716096"/>
                  <a:pt x="2247441" y="521464"/>
                  <a:pt x="3084723" y="260732"/>
                </a:cubicBezTo>
                <a:cubicBezTo>
                  <a:pt x="3922005" y="0"/>
                  <a:pt x="4803354" y="3672"/>
                  <a:pt x="5684703" y="7344"/>
                </a:cubicBezTo>
              </a:path>
            </a:pathLst>
          </a:custGeom>
          <a:noFill/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16 CuadroTexto"/>
          <p:cNvSpPr/>
          <p:nvPr/>
        </p:nvSpPr>
        <p:spPr>
          <a:xfrm>
            <a:off x="2556000" y="4941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b050"/>
                </a:solidFill>
                <a:latin typeface="Calibri"/>
              </a:rPr>
              <a:t>Arcilla NC, </a:t>
            </a:r>
            <a:r>
              <a:rPr b="0" lang="es-CL" sz="1200" spc="-1" strike="noStrike">
                <a:solidFill>
                  <a:srgbClr val="00b050"/>
                </a:solidFill>
                <a:latin typeface="Symbol"/>
                <a:ea typeface="Symbol"/>
              </a:rPr>
              <a:t></a:t>
            </a:r>
            <a:r>
              <a:rPr b="0" lang="es-CL" sz="700" spc="-1" strike="noStrike">
                <a:solidFill>
                  <a:srgbClr val="00b050"/>
                </a:solidFill>
                <a:latin typeface="Symbol"/>
                <a:ea typeface="Symbol"/>
              </a:rPr>
              <a:t>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14 CuadroTexto"/>
          <p:cNvSpPr/>
          <p:nvPr/>
        </p:nvSpPr>
        <p:spPr>
          <a:xfrm>
            <a:off x="3851280" y="141300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70c0"/>
                </a:solidFill>
                <a:latin typeface="Calibri"/>
              </a:rPr>
              <a:t>Arcilla OC, </a:t>
            </a:r>
            <a:r>
              <a:rPr b="0" lang="es-CL" sz="1200" spc="-1" strike="noStrike">
                <a:solidFill>
                  <a:srgbClr val="0070c0"/>
                </a:solidFill>
                <a:latin typeface="Symbol"/>
                <a:ea typeface="Symbol"/>
              </a:rPr>
              <a:t></a:t>
            </a:r>
            <a:r>
              <a:rPr b="0" lang="es-CL" sz="800" spc="-1" strike="noStrike">
                <a:solidFill>
                  <a:srgbClr val="0070c0"/>
                </a:solidFill>
                <a:latin typeface="Symbol"/>
                <a:ea typeface="Symbol"/>
              </a:rPr>
              <a:t>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29 Forma libre"/>
          <p:cNvSpPr/>
          <p:nvPr/>
        </p:nvSpPr>
        <p:spPr>
          <a:xfrm>
            <a:off x="1763640" y="1197000"/>
            <a:ext cx="4969080" cy="4543560"/>
          </a:xfrm>
          <a:custGeom>
            <a:avLst/>
            <a:gdLst/>
            <a:ahLst/>
            <a:rect l="l" t="t" r="r" b="b"/>
            <a:pathLst>
              <a:path w="6257581" h="3756752">
                <a:moveTo>
                  <a:pt x="0" y="3756752"/>
                </a:moveTo>
                <a:cubicBezTo>
                  <a:pt x="132202" y="2796448"/>
                  <a:pt x="264404" y="1836145"/>
                  <a:pt x="627961" y="1266940"/>
                </a:cubicBezTo>
                <a:cubicBezTo>
                  <a:pt x="991518" y="697735"/>
                  <a:pt x="1243070" y="552680"/>
                  <a:pt x="2181340" y="341523"/>
                </a:cubicBezTo>
                <a:cubicBezTo>
                  <a:pt x="3119610" y="130366"/>
                  <a:pt x="4688595" y="65183"/>
                  <a:pt x="6257581" y="0"/>
                </a:cubicBezTo>
              </a:path>
            </a:pathLst>
          </a:cu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alibri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1835280" y="484200"/>
            <a:ext cx="5600520" cy="6373800"/>
          </a:xfrm>
          <a:prstGeom prst="rect">
            <a:avLst/>
          </a:prstGeom>
          <a:ln w="0">
            <a:noFill/>
          </a:ln>
        </p:spPr>
      </p:pic>
      <p:sp>
        <p:nvSpPr>
          <p:cNvPr id="210" name="5 CuadroTexto"/>
          <p:cNvSpPr/>
          <p:nvPr/>
        </p:nvSpPr>
        <p:spPr>
          <a:xfrm>
            <a:off x="971640" y="0"/>
            <a:ext cx="7561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Calibri"/>
              </a:rPr>
              <a:t>TENSIONES EFECTIVAS PARA UNA PRUEBA C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Calibri"/>
              </a:rPr>
              <a:t>PARA UNA PROBETA  DE ARCI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alibri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"/>
          <p:cNvPicPr/>
          <p:nvPr/>
        </p:nvPicPr>
        <p:blipFill>
          <a:blip r:embed="rId1"/>
          <a:stretch/>
        </p:blipFill>
        <p:spPr>
          <a:xfrm>
            <a:off x="-88920" y="692280"/>
            <a:ext cx="9232920" cy="5383080"/>
          </a:xfrm>
          <a:prstGeom prst="rect">
            <a:avLst/>
          </a:prstGeom>
          <a:ln w="0">
            <a:noFill/>
          </a:ln>
        </p:spPr>
      </p:pic>
      <p:sp>
        <p:nvSpPr>
          <p:cNvPr id="213" name="3 CuadroTexto"/>
          <p:cNvSpPr/>
          <p:nvPr/>
        </p:nvSpPr>
        <p:spPr>
          <a:xfrm>
            <a:off x="900000" y="333360"/>
            <a:ext cx="75596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Calibri"/>
              </a:rPr>
              <a:t>CONDICION SATURADA NO DRENAD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Calibri"/>
              </a:rPr>
              <a:t>PARA UNA PROBETA  DE ARCI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alibri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rcRect l="0" t="0" r="0" b="67885"/>
          <a:stretch/>
        </p:blipFill>
        <p:spPr>
          <a:xfrm>
            <a:off x="-541440" y="-112680"/>
            <a:ext cx="9923400" cy="7142040"/>
          </a:xfrm>
          <a:prstGeom prst="rect">
            <a:avLst/>
          </a:prstGeom>
          <a:ln w="0">
            <a:noFill/>
          </a:ln>
        </p:spPr>
      </p:pic>
      <p:sp>
        <p:nvSpPr>
          <p:cNvPr id="47" name="6 CuadroTexto"/>
          <p:cNvSpPr/>
          <p:nvPr/>
        </p:nvSpPr>
        <p:spPr>
          <a:xfrm>
            <a:off x="3635280" y="6550200"/>
            <a:ext cx="2664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DEFORMACION AXIAL 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6 CuadroTexto"/>
          <p:cNvSpPr/>
          <p:nvPr/>
        </p:nvSpPr>
        <p:spPr>
          <a:xfrm>
            <a:off x="1835280" y="5805360"/>
            <a:ext cx="6842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Calibri"/>
              </a:rPr>
              <a:t>EFECTO DE LA DENSIDAD EN EL COMPORTAMIENTO TESION – DEFORMACIÓN EN AREN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6 CuadroTexto"/>
          <p:cNvSpPr/>
          <p:nvPr/>
        </p:nvSpPr>
        <p:spPr>
          <a:xfrm>
            <a:off x="3708360" y="3645000"/>
            <a:ext cx="3600360" cy="45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ARENA SUEL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Calibri"/>
              </a:rPr>
              <a:t>(índice de vacios después de consolidación antes del cor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6 CuadroTexto"/>
          <p:cNvSpPr/>
          <p:nvPr/>
        </p:nvSpPr>
        <p:spPr>
          <a:xfrm>
            <a:off x="3276720" y="549360"/>
            <a:ext cx="3456000" cy="45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ARENA DEN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Calibri"/>
              </a:rPr>
              <a:t>(índice de vacios después de consolidación antes del cor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6 CuadroTexto"/>
          <p:cNvSpPr/>
          <p:nvPr/>
        </p:nvSpPr>
        <p:spPr>
          <a:xfrm>
            <a:off x="5724360" y="1844640"/>
            <a:ext cx="28814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PRESION DE CONFINAMIENTO CTE. E IGUAL A 2.1 kg/cm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5 CuadroTexto"/>
          <p:cNvSpPr/>
          <p:nvPr/>
        </p:nvSpPr>
        <p:spPr>
          <a:xfrm>
            <a:off x="1116000" y="-57240"/>
            <a:ext cx="7272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Calibri"/>
              </a:rPr>
              <a:t>ENSAYES CD EN AR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alibri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rcRect l="0" t="33869" r="0" b="34621"/>
          <a:stretch/>
        </p:blipFill>
        <p:spPr>
          <a:xfrm>
            <a:off x="-34920" y="260280"/>
            <a:ext cx="9575640" cy="6761160"/>
          </a:xfrm>
          <a:prstGeom prst="rect">
            <a:avLst/>
          </a:prstGeom>
          <a:ln w="0">
            <a:noFill/>
          </a:ln>
        </p:spPr>
      </p:pic>
      <p:sp>
        <p:nvSpPr>
          <p:cNvPr id="55" name="6 CuadroTexto"/>
          <p:cNvSpPr/>
          <p:nvPr/>
        </p:nvSpPr>
        <p:spPr>
          <a:xfrm>
            <a:off x="3995640" y="6093000"/>
            <a:ext cx="2664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DEFORMACION AXIAL 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5 CuadroTexto"/>
          <p:cNvSpPr/>
          <p:nvPr/>
        </p:nvSpPr>
        <p:spPr>
          <a:xfrm>
            <a:off x="1116000" y="-57240"/>
            <a:ext cx="7272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Calibri"/>
              </a:rPr>
              <a:t>ENSAYES CD EN AR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8 CuadroTexto"/>
          <p:cNvSpPr/>
          <p:nvPr/>
        </p:nvSpPr>
        <p:spPr>
          <a:xfrm>
            <a:off x="1835280" y="1052640"/>
            <a:ext cx="6840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Calibri"/>
              </a:rPr>
              <a:t>EFECTO DE LA DENSIDAD EN EL COMPORTAMIENTO TESION – DEFORMACIÓN EN AREN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6 CuadroTexto"/>
          <p:cNvSpPr/>
          <p:nvPr/>
        </p:nvSpPr>
        <p:spPr>
          <a:xfrm>
            <a:off x="4932360" y="2349360"/>
            <a:ext cx="3672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DILATANCIA DE LA MUESTRA DEN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6 CuadroTexto"/>
          <p:cNvSpPr/>
          <p:nvPr/>
        </p:nvSpPr>
        <p:spPr>
          <a:xfrm>
            <a:off x="4859280" y="4941720"/>
            <a:ext cx="3816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CONTRACCIÓN DE LA MUESTRA SUEL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alibri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rcRect l="0" t="64775" r="0" b="1292"/>
          <a:stretch/>
        </p:blipFill>
        <p:spPr>
          <a:xfrm>
            <a:off x="-36360" y="260280"/>
            <a:ext cx="8675640" cy="6597720"/>
          </a:xfrm>
          <a:prstGeom prst="rect">
            <a:avLst/>
          </a:prstGeom>
          <a:ln w="0">
            <a:noFill/>
          </a:ln>
        </p:spPr>
      </p:pic>
      <p:sp>
        <p:nvSpPr>
          <p:cNvPr id="62" name="6 CuadroTexto"/>
          <p:cNvSpPr/>
          <p:nvPr/>
        </p:nvSpPr>
        <p:spPr>
          <a:xfrm>
            <a:off x="0" y="1484280"/>
            <a:ext cx="12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es-CL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 = 0.8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7 CuadroTexto"/>
          <p:cNvSpPr/>
          <p:nvPr/>
        </p:nvSpPr>
        <p:spPr>
          <a:xfrm>
            <a:off x="0" y="5732640"/>
            <a:ext cx="1187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es-CL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 = 0.6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8 CuadroTexto"/>
          <p:cNvSpPr/>
          <p:nvPr/>
        </p:nvSpPr>
        <p:spPr>
          <a:xfrm>
            <a:off x="3995640" y="1268280"/>
            <a:ext cx="129708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9 CuadroTexto"/>
          <p:cNvSpPr/>
          <p:nvPr/>
        </p:nvSpPr>
        <p:spPr>
          <a:xfrm>
            <a:off x="4140360" y="3716280"/>
            <a:ext cx="129528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5 CuadroTexto"/>
          <p:cNvSpPr/>
          <p:nvPr/>
        </p:nvSpPr>
        <p:spPr>
          <a:xfrm>
            <a:off x="1116000" y="-57240"/>
            <a:ext cx="7272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Calibri"/>
              </a:rPr>
              <a:t>ENSAYES CD EN AR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11 CuadroTexto"/>
          <p:cNvSpPr/>
          <p:nvPr/>
        </p:nvSpPr>
        <p:spPr>
          <a:xfrm>
            <a:off x="3780000" y="5084640"/>
            <a:ext cx="51847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Calibri"/>
              </a:rPr>
              <a:t>EFECTO DE LA DENSIDAD EN EL COMPORTAMIENTO TESION – DEFORMACIÓN EN AREN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6 CuadroTexto"/>
          <p:cNvSpPr/>
          <p:nvPr/>
        </p:nvSpPr>
        <p:spPr>
          <a:xfrm>
            <a:off x="4140360" y="1052640"/>
            <a:ext cx="38876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PARA ALTAS DEFORMACIONES, EL INDICE DE VACIOS TIENDE A SER CONST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alibri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0" y="-171360"/>
            <a:ext cx="6983280" cy="10572840"/>
          </a:xfrm>
          <a:prstGeom prst="rect">
            <a:avLst/>
          </a:prstGeom>
          <a:ln w="0">
            <a:noFill/>
          </a:ln>
        </p:spPr>
      </p:pic>
      <p:sp>
        <p:nvSpPr>
          <p:cNvPr id="71" name="3 CuadroTexto"/>
          <p:cNvSpPr/>
          <p:nvPr/>
        </p:nvSpPr>
        <p:spPr>
          <a:xfrm>
            <a:off x="755640" y="333360"/>
            <a:ext cx="619272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Calibri"/>
              </a:rPr>
              <a:t>EFECTO DE LA PRESION DE CONFINAMIENTO EN EL COMPORTAMIENTO TENSION DEFORM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Calibri"/>
              </a:rPr>
              <a:t>ARE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4 Rectángulo"/>
          <p:cNvSpPr/>
          <p:nvPr/>
        </p:nvSpPr>
        <p:spPr>
          <a:xfrm>
            <a:off x="2556000" y="3500280"/>
            <a:ext cx="4103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5 CuadroTexto"/>
          <p:cNvSpPr/>
          <p:nvPr/>
        </p:nvSpPr>
        <p:spPr>
          <a:xfrm>
            <a:off x="1042920" y="5732640"/>
            <a:ext cx="4681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Calibri"/>
              </a:rPr>
              <a:t>ENSAYES CD EN AR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6"/>
              <p:cNvSpPr txBox="1"/>
              <p:nvPr/>
            </p:nvSpPr>
            <p:spPr>
              <a:xfrm>
                <a:off x="6843600" y="3284640"/>
                <a:ext cx="23004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: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o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: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o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cxnSp>
        <p:nvCxnSpPr>
          <p:cNvPr id="75" name="7 Conector recto de flecha"/>
          <p:cNvCxnSpPr/>
          <p:nvPr/>
        </p:nvCxnSpPr>
        <p:spPr>
          <a:xfrm flipH="1">
            <a:off x="1907280" y="1196640"/>
            <a:ext cx="2520" cy="3610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76" name="8 Conector recto de flecha"/>
          <p:cNvCxnSpPr/>
          <p:nvPr/>
        </p:nvCxnSpPr>
        <p:spPr>
          <a:xfrm flipH="1">
            <a:off x="2986920" y="1483920"/>
            <a:ext cx="2520" cy="35964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77" name="8 CuadroTexto"/>
          <p:cNvSpPr/>
          <p:nvPr/>
        </p:nvSpPr>
        <p:spPr>
          <a:xfrm>
            <a:off x="1843200" y="10526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70c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9 CuadroTexto"/>
          <p:cNvSpPr/>
          <p:nvPr/>
        </p:nvSpPr>
        <p:spPr>
          <a:xfrm>
            <a:off x="2706840" y="12682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70c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alibri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3 CuadroTexto"/>
          <p:cNvSpPr/>
          <p:nvPr/>
        </p:nvSpPr>
        <p:spPr>
          <a:xfrm>
            <a:off x="1116000" y="0"/>
            <a:ext cx="7272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Calibri"/>
              </a:rPr>
              <a:t>ENSAYES TRIAXIALES DRENADOS EN AR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4 CuadroTexto"/>
          <p:cNvSpPr/>
          <p:nvPr/>
        </p:nvSpPr>
        <p:spPr>
          <a:xfrm>
            <a:off x="4643280" y="1413000"/>
            <a:ext cx="3311640" cy="11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Calibri"/>
              </a:rPr>
              <a:t>EFECTO DE LA PRESION DE CONFINAMIENTO EN EL COMPORTAMIENTO TENSION DEFORM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Calibri"/>
              </a:rPr>
              <a:t>ARENAS SUEL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5 CuadroTexto"/>
          <p:cNvSpPr/>
          <p:nvPr/>
        </p:nvSpPr>
        <p:spPr>
          <a:xfrm>
            <a:off x="6300720" y="3573360"/>
            <a:ext cx="1079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0000"/>
                </a:solidFill>
                <a:latin typeface="Calibri"/>
              </a:rPr>
              <a:t>Dilat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6 CuadroTexto"/>
          <p:cNvSpPr/>
          <p:nvPr/>
        </p:nvSpPr>
        <p:spPr>
          <a:xfrm>
            <a:off x="6300720" y="3933720"/>
            <a:ext cx="1224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0000"/>
                </a:solidFill>
                <a:latin typeface="Calibri"/>
              </a:rPr>
              <a:t>Compres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7 CuadroTexto"/>
          <p:cNvSpPr/>
          <p:nvPr/>
        </p:nvSpPr>
        <p:spPr>
          <a:xfrm rot="16200000">
            <a:off x="476280" y="1547280"/>
            <a:ext cx="2160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Índice esfuerzo Princip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alibri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5040360" cy="6710400"/>
          </a:xfrm>
          <a:prstGeom prst="rect">
            <a:avLst/>
          </a:prstGeom>
          <a:ln w="0">
            <a:noFill/>
          </a:ln>
        </p:spPr>
      </p:pic>
      <p:sp>
        <p:nvSpPr>
          <p:cNvPr id="88" name="5 CuadroTexto"/>
          <p:cNvSpPr/>
          <p:nvPr/>
        </p:nvSpPr>
        <p:spPr>
          <a:xfrm>
            <a:off x="1116000" y="-57240"/>
            <a:ext cx="7272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Calibri"/>
              </a:rPr>
              <a:t>ENSAYES TRIAXIALES DRENADOS EN AR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6 CuadroTexto"/>
          <p:cNvSpPr/>
          <p:nvPr/>
        </p:nvSpPr>
        <p:spPr>
          <a:xfrm>
            <a:off x="5076720" y="404640"/>
            <a:ext cx="381636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Calibri"/>
              </a:rPr>
              <a:t>EFECTO DE LA PRESION DE CONFINAMIENTO EN COMPORTAMIENTO TENSION DEFORMAC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Calibri"/>
              </a:rPr>
              <a:t>ARENAS DENS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7 CuadroTexto"/>
          <p:cNvSpPr/>
          <p:nvPr/>
        </p:nvSpPr>
        <p:spPr>
          <a:xfrm>
            <a:off x="5435640" y="4581360"/>
            <a:ext cx="1081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0000"/>
                </a:solidFill>
                <a:latin typeface="Calibri"/>
              </a:rPr>
              <a:t>Dilat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8 CuadroTexto"/>
          <p:cNvSpPr/>
          <p:nvPr/>
        </p:nvSpPr>
        <p:spPr>
          <a:xfrm>
            <a:off x="5364000" y="4941720"/>
            <a:ext cx="1224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0000"/>
                </a:solidFill>
                <a:latin typeface="Calibri"/>
              </a:rPr>
              <a:t>Compres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9 CuadroTexto"/>
          <p:cNvSpPr/>
          <p:nvPr/>
        </p:nvSpPr>
        <p:spPr>
          <a:xfrm rot="16200000">
            <a:off x="837360" y="1690920"/>
            <a:ext cx="2159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Índice esfuerzo Princip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alibri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9 CuadroTexto"/>
          <p:cNvSpPr/>
          <p:nvPr/>
        </p:nvSpPr>
        <p:spPr>
          <a:xfrm>
            <a:off x="4140360" y="1916280"/>
            <a:ext cx="47512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COMPORTAMIENTO DE ARE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EN CONDICIÓN DRE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20 Grupo"/>
          <p:cNvGrpSpPr/>
          <p:nvPr/>
        </p:nvGrpSpPr>
        <p:grpSpPr>
          <a:xfrm>
            <a:off x="1332000" y="260280"/>
            <a:ext cx="6834960" cy="5913720"/>
            <a:chOff x="1332000" y="260280"/>
            <a:chExt cx="6834960" cy="5913720"/>
          </a:xfrm>
        </p:grpSpPr>
        <p:sp>
          <p:nvSpPr>
            <p:cNvPr id="96" name="2 CuadroTexto"/>
            <p:cNvSpPr/>
            <p:nvPr/>
          </p:nvSpPr>
          <p:spPr>
            <a:xfrm>
              <a:off x="1549080" y="260280"/>
              <a:ext cx="134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Calibri"/>
                </a:rPr>
                <a:t>En resumen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" name="4 Conector recto de flecha"/>
            <p:cNvCxnSpPr/>
            <p:nvPr/>
          </p:nvCxnSpPr>
          <p:spPr>
            <a:xfrm flipV="1">
              <a:off x="1763640" y="691560"/>
              <a:ext cx="2160" cy="504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8" name="7 Conector recto de flecha"/>
            <p:cNvCxnSpPr/>
            <p:nvPr/>
          </p:nvCxnSpPr>
          <p:spPr>
            <a:xfrm flipV="1">
              <a:off x="1763640" y="5732280"/>
              <a:ext cx="640152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9" name="12 Forma libre"/>
            <p:cNvSpPr/>
            <p:nvPr/>
          </p:nvSpPr>
          <p:spPr>
            <a:xfrm>
              <a:off x="1773000" y="3402000"/>
              <a:ext cx="4362480" cy="2327400"/>
            </a:xfrm>
            <a:custGeom>
              <a:avLst/>
              <a:gdLst/>
              <a:ahLst/>
              <a:rect l="l" t="t" r="r" b="b"/>
              <a:pathLst>
                <a:path w="4362679" h="2326395">
                  <a:moveTo>
                    <a:pt x="0" y="2326395"/>
                  </a:moveTo>
                  <a:cubicBezTo>
                    <a:pt x="98234" y="1396387"/>
                    <a:pt x="196468" y="466380"/>
                    <a:pt x="506776" y="233190"/>
                  </a:cubicBezTo>
                  <a:cubicBezTo>
                    <a:pt x="817084" y="0"/>
                    <a:pt x="1219199" y="784034"/>
                    <a:pt x="1861850" y="927253"/>
                  </a:cubicBezTo>
                  <a:cubicBezTo>
                    <a:pt x="2504501" y="1070472"/>
                    <a:pt x="4362679" y="1092506"/>
                    <a:pt x="4362679" y="1092506"/>
                  </a:cubicBezTo>
                  <a:lnTo>
                    <a:pt x="4362679" y="1092506"/>
                  </a:lnTo>
                </a:path>
              </a:pathLst>
            </a:custGeom>
            <a:noFill/>
            <a:ln w="93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13 Forma libre"/>
            <p:cNvSpPr/>
            <p:nvPr/>
          </p:nvSpPr>
          <p:spPr>
            <a:xfrm>
              <a:off x="1773000" y="4508640"/>
              <a:ext cx="4406760" cy="1220760"/>
            </a:xfrm>
            <a:custGeom>
              <a:avLst/>
              <a:gdLst/>
              <a:ahLst/>
              <a:rect l="l" t="t" r="r" b="b"/>
              <a:pathLst>
                <a:path w="4406747" h="1288974">
                  <a:moveTo>
                    <a:pt x="0" y="1288974"/>
                  </a:moveTo>
                  <a:cubicBezTo>
                    <a:pt x="50494" y="875841"/>
                    <a:pt x="100988" y="462709"/>
                    <a:pt x="462708" y="253389"/>
                  </a:cubicBezTo>
                  <a:cubicBezTo>
                    <a:pt x="824428" y="44069"/>
                    <a:pt x="1512983" y="66102"/>
                    <a:pt x="2170323" y="33051"/>
                  </a:cubicBezTo>
                  <a:cubicBezTo>
                    <a:pt x="2827663" y="0"/>
                    <a:pt x="3617205" y="27542"/>
                    <a:pt x="4406747" y="55085"/>
                  </a:cubicBezTo>
                </a:path>
              </a:pathLst>
            </a:cu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14 CuadroTexto"/>
            <p:cNvSpPr/>
            <p:nvPr/>
          </p:nvSpPr>
          <p:spPr>
            <a:xfrm>
              <a:off x="2466360" y="4221360"/>
              <a:ext cx="1226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b050"/>
                  </a:solidFill>
                  <a:latin typeface="Calibri"/>
                </a:rPr>
                <a:t>Arena densa, </a:t>
              </a:r>
              <a:r>
                <a:rPr b="0" lang="es-CL" sz="1200" spc="-1" strike="noStrike">
                  <a:solidFill>
                    <a:srgbClr val="00b050"/>
                  </a:solidFill>
                  <a:latin typeface="Symbol"/>
                  <a:ea typeface="Symbol"/>
                </a:rPr>
                <a:t></a:t>
              </a:r>
              <a:r>
                <a:rPr b="0" lang="es-CL" sz="800" spc="-1" strike="noStrike">
                  <a:solidFill>
                    <a:srgbClr val="00b050"/>
                  </a:solidFill>
                  <a:latin typeface="Symbol"/>
                  <a:ea typeface="Symbol"/>
                </a:rPr>
                <a:t>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15 CuadroTexto"/>
            <p:cNvSpPr/>
            <p:nvPr/>
          </p:nvSpPr>
          <p:spPr>
            <a:xfrm>
              <a:off x="3132000" y="981000"/>
              <a:ext cx="4321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ff0000"/>
                  </a:solidFill>
                  <a:latin typeface="Calibri"/>
                </a:rPr>
                <a:t>Arena densa o suelta ensayada a elevada presión de confinamiento, &gt; </a:t>
              </a:r>
              <a:r>
                <a:rPr b="0" lang="es-CL" sz="1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</a:t>
              </a:r>
              <a:r>
                <a:rPr b="0" lang="es-CL" sz="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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16 CuadroTexto"/>
            <p:cNvSpPr/>
            <p:nvPr/>
          </p:nvSpPr>
          <p:spPr>
            <a:xfrm>
              <a:off x="3058920" y="4581720"/>
              <a:ext cx="144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70c0"/>
                  </a:solidFill>
                  <a:latin typeface="Calibri"/>
                </a:rPr>
                <a:t>Arena suelta, </a:t>
              </a:r>
              <a:r>
                <a:rPr b="0" lang="es-CL" sz="12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r>
                <a:rPr b="0" lang="es-CL" sz="7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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17 CuadroTexto"/>
            <p:cNvSpPr/>
            <p:nvPr/>
          </p:nvSpPr>
          <p:spPr>
            <a:xfrm rot="16200000">
              <a:off x="1136160" y="1492560"/>
              <a:ext cx="75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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18 CuadroTexto"/>
            <p:cNvSpPr/>
            <p:nvPr/>
          </p:nvSpPr>
          <p:spPr>
            <a:xfrm>
              <a:off x="7887240" y="5805720"/>
              <a:ext cx="27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18 Forma libre"/>
            <p:cNvSpPr/>
            <p:nvPr/>
          </p:nvSpPr>
          <p:spPr>
            <a:xfrm>
              <a:off x="1763640" y="3141720"/>
              <a:ext cx="5684760" cy="2595600"/>
            </a:xfrm>
            <a:custGeom>
              <a:avLst/>
              <a:gdLst/>
              <a:ahLst/>
              <a:rect l="l" t="t" r="r" b="b"/>
              <a:pathLst>
                <a:path w="5684703" h="5394592">
                  <a:moveTo>
                    <a:pt x="0" y="5394592"/>
                  </a:moveTo>
                  <a:cubicBezTo>
                    <a:pt x="73446" y="3910987"/>
                    <a:pt x="146892" y="2427382"/>
                    <a:pt x="661012" y="1571739"/>
                  </a:cubicBezTo>
                  <a:cubicBezTo>
                    <a:pt x="1175132" y="716096"/>
                    <a:pt x="2247441" y="521464"/>
                    <a:pt x="3084723" y="260732"/>
                  </a:cubicBezTo>
                  <a:cubicBezTo>
                    <a:pt x="3922005" y="0"/>
                    <a:pt x="4803354" y="3672"/>
                    <a:pt x="5684703" y="7344"/>
                  </a:cubicBezTo>
                </a:path>
              </a:pathLst>
            </a:cu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22 Forma libre"/>
            <p:cNvSpPr/>
            <p:nvPr/>
          </p:nvSpPr>
          <p:spPr>
            <a:xfrm>
              <a:off x="1751040" y="2343240"/>
              <a:ext cx="6392880" cy="3408480"/>
            </a:xfrm>
            <a:custGeom>
              <a:avLst/>
              <a:gdLst/>
              <a:ahLst/>
              <a:rect l="l" t="t" r="r" b="b"/>
              <a:pathLst>
                <a:path w="6391619" h="3407885">
                  <a:moveTo>
                    <a:pt x="0" y="3407885"/>
                  </a:moveTo>
                  <a:cubicBezTo>
                    <a:pt x="179942" y="2159306"/>
                    <a:pt x="359884" y="910728"/>
                    <a:pt x="738130" y="455364"/>
                  </a:cubicBezTo>
                  <a:cubicBezTo>
                    <a:pt x="1116376" y="0"/>
                    <a:pt x="1439538" y="620618"/>
                    <a:pt x="2269475" y="675702"/>
                  </a:cubicBezTo>
                  <a:cubicBezTo>
                    <a:pt x="3099412" y="730786"/>
                    <a:pt x="5043889" y="765673"/>
                    <a:pt x="5717754" y="785870"/>
                  </a:cubicBezTo>
                  <a:cubicBezTo>
                    <a:pt x="6391619" y="806067"/>
                    <a:pt x="6352142" y="801477"/>
                    <a:pt x="6312665" y="796887"/>
                  </a:cubicBezTo>
                </a:path>
              </a:pathLst>
            </a:custGeom>
            <a:noFill/>
            <a:ln w="93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16 CuadroTexto"/>
            <p:cNvSpPr/>
            <p:nvPr/>
          </p:nvSpPr>
          <p:spPr>
            <a:xfrm>
              <a:off x="3708360" y="3357720"/>
              <a:ext cx="136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70c0"/>
                  </a:solidFill>
                  <a:latin typeface="Calibri"/>
                </a:rPr>
                <a:t>Arena suelta, </a:t>
              </a:r>
              <a:r>
                <a:rPr b="0" lang="es-CL" sz="12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r>
                <a:rPr b="0" lang="es-CL" sz="7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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14 CuadroTexto"/>
            <p:cNvSpPr/>
            <p:nvPr/>
          </p:nvSpPr>
          <p:spPr>
            <a:xfrm>
              <a:off x="2843280" y="2924280"/>
              <a:ext cx="180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b050"/>
                  </a:solidFill>
                  <a:latin typeface="Calibri"/>
                </a:rPr>
                <a:t>Arena densa, </a:t>
              </a:r>
              <a:r>
                <a:rPr b="0" lang="es-CL" sz="1200" spc="-1" strike="noStrike">
                  <a:solidFill>
                    <a:srgbClr val="00b050"/>
                  </a:solidFill>
                  <a:latin typeface="Symbol"/>
                  <a:ea typeface="Symbol"/>
                </a:rPr>
                <a:t></a:t>
              </a:r>
              <a:r>
                <a:rPr b="0" lang="es-CL" sz="800" spc="-1" strike="noStrike">
                  <a:solidFill>
                    <a:srgbClr val="00b050"/>
                  </a:solidFill>
                  <a:latin typeface="Symbol"/>
                  <a:ea typeface="Symbol"/>
                </a:rPr>
                <a:t>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29 Forma libre"/>
            <p:cNvSpPr/>
            <p:nvPr/>
          </p:nvSpPr>
          <p:spPr>
            <a:xfrm>
              <a:off x="1762200" y="1125360"/>
              <a:ext cx="6257880" cy="4615200"/>
            </a:xfrm>
            <a:custGeom>
              <a:avLst/>
              <a:gdLst/>
              <a:ahLst/>
              <a:rect l="l" t="t" r="r" b="b"/>
              <a:pathLst>
                <a:path w="6257581" h="3756752">
                  <a:moveTo>
                    <a:pt x="0" y="3756752"/>
                  </a:moveTo>
                  <a:cubicBezTo>
                    <a:pt x="132202" y="2796448"/>
                    <a:pt x="264404" y="1836145"/>
                    <a:pt x="627961" y="1266940"/>
                  </a:cubicBezTo>
                  <a:cubicBezTo>
                    <a:pt x="991518" y="697735"/>
                    <a:pt x="1243070" y="552680"/>
                    <a:pt x="2181340" y="341523"/>
                  </a:cubicBezTo>
                  <a:cubicBezTo>
                    <a:pt x="3119610" y="130366"/>
                    <a:pt x="4688595" y="65183"/>
                    <a:pt x="6257581" y="0"/>
                  </a:cubicBezTo>
                </a:path>
              </a:pathLst>
            </a:custGeom>
            <a:noFill/>
            <a:ln w="93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13:13:46Z</dcterms:created>
  <dc:creator>magonzalez</dc:creator>
  <dc:description/>
  <dc:language>en-US</dc:language>
  <cp:lastModifiedBy>magonzalez</cp:lastModifiedBy>
  <dcterms:modified xsi:type="dcterms:W3CDTF">2011-05-04T17:38:48Z</dcterms:modified>
  <cp:revision>24</cp:revision>
  <dc:subject/>
  <dc:title>Diapositiva 1</dc:title>
</cp:coreProperties>
</file>