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CCFF-9CA0-41BD-857F-40BE49DCE8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D09D-02D7-447A-9A77-675F9ACD7B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FCDC-EFEB-4F00-9DF0-2A9862EE40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1A8C-81CF-49E4-AC38-0A8547F78E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C10-304D-48CA-B60F-63DC1857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8F9-BFEE-4AA5-867B-295CFBAC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DAE-13E2-4B51-859F-6F91BE9C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F99-2E2D-4D4F-A767-6373E328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EF8-C7EE-4E29-AE03-D10379DC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D57-B271-4AD0-988D-A0A1A44A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24A-C802-4AC2-BD7E-0D96EEAF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BD4-27A2-4033-8E73-794AF47B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DE2-9C4E-40EF-A607-565B563E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FFF-BE23-4DA5-972E-06ACC53D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B6F-2952-4C9E-B749-C6CE179E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D8A-19D4-4ADE-8A50-1CC3AF3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1104-32CB-4866-AC16-082E8C303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61880" y="480960"/>
          <a:ext cx="83185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185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3-31T17:00:05Z</dcterms:modified>
  <cp:revision>72</cp:revision>
  <dc:subject/>
  <dc:title>Sin título de diapositiva</dc:title>
</cp:coreProperties>
</file>