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F1A1-7AE4-4FEC-9901-482925D8BAF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532B-66A1-4AC3-892E-874E95092A8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F47C-6981-465F-9940-765939B818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D521-DDF4-4D5E-B31A-DD3CA13CD8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9BD-3D3B-444D-9927-B02E995C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101-1F17-47B4-84CB-2B39ED4C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624-0F28-475E-AE98-E3D65AF1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D12-0DC7-4668-B00F-B6D6340D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C7BA-6506-42EB-87B4-422BD8B5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E16-5704-48D1-BD6A-81CAAC73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657E-9A86-42BF-8719-5930E928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A64-9838-408B-B5A9-093C068B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7FCD-18EA-4655-937E-F89404C0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D4AA-E887-4557-953D-5544A04C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4FEC-4BAA-4753-A02E-23C6F066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ECD9-BCB9-4395-9C2E-71C5FCF2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B624-790B-40C1-AF2A-D7D265E9A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471600" y="406440"/>
          <a:ext cx="790560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0560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5"/>
          <p:cNvGraphicFramePr/>
          <p:nvPr/>
        </p:nvGraphicFramePr>
        <p:xfrm>
          <a:off x="396720" y="258840"/>
          <a:ext cx="8386920" cy="638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720" y="258840"/>
                    <a:ext cx="83869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471600" y="406440"/>
          <a:ext cx="8099280" cy="66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8099280" cy="66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71600" y="415800"/>
          <a:ext cx="8256600" cy="65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15800"/>
                    <a:ext cx="82566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71600" y="406440"/>
          <a:ext cx="7886520" cy="71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86520" cy="71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471600" y="406440"/>
          <a:ext cx="7988040" cy="72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88040" cy="72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461880" y="480960"/>
          <a:ext cx="8318520" cy="665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480960"/>
                    <a:ext cx="8318520" cy="665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609480" y="415800"/>
          <a:ext cx="814716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5800"/>
                    <a:ext cx="814716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831960" y="573120"/>
          <a:ext cx="8053200" cy="56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573120"/>
                    <a:ext cx="805320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295200" y="369720"/>
          <a:ext cx="8756640" cy="628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369720"/>
                    <a:ext cx="8756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471600" y="379440"/>
          <a:ext cx="834840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79440"/>
                    <a:ext cx="834840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757080" y="831960"/>
          <a:ext cx="781380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831960"/>
                    <a:ext cx="781380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684360" y="415800"/>
          <a:ext cx="8229600" cy="68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296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684360" y="415800"/>
          <a:ext cx="821052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1052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71600" y="406440"/>
          <a:ext cx="78786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786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11-03-31T17:00:05Z</dcterms:modified>
  <cp:revision>72</cp:revision>
  <dc:subject/>
  <dc:title>Sin título de diapositiva</dc:title>
</cp:coreProperties>
</file>