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161E-32A8-47AB-8056-6AC0293AB6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5067-0DD7-4D12-AA84-E5F778A54B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08C6-8C24-444F-813D-43E8B59BCD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5156-556A-471D-B191-94C9DA8C0A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421-F7E5-48D7-8CA2-75C1BE66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722-0AAC-4D10-B235-7D04B5FC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0DC-D79F-4016-953B-F0B20371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586-FE25-447E-A133-C8F75B4D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0D5-4051-4457-B66A-E0E1A6E9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917-F209-444A-B6DE-3B1132E0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1F1-9EBE-4787-838F-1B6BCA15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35F-F09B-4401-9866-9D987535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486-6535-4EF7-A2F5-20D9FF28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70C-0CA6-44D0-B44D-8FCC7310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B29-7920-42A2-865D-EEA511E8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4E7-C5C1-41B6-8C6A-9AFD0E2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E10D-AA4D-4DF0-8FCA-127659913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61880" y="480960"/>
          <a:ext cx="8318520" cy="665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18520" cy="66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3-31T17:00:05Z</dcterms:modified>
  <cp:revision>72</cp:revision>
  <dc:subject/>
  <dc:title>Sin título de diapositiva</dc:title>
</cp:coreProperties>
</file>