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B4F-E02B-437F-9462-333ED8E6F4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0927-1C33-4C15-B03F-FCA4913477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94CF-8EBC-4392-A978-53874068D0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2041-AC91-4400-A5AC-0CBB35DBD5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094-E477-43F1-ACD9-E3B779E3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400-CD80-4D55-A03C-71852A79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D60-993C-4CCF-80BB-2062C6EF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377-D443-4589-999E-6C14D582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62B-DA08-44C7-94F0-9405BDA8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86E-37C7-44FB-A2CF-B6663FC6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076-0B28-4282-9196-3379D25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B1D-CECD-4B6E-861A-981A833C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A0D-A81F-47E6-BD66-B4B067D1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9DA-DE59-46AA-B99C-FB316CE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6AE-5CD2-45F7-ACAF-C596986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F34-5307-48C9-8890-5284D13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E25F-D8A9-4F4C-B086-73593DA9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3-31T17:00:05Z</dcterms:modified>
  <cp:revision>72</cp:revision>
  <dc:subject/>
  <dc:title>Sin título de diapositiva</dc:title>
</cp:coreProperties>
</file>