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4406-F73E-4520-ACF1-95141B931A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7582-E09D-434E-A3A3-D3996BB581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70C-285F-4E1A-98D7-DA9211E6BE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E80-9A77-45E4-9FCC-3286496943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779-2ACE-4CF5-BD5C-CDDAEA6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5ED-D92F-4ACE-AD89-36E4F77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C3F-12C4-46B5-9BF7-1C4FFCA2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956-FFEF-4120-A289-287E4710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B03-03A7-4ABE-A8A8-D7D46B9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8D1-8662-4EB7-987E-4A09F6D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0D8-B461-44B1-9253-12F1AB96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DF2-575E-4F74-8AAF-CD5B3F28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6B1-D952-4CDE-81E8-F61AE21A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BDA-EDA8-45F5-AF1A-B77CDD9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E36-776C-407B-AFED-9D43FA6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711-D151-4D9B-AA2C-01B99A9D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CBC-C406-4ABA-A34C-DF0BC30A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471600" y="406440"/>
          <a:ext cx="79056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056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396720" y="258840"/>
          <a:ext cx="8386920" cy="638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720" y="258840"/>
                    <a:ext cx="838692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71600" y="406440"/>
          <a:ext cx="8099280" cy="66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8099280" cy="66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71600" y="415800"/>
          <a:ext cx="8256600" cy="651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15800"/>
                    <a:ext cx="82566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71600" y="406440"/>
          <a:ext cx="7886520" cy="71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86520" cy="71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71600" y="406440"/>
          <a:ext cx="7988040" cy="72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988040" cy="72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61880" y="480960"/>
          <a:ext cx="8318520" cy="665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480960"/>
                    <a:ext cx="8318520" cy="665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09480" y="415800"/>
          <a:ext cx="8147160" cy="636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5800"/>
                    <a:ext cx="8147160" cy="636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831960" y="573120"/>
          <a:ext cx="8053200" cy="56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573120"/>
                    <a:ext cx="80532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295200" y="369720"/>
          <a:ext cx="8756640" cy="628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69720"/>
                    <a:ext cx="8756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71600" y="379440"/>
          <a:ext cx="8348400" cy="646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79440"/>
                    <a:ext cx="8348400" cy="64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757080" y="831960"/>
          <a:ext cx="7813800" cy="543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831960"/>
                    <a:ext cx="7813800" cy="54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84360" y="415800"/>
          <a:ext cx="8229600" cy="68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684360" y="415800"/>
          <a:ext cx="821052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15800"/>
                    <a:ext cx="821052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71600" y="406440"/>
          <a:ext cx="78786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06440"/>
                    <a:ext cx="78786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11-03-31T17:00:05Z</dcterms:modified>
  <cp:revision>72</cp:revision>
  <dc:subject/>
  <dc:title>Sin título de diapositiva</dc:title>
</cp:coreProperties>
</file>