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FF47-6113-4276-B218-5C51B446A9F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C6BBA-8FDF-4ECE-BF90-87EAE8EFAE2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1B7D-B88B-415C-B095-76C119C3253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5E8B-8B80-42A1-89CD-2C2878C0F1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EDFBE-FC01-44B8-9FF0-D3E674CE079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746D-F992-4AA1-9CF6-BD6BB971EBF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188D8-EF16-4524-B859-BE08E744006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AF35-DDAD-4EFB-BE28-65C9E115521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BB1C-6D5A-45A7-8A32-9FA18E6CEE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9A0-21A9-42C1-A87E-A2E72F6FD4F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12C-6A2D-457E-918B-CEBD3FF2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5AE-0843-4133-8282-2C3C7A32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771-27B5-4104-9A34-3C74FD12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2B4-84C0-4915-88E2-F49AA166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DB0F-E336-4CC7-A87A-1E7CBA70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29E2-E6AC-4394-852A-9A046031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47A7-64BF-4440-8E13-E959650B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C04E-3917-4F3C-A683-3818E3E4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C95B-846F-4B72-B1F0-1A22017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6E1D-C26C-4B67-B4A1-A6B792F6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824-118B-4B5A-A70C-385D19FE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D441-7323-4674-A37E-229A32B5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FA2E-6017-483F-B1CA-B1D989D9D1A6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nstrucción 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instrucción whil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52600" y="190440"/>
          <a:ext cx="819144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90440"/>
                    <a:ext cx="81914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 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95280" y="115920"/>
          <a:ext cx="795348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5348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21816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probando sólo con im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==2: return True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False #otro par no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x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i=3,5,…,x-1 (imp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probando hasta raí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 hay divisor &gt; también hay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x==2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=int(math.sqrt(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#i=3,5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569080" cy="64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factoria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actorial(x-1)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#recu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10: retur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tencia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==0: retur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tencia(x,y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%2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 *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 * p *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+1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,y-1)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números de fibonacci: 0,1,1,2,3,5,8,13,21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): #i-ésimo n° de fibona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i&lt;=2: return 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C(x,y)=C(x-1,y)+C(x-1,y-1); C(x,x)=C(x,0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x==y or y==0:  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) 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380880"/>
          <a:ext cx="845820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237960" y="933480"/>
          <a:ext cx="8610840" cy="62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33480"/>
                    <a:ext cx="861084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438120" y="276120"/>
          <a:ext cx="7686720" cy="68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76120"/>
                    <a:ext cx="76867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c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179280" y="260280"/>
            <a:ext cx="8964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,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1 or m==3 or m==5 or m==7 \#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m==8 or m==10 or m==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4 or m==6 or m==9 or m==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bisiesto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 #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de 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%400==0:   #si es divisible por 4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100==0: #si es divisible por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4==0:   #si es divisible po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         #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00==0 or x%100!=0 and x%4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and x%100!=0 or x%40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3-30T10:20:52Z</dcterms:modified>
  <cp:revision>202</cp:revision>
  <dc:subject/>
  <dc:title>Diapositiva 1</dc:title>
</cp:coreProperties>
</file>