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02AD-6AA5-4A9E-B010-6BF1DBDA1B4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1865-545A-46D1-9CEC-EB882350046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C2BD-73D3-4949-AD1B-5FA3F259A39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88C02-DA62-4796-A038-F3D47C785DF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62CE-AF75-461E-8B5A-CF4E28B4678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8D47-2CA4-4339-9820-053AB1DBBAA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46E0-D618-4176-9997-183D46AAB18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BA92-037C-4164-BB2F-DDE17731246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CA74-35F6-4FB3-B9A3-800F0B29FA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ase 9: Repaso/Resu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0" y="883116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J.Alvare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8805-D1CB-404D-B7A5-8CA282C3473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34560" y="4414680"/>
            <a:ext cx="51404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F507-338A-4104-972C-37BAE536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F3CD-94E8-4C1A-B327-948216BE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DACE-D037-48BA-8E3D-06626270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DC85-5B53-4D6D-A60A-043563E3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8A77-67BB-4D65-8ED8-B8D986EC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B37A-3EB6-4E4F-8ED9-4419BD7F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DD3-ECD5-4908-B068-AD7AF826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0372-9DED-435A-822B-33317BDE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8AE-FF2C-49C2-8752-28505FA6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E90C-4049-4D19-9441-78A7D595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FBD-0E3F-40D3-B18A-A3B13406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B7FA-C7FD-4DFD-B5CA-E2C64D38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J.Alvare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C4A8-7FE7-4BCE-A19B-308740F709BD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457200" y="274680"/>
            <a:ext cx="830592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Repaso/resu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468360" y="836640"/>
            <a:ext cx="82947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lectura/escritura y asig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fun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selección de instrucciones (instrucción if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petición de instrucciones (instrucción while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Times New Roman"/>
              </a:rPr>
              <a:t>recurs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552600" y="190440"/>
          <a:ext cx="8191440" cy="63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2600" y="190440"/>
                    <a:ext cx="8191440" cy="63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978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Instrucción wh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692280"/>
            <a:ext cx="874872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celsius - fahrenh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&lt;=4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,”ºC =“,9.0/5.0*g+32,”ºF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=g+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tabla grados – funcion se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&lt;=36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dianes=math.pi*grados/18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grados,radianes,math.sin(radia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grados=grados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179280" y="274680"/>
            <a:ext cx="878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atrones (esquemas) para proceso de li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179280" y="1413000"/>
            <a:ext cx="8640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inicializar             #inicializ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mayor=0;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mayor=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1º                 #repetir siemp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repetir mientras          #le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n!=0: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n=input(“nº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procesar                #condición de térm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n&gt;mayor: mayor=n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if n==0: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leer sgte              #proce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n=input(“nº?”)           mayor=max(mayor,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finalizar               #finalizar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mayor      print “mayor=“,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4"/>
          <p:cNvGraphicFramePr/>
          <p:nvPr/>
        </p:nvGraphicFramePr>
        <p:xfrm>
          <a:off x="395280" y="115920"/>
          <a:ext cx="7953480" cy="65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5920"/>
                    <a:ext cx="795348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4"/>
          <p:cNvGraphicFramePr/>
          <p:nvPr/>
        </p:nvGraphicFramePr>
        <p:xfrm>
          <a:off x="542880" y="476280"/>
          <a:ext cx="7953480" cy="6581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476280"/>
                    <a:ext cx="7953480" cy="65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50920" y="218160"/>
            <a:ext cx="8893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probando sólo con imp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==2: return True #2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2==0: return False #otro par no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3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i&lt;x: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#i=3,5,…,x-1 (imp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i==0: return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probando hasta raíz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i hay divisor &gt; también hay &l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o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x):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2==0: return x==2 #2 es pr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i&lt;=int(math.sqrt(x)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#i=3,5,…,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%i==0: return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=i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1 Rectángulo"/>
          <p:cNvSpPr/>
          <p:nvPr/>
        </p:nvSpPr>
        <p:spPr>
          <a:xfrm>
            <a:off x="250920" y="189000"/>
            <a:ext cx="8569080" cy="64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factoria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=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#caso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x*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factorial(x-1)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#recu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ef digitos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if x&lt;10: retur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Courier New"/>
              </a:rPr>
              <a:t>return 1 + </a:t>
            </a:r>
            <a:r>
              <a:rPr b="1" lang="es-CL" sz="2400" spc="-1" strike="noStrike">
                <a:solidFill>
                  <a:srgbClr val="000000"/>
                </a:solidFill>
                <a:latin typeface="Courier New"/>
              </a:rPr>
              <a:t>digitos(x/1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potencia(x,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==0: return 1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otencia(x,y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y%2==0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p *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 * p * 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Recur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suma(x,y): x + (x+1) + …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&gt;y: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(x+1,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suma(x,y): x + (x+1) + …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&gt;y: 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a(x,y-1) </a:t>
            </a:r>
            <a:r>
              <a:rPr b="0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números de fibonacci: 0,1,1,2,3,5,8,13,21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): #i-ésimo n° de fibonac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 i&lt;=2: return i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-1)+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fibonacci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i-2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#C(x,y)=C(x-1,y)+C(x-1,y-1); C(x,x)=C(x,0)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x==y or y==0:  retur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-1,y) +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combinaciones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-1,y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324000" y="0"/>
            <a:ext cx="8362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cedimientos (no devuelven resultado) recurs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250920" y="765000"/>
            <a:ext cx="889308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misterio(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=input(“nº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if n==0: 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misterio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prin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¿Qué hace misterio() con los sgtes da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Arial"/>
              </a:rPr>
              <a:t>nº?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457200" y="380880"/>
          <a:ext cx="8458200" cy="652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4582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%: operador de resto de di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179280" y="1125360"/>
            <a:ext cx="8964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#invertir entero de 3 dígi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=input(“Nº 3 dígitos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1=n/100;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3=n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2=n%100/10 #d2=n/10%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“inverso=”,100*d3+10*d2+d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</a:rPr>
              <a:t>#cajero autom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d=input(“¿Cuánto dinero necesita?”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</a:rPr>
              <a:t>print d/20000,”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 $20.000”; d=d%2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0,”de $10.000”; d=d%1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5000,”de $5.000”); d=d%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2000,”de $2.000”); d=d%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d/1000,”de $1.000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predefin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237960" y="933480"/>
          <a:ext cx="8610840" cy="62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33480"/>
                    <a:ext cx="8610840" cy="62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Funciones definidas por el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67564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ddmmaaaa a la forma aaaamm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aaaammdd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/1000000; mm=x/10000%100; aaaa=x%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aaaa*10000 + mm*100 + 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convertir fecha aaaammdd a la forma ddmm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dmmaaaa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d=x%100; mm=x%10000/100; aaaa=x/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dd*1000000 + mm*10000 + aa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#seleccionar mayor entre dos fech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1=input(“fecha1(ddmmaaaa)?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f2=input(“fecha2(ddmmaaaa)?”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“mayor=“,ddmmaaaa(max(aaaammdd(f1),aaaammdd(f2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4"/>
          <p:cNvGraphicFramePr/>
          <p:nvPr/>
        </p:nvGraphicFramePr>
        <p:xfrm>
          <a:off x="438120" y="276120"/>
          <a:ext cx="7686720" cy="687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276120"/>
                    <a:ext cx="768672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53964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Instrucció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24000" y="836640"/>
            <a:ext cx="864072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olver ecuación axx+bx+c=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=input(“a?”); b=input(“b?”); c=input(“c?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esultado:”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 and b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indefinid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a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”x=“,-c/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=b**2-4*a*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==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-b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d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aiz=math.sqrt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x=“,(-b+raiz)/(2*a),(-b-raiz)/(2*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rint “raices compleja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5 Rectángulo"/>
          <p:cNvSpPr/>
          <p:nvPr/>
        </p:nvSpPr>
        <p:spPr>
          <a:xfrm>
            <a:off x="179280" y="260280"/>
            <a:ext cx="8964720" cy="65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asMes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m,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1 or m==3 or m==5 or m==7 \#continu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or m==8 or m==10 or m==1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4 or m==6 or m==9 or m==1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m==2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bisiesto(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2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0 #mes incorrec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iones de tipo 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24000" y="83628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 x%400==0:   #si es divisible por 40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rue  # 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if x%100==0: #si es divisible por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False #  no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if x%4==0:   #si es divisible por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True  # 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:          #s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False #  no es bisi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00==0 or x%100!=0 and x%4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%4==0 and x%100!=0 or x%40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3T13:16:51Z</dcterms:created>
  <dc:creator> iara</dc:creator>
  <dc:description/>
  <dc:language>en-US</dc:language>
  <cp:lastModifiedBy>jalvarez</cp:lastModifiedBy>
  <cp:lastPrinted>2006-04-25T18:59:03Z</cp:lastPrinted>
  <dcterms:modified xsi:type="dcterms:W3CDTF">2011-03-30T10:20:52Z</dcterms:modified>
  <cp:revision>202</cp:revision>
  <dc:subject/>
  <dc:title>Diapositiva 1</dc:title>
</cp:coreProperties>
</file>