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4751-7C61-4B09-BEFE-59C80781D1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278D-4082-4550-AADB-DF2268F05F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8FF8-35CD-4D64-A40E-1CC67E617F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648-2AEA-4EEF-8351-90C4B018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DD3-6663-4B28-9DA5-A0E713DC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9ED-4CEA-476F-8D4D-361BA482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037-9FA9-4655-ABEE-C8B513F4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F2B-E5F3-4515-8605-F99E340B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C0F-94C8-4879-ABD7-0E72D54B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F62-60A5-464B-88E9-D45DEB26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160-7F3A-4827-B1F3-CE6D27F6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82F-15C4-480A-9370-EB1FD35F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29E-AC15-4EF9-B2D4-E764B1BE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735-B540-4865-BD3A-3E96D577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94D-7F00-44E2-A654-5D48A2D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0CF5-A1BF-4FD9-8DA9-7CB45DD1C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797040" y="717480"/>
          <a:ext cx="807228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717480"/>
                    <a:ext cx="807228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6800" y="668160"/>
          <a:ext cx="819000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68160"/>
                    <a:ext cx="819000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7720" y="806400"/>
          <a:ext cx="7816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806400"/>
                    <a:ext cx="7816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3440" y="461880"/>
          <a:ext cx="8375760" cy="604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3757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15976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15976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11-03-24T17:32:43Z</dcterms:modified>
  <cp:revision>45</cp:revision>
  <dc:subject/>
  <dc:title>Sin título de diapositiva</dc:title>
</cp:coreProperties>
</file>