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7302-BE3E-4307-A688-40700FA695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78FB-6B96-4975-96E1-7208B1ECCCE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1614-9142-4D65-97D1-185354281FF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A459-E31D-4365-A99A-E216CDDF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572B-21C3-4F09-96F0-80DF52D7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7003-8FE3-43D6-9228-E894D25D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073-CDEC-483A-B7E3-340FB962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B70-208A-498B-A75C-02B76DB9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5177-B0A1-48BC-B0A6-911D9241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C24C-C802-4F71-BFE5-B9571CC8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86E-8C56-4401-8C3B-234586F8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8A6-22FE-4A04-B712-5C26173B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C33E-0EFC-496D-9B80-19A987FB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FB0-A273-4695-A967-5419BDD6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0FC-B21A-4A0B-9D8C-D9211BBE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3CC6-865F-444A-BE5D-03810CF78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90440" y="600120"/>
          <a:ext cx="7267680" cy="75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600120"/>
                    <a:ext cx="7267680" cy="75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3"/>
          <p:cNvGraphicFramePr/>
          <p:nvPr/>
        </p:nvGraphicFramePr>
        <p:xfrm>
          <a:off x="797040" y="717480"/>
          <a:ext cx="8072280" cy="613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717480"/>
                    <a:ext cx="8072280" cy="61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766800" y="668160"/>
          <a:ext cx="8190000" cy="708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68160"/>
                    <a:ext cx="8190000" cy="708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747720" y="806400"/>
          <a:ext cx="7816680" cy="520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806400"/>
                    <a:ext cx="781668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33440" y="461880"/>
          <a:ext cx="8375760" cy="604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61880"/>
                    <a:ext cx="8375760" cy="60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501480" y="649440"/>
          <a:ext cx="836784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649440"/>
                    <a:ext cx="836784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41440" y="480960"/>
          <a:ext cx="8426520" cy="71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80960"/>
                    <a:ext cx="8426520" cy="71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5"/>
          <p:cNvGraphicFramePr/>
          <p:nvPr/>
        </p:nvGraphicFramePr>
        <p:xfrm>
          <a:off x="550800" y="511200"/>
          <a:ext cx="815976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15976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550800" y="511200"/>
          <a:ext cx="8072640" cy="659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7264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suma(x,y)#x + (x+1) + … +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permutaciones(x,y) #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combinaciones(x,y) #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fibonacci(i)#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inverso(x)#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1268280" y="797040"/>
          <a:ext cx="7000920" cy="53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797040"/>
                    <a:ext cx="700092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042920" y="776160"/>
          <a:ext cx="7423200" cy="586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76160"/>
                    <a:ext cx="742320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766800" y="480960"/>
          <a:ext cx="8130960" cy="625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80960"/>
                    <a:ext cx="8130960" cy="62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766800" y="480960"/>
          <a:ext cx="7983360" cy="64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80960"/>
                    <a:ext cx="7983360" cy="64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914400" y="619200"/>
          <a:ext cx="730584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19200"/>
                    <a:ext cx="730584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1130400" y="923760"/>
          <a:ext cx="7305480" cy="524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3760"/>
                    <a:ext cx="7305480" cy="52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6-03-22T18:37:38Z</cp:lastPrinted>
  <dcterms:modified xsi:type="dcterms:W3CDTF">2011-03-24T17:32:43Z</dcterms:modified>
  <cp:revision>45</cp:revision>
  <dc:subject/>
  <dc:title>Sin título de diapositiva</dc:title>
</cp:coreProperties>
</file>