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88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7D65-D611-48C9-B868-0B4AA15C034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30CF-4C4F-4C91-B231-8D350543A5C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561B-82F5-4AF3-B683-55A2EB8DFEB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64A3-A061-4DEB-9F12-8647050D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F153-5F85-4AE3-B227-2C80D400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B9EE-5274-4704-9E6E-0F27438F7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B548-9767-4F05-8D6D-837A59AE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A180-3817-4BBA-A088-D06648AA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310B-46AD-4D8A-B8EA-79E24C0B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6005-E5BE-4036-8DB6-64798C40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9626-EFCE-4A78-8CCF-29F85DE9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5BAC-6C11-43F6-891E-C8BB1C4D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465B-13EF-4E49-9E28-62EA1CDA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49EE-9CAC-4BAD-9F42-9CA4B26B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1DF1-147F-49AC-94E5-953F162A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8E1D-D593-4DD5-A276-DBB0569A0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090440" y="600120"/>
          <a:ext cx="7267680" cy="758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600120"/>
                    <a:ext cx="7267680" cy="75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3"/>
          <p:cNvGraphicFramePr/>
          <p:nvPr/>
        </p:nvGraphicFramePr>
        <p:xfrm>
          <a:off x="797040" y="717480"/>
          <a:ext cx="8072280" cy="613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040" y="717480"/>
                    <a:ext cx="8072280" cy="61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766800" y="668160"/>
          <a:ext cx="8190000" cy="708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68160"/>
                    <a:ext cx="8190000" cy="708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747720" y="806400"/>
          <a:ext cx="7816680" cy="520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806400"/>
                    <a:ext cx="781668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33440" y="461880"/>
          <a:ext cx="8375760" cy="604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61880"/>
                    <a:ext cx="8375760" cy="604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501480" y="649440"/>
          <a:ext cx="836784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649440"/>
                    <a:ext cx="836784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41440" y="480960"/>
          <a:ext cx="8426520" cy="718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480960"/>
                    <a:ext cx="8426520" cy="71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5"/>
          <p:cNvGraphicFramePr/>
          <p:nvPr/>
        </p:nvGraphicFramePr>
        <p:xfrm>
          <a:off x="550800" y="511200"/>
          <a:ext cx="8159760" cy="667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159760" cy="66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550800" y="511200"/>
          <a:ext cx="8072640" cy="659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07264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s propues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85800" y="1989000"/>
            <a:ext cx="82072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suma(x,y)#x + (x+1) + … +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permutaciones(x,y) #x!/(x-y)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combinaciones(x,y) #x!/(y!(x-y)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fibonacci(i)#entrega i-ésimo nº de Fibona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ros: 0, 1, 1, 2, 3, 5, 8, 13, 21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inverso(x)#inverso(123) entrega 3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1268280" y="797040"/>
          <a:ext cx="7000920" cy="53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797040"/>
                    <a:ext cx="700092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1042920" y="776160"/>
          <a:ext cx="7423200" cy="586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776160"/>
                    <a:ext cx="742320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766800" y="480960"/>
          <a:ext cx="8130960" cy="625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480960"/>
                    <a:ext cx="8130960" cy="62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4"/>
          <p:cNvGraphicFramePr/>
          <p:nvPr/>
        </p:nvGraphicFramePr>
        <p:xfrm>
          <a:off x="766800" y="480960"/>
          <a:ext cx="7983360" cy="642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480960"/>
                    <a:ext cx="7983360" cy="64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746280" y="588960"/>
          <a:ext cx="8145360" cy="75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88960"/>
                    <a:ext cx="814536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914400" y="619200"/>
          <a:ext cx="730584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619200"/>
                    <a:ext cx="730584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1130400" y="923760"/>
          <a:ext cx="7305480" cy="524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923760"/>
                    <a:ext cx="7305480" cy="524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6-03-22T18:37:38Z</cp:lastPrinted>
  <dcterms:modified xsi:type="dcterms:W3CDTF">2011-03-24T17:32:43Z</dcterms:modified>
  <cp:revision>45</cp:revision>
  <dc:subject/>
  <dc:title>Sin título de diapositiva</dc:title>
</cp:coreProperties>
</file>