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6BC7C8-801D-4DA2-874E-7415AB28CB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BA3057-B98B-452C-955B-9FEC55DFFC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6E1DD7-EAB7-4316-8C68-3AA433A5C0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61CD8B-76FF-4FC4-8083-45ECC19AF0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8D7-B3DD-4246-A51D-C0DE304C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8FE-A574-4E97-8781-53A253BE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211-5027-43E9-926C-2CE84A92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48F-E1C6-4AD5-B04D-CE0E8C32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74C-95E5-4D6B-95DF-8E3C02F4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D4A-003C-4833-8152-A48FDAFD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237-BFEF-46B2-AEE6-C9B4BA66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4D1-8CF0-4A8F-A0F4-AE98806B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7A9-03A5-4F16-9B5A-5B81CCE8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1B5-575B-4270-839E-EB16D42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8AB-2DD2-4552-89F1-CEA91AFE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C0A-50E1-48FF-B7AB-3E2D7BC7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A5D9-269E-4F1A-8100-BE484EDFD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3840" y="255600"/>
          <a:ext cx="8199360" cy="73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99360" cy="73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3-22T18:39:02Z</dcterms:modified>
  <cp:revision>67</cp:revision>
  <dc:subject/>
  <dc:title>Sin título de diapositiva</dc:title>
</cp:coreProperties>
</file>