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7B03A5-67F9-4220-BBCE-C617FFD28E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238BFC-55B0-409D-84A4-DC360928A5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731AFE-6C8E-42B5-AA72-FF9D5D615D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CDCA5D-BE08-4017-A534-D4A767697A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FC8-C307-48A7-9A0C-1E4BE6EA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C42-DD08-471D-822F-1666E457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9D8-8A33-4229-9546-2672C562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BF7-B095-430D-93D8-9D1122B4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57F-114B-448F-8FC0-7BB57DB4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F95-CF2E-471C-8641-3518FEA3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A58-1A59-4B51-8599-71B8BFD3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DB7-E7C3-4A77-9DC1-4BD20488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1CE-12F5-4F46-8229-C4EF781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1F4-3F39-4C93-B38E-D6955F1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9A0-8794-42E1-A41E-E908CAF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16A-8F23-4C37-A634-B7A7013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AED-B198-42D8-8196-9968D189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3840" y="255600"/>
          <a:ext cx="8199360" cy="73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9936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3-22T18:39:02Z</dcterms:modified>
  <cp:revision>67</cp:revision>
  <dc:subject/>
  <dc:title>Sin título de diapositiva</dc:title>
</cp:coreProperties>
</file>