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397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1960" y="740880"/>
            <a:ext cx="4940280" cy="370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4480" cy="444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3976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99F385F-6C19-4129-A0AF-9A1C324EA2F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384012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AF5F2B6-9044-4005-98B2-C317A7E4C4E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2232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44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84012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9C9889B-A684-41A7-A83B-2867DBCA40A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2232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44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384012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8A9BBB6-6400-4F06-8A1E-E183209A4AF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92232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44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5B88-962C-41D9-9739-3AE7BD74D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D6A6-0F52-41CA-8C6B-40E972090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C046-6E3C-4B83-BD73-5342A1289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30CC-9F03-4813-BC19-AC1226C2F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EBCC-23FE-42F4-B905-03D2921BE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93A5-A6A9-459F-96C0-5DA871182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A80E-1AB5-4FD3-85CB-7F5179146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BC13-9967-45FB-9DAE-E1D9F4DEC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6283-3C50-40A1-AEAE-E464F7529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766A-8032-4559-856F-A22BB0DE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8E2B-1344-4697-9B15-9FEE6ADA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CE0F-51ED-4340-83A0-332155DB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A8024-2B62-4A03-8650-CB8B284281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992160" y="770040"/>
          <a:ext cx="7524720" cy="55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2160" y="770040"/>
                    <a:ext cx="7524720" cy="55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4"/>
          <p:cNvGraphicFramePr/>
          <p:nvPr/>
        </p:nvGraphicFramePr>
        <p:xfrm>
          <a:off x="738360" y="554040"/>
          <a:ext cx="8110440" cy="618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8360" y="554040"/>
                    <a:ext cx="8110440" cy="61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179280" y="806400"/>
          <a:ext cx="8785440" cy="5430960"/>
        </p:xfrm>
        <a:graphic>
          <a:graphicData uri="http://schemas.openxmlformats.org/drawingml/2006/table">
            <a:tbl>
              <a:tblPr/>
              <a:tblGrid>
                <a:gridCol w="820800"/>
                <a:gridCol w="3756240"/>
                <a:gridCol w="4208400"/>
              </a:tblGrid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!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suma+num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n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 …,n,…,suma/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uenta=1 promedio=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5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148"/>
          <p:cNvSpPr/>
          <p:nvPr/>
        </p:nvSpPr>
        <p:spPr>
          <a:xfrm>
            <a:off x="3184560" y="136440"/>
            <a:ext cx="35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49"/>
          <p:cNvSpPr/>
          <p:nvPr/>
        </p:nvSpPr>
        <p:spPr>
          <a:xfrm>
            <a:off x="2700360" y="26028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79280" y="1052640"/>
          <a:ext cx="8713800" cy="4757760"/>
        </p:xfrm>
        <a:graphic>
          <a:graphicData uri="http://schemas.openxmlformats.org/drawingml/2006/table">
            <a:tbl>
              <a:tblPr/>
              <a:tblGrid>
                <a:gridCol w="814320"/>
                <a:gridCol w="3838680"/>
                <a:gridCol w="406080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!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suma+num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1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n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 …,n,…,suma/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uenta=2 promedio=5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!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Text Box 70"/>
          <p:cNvSpPr/>
          <p:nvPr/>
        </p:nvSpPr>
        <p:spPr>
          <a:xfrm>
            <a:off x="2860560" y="352440"/>
            <a:ext cx="455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71"/>
          <p:cNvSpPr/>
          <p:nvPr/>
        </p:nvSpPr>
        <p:spPr>
          <a:xfrm>
            <a:off x="2335320" y="476280"/>
            <a:ext cx="48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4"/>
          <p:cNvGraphicFramePr/>
          <p:nvPr/>
        </p:nvGraphicFramePr>
        <p:xfrm>
          <a:off x="360360" y="331920"/>
          <a:ext cx="8718480" cy="718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0360" y="331920"/>
                    <a:ext cx="8718480" cy="71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452520" y="433440"/>
          <a:ext cx="8413560" cy="59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433440"/>
                    <a:ext cx="8413560" cy="59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4"/>
          <p:cNvGraphicFramePr/>
          <p:nvPr/>
        </p:nvGraphicFramePr>
        <p:xfrm>
          <a:off x="684360" y="544680"/>
          <a:ext cx="6962760" cy="577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544680"/>
                    <a:ext cx="6962760" cy="57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4"/>
          <p:cNvGraphicFramePr/>
          <p:nvPr/>
        </p:nvGraphicFramePr>
        <p:xfrm>
          <a:off x="711360" y="590400"/>
          <a:ext cx="7453080" cy="578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590400"/>
                    <a:ext cx="7453080" cy="578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Object 4"/>
          <p:cNvGraphicFramePr/>
          <p:nvPr/>
        </p:nvGraphicFramePr>
        <p:xfrm>
          <a:off x="314280" y="304920"/>
          <a:ext cx="8755200" cy="656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304920"/>
                    <a:ext cx="8755200" cy="656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Object 4"/>
          <p:cNvGraphicFramePr/>
          <p:nvPr/>
        </p:nvGraphicFramePr>
        <p:xfrm>
          <a:off x="393840" y="255600"/>
          <a:ext cx="8199360" cy="739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255600"/>
                    <a:ext cx="8199360" cy="739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704880" y="581040"/>
          <a:ext cx="797868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581040"/>
                    <a:ext cx="797868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379440" y="295200"/>
          <a:ext cx="8524800" cy="625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440" y="295200"/>
                    <a:ext cx="8524800" cy="62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554040" y="387360"/>
          <a:ext cx="8183520" cy="621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040" y="387360"/>
                    <a:ext cx="8183520" cy="62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85800" y="1981080"/>
          <a:ext cx="7918560" cy="4145040"/>
        </p:xfrm>
        <a:graphic>
          <a:graphicData uri="http://schemas.openxmlformats.org/drawingml/2006/table">
            <a:tbl>
              <a:tblPr/>
              <a:tblGrid>
                <a:gridCol w="501480"/>
                <a:gridCol w="2160720"/>
                <a:gridCol w="1079640"/>
                <a:gridCol w="215640"/>
                <a:gridCol w="649440"/>
                <a:gridCol w="2158920"/>
                <a:gridCol w="1152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e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e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&lt;=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&lt;=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5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&lt;=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1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&lt;=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3"/>
          <p:cNvGraphicFramePr/>
          <p:nvPr/>
        </p:nvGraphicFramePr>
        <p:xfrm>
          <a:off x="517680" y="517680"/>
          <a:ext cx="8294400" cy="54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517680"/>
                    <a:ext cx="82944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4"/>
          <p:cNvGraphicFramePr/>
          <p:nvPr/>
        </p:nvGraphicFramePr>
        <p:xfrm>
          <a:off x="387360" y="442800"/>
          <a:ext cx="8543880" cy="691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7360" y="442800"/>
                    <a:ext cx="8543880" cy="691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507960" y="527040"/>
          <a:ext cx="8285040" cy="579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527040"/>
                    <a:ext cx="8285040" cy="579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868320" y="573120"/>
          <a:ext cx="7712280" cy="547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8320" y="573120"/>
                    <a:ext cx="7712280" cy="54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13:00:51Z</dcterms:created>
  <dc:creator>jalvarez</dc:creator>
  <dc:description/>
  <dc:language>en-US</dc:language>
  <cp:lastModifiedBy>jalvarez</cp:lastModifiedBy>
  <cp:lastPrinted>2005-01-12T14:41:26Z</cp:lastPrinted>
  <dcterms:modified xsi:type="dcterms:W3CDTF">2011-03-22T18:39:02Z</dcterms:modified>
  <cp:revision>67</cp:revision>
  <dc:subject/>
  <dc:title>Sin título de diapositiva</dc:title>
</cp:coreProperties>
</file>