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DD2-4AF3-4303-A26C-7A1836E2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106-A8BB-4CC0-850F-3F3E5BB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D9B-8777-437E-B186-E4834F90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293-EEDD-42F4-83E5-473E1A3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142-5BCD-4C3A-8C9D-9C261CF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978-0C9E-4629-B86E-332C098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9A2-B813-4ADD-B551-17D4D7FD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858-D764-436D-A2CB-0B04985C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E6D-5415-4879-BE75-2664D9E5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ACA-89A7-495D-AE51-9D23AA9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697-9BF0-4EA8-8B6A-E3D9559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8754-2528-49B9-A35E-40D65D4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6A82-5ECE-419F-B510-F7214E24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 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 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 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8828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3-10T17:41:37Z</dcterms:modified>
  <cp:revision>79</cp:revision>
  <dc:subject/>
  <dc:title>Sin título de diapositiva</dc:title>
</cp:coreProperties>
</file>