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2730-7DE6-4013-BC42-D250D4232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218E-7D85-44C2-BDC6-3FD07B45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B495-3721-43B1-B71A-10ACA75EC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ADC5-304B-48DE-879A-AF5123E88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6F8C-BD37-4F04-BE16-3C126436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FBF4-63BF-4808-AB90-C2B9703B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74DA-51A6-46A9-8975-79C0FD70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5CDC-DF62-4DAC-AB86-8BAACB54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BCE2-EAEE-4EE2-AC9A-70A97F04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4CC3-B6ED-46DE-8BF3-1146F6A3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7A22-84E3-435E-BCCD-24B96BCB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7E54-7C63-487B-B768-61A5697A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fld id="{DE70E92E-B39E-4430-8591-E70D1E4FCA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42880" y="655560"/>
          <a:ext cx="8205840" cy="598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655560"/>
                    <a:ext cx="8205840" cy="59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31640" y="371520"/>
          <a:ext cx="8737920" cy="780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371520"/>
                    <a:ext cx="8737920" cy="78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71520" y="407880"/>
          <a:ext cx="8759880" cy="779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407880"/>
                    <a:ext cx="8759880" cy="77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19120" y="469800"/>
          <a:ext cx="8526600" cy="759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69800"/>
                    <a:ext cx="8526600" cy="759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69800" y="407880"/>
          <a:ext cx="8390160" cy="585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7880"/>
                    <a:ext cx="8390160" cy="585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482760"/>
          <a:ext cx="8550360" cy="698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50360" cy="69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69800" y="482760"/>
          <a:ext cx="8550360" cy="698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50360" cy="69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69800" y="482760"/>
          <a:ext cx="8514000" cy="703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14000" cy="70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69800" y="482760"/>
          <a:ext cx="8612280" cy="777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12280" cy="77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69800" y="482760"/>
          <a:ext cx="8588520" cy="778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88520" cy="77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95280" y="395280"/>
          <a:ext cx="8637480" cy="768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95280"/>
                    <a:ext cx="8637480" cy="76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44600" y="457200"/>
          <a:ext cx="8663040" cy="622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57200"/>
                    <a:ext cx="866304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Python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print,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input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a instrucción en una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put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66800" y="839880"/>
          <a:ext cx="7783560" cy="509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839880"/>
                    <a:ext cx="7783560" cy="50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526680"/>
            <a:ext cx="864072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º y lo guarda en la variable ind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44600" y="482760"/>
          <a:ext cx="8489880" cy="653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489880" cy="65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1007640"/>
            <a:ext cx="856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que lee un nº desde el teclado y lo entrega como resul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04800" y="542880"/>
          <a:ext cx="8304120" cy="822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542880"/>
                    <a:ext cx="8304120" cy="822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alvarez</dc:creator>
  <dc:description/>
  <dc:language>en-US</dc:language>
  <cp:lastModifiedBy>jalvarez</cp:lastModifiedBy>
  <cp:lastPrinted>2006-03-07T16:10:21Z</cp:lastPrinted>
  <dcterms:modified xsi:type="dcterms:W3CDTF">2011-03-08T13:12:34Z</dcterms:modified>
  <cp:revision>99</cp:revision>
  <dc:subject/>
  <dc:title>Sin título de diapositiva</dc:title>
</cp:coreProperties>
</file>