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396-0C6F-48C0-A075-7C44B22B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172-6698-4E19-956E-F7C8E2B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A1D-DA8A-4137-99A0-0FC2DD6B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E0C-DE92-409E-AF5B-3C148FB5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380-11BD-4DA2-82D9-24D6FD12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F30-4140-4A3E-983A-CDC6C86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4B6-1434-4B5D-B239-78D835D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398-8FCA-43C6-8570-6E0F4E09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6C3-7122-4B91-A2BE-35E08E8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C54-B193-4E90-94D0-7EFFA01A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C9D-D77D-44B9-9F39-748DA1E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606-4491-41F2-9DFF-F92B2443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40F-6A2A-45DC-B7B9-CA72701C1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6" idx="0"/>
            <a:endCxn id="42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jun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03-08T13:12:55Z</dcterms:modified>
  <cp:revision>40</cp:revision>
  <dc:subject/>
  <dc:title>Un curso intensivo de Introducción a la Programación Orientada a Objetos en Java  para estudiantes de secundaria </dc:title>
</cp:coreProperties>
</file>