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A60E-1289-4A18-A65C-3338545B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F60-597D-4E0D-B29D-4693013C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192-6FC7-4F40-AF26-9D5D928A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1A3-5629-445A-A3F7-3B7160AB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586-EEFB-4803-8FD6-EAD16931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513-336D-4176-B660-FAD68961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4368-5F73-4564-AECC-1438EB4C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0FE-C95F-4742-9CFF-6E9FE257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73A-EE88-4DC7-AE25-B2929B88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2667-8D8A-4850-AE1E-0F136F38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CCFF-CD62-4031-9D85-FBCB6A5E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E44-277B-4C4F-9128-DC31AD1E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22A6-B1F0-4095-A6F0-CE8DDF5F2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6"/>
          </p:cNvCxnSpPr>
          <p:nvPr/>
        </p:nvCxnSpPr>
        <p:spPr>
          <a:xfrm flipV="1">
            <a:off x="5791320" y="3809520"/>
            <a:ext cx="152640" cy="610560"/>
          </a:xfrm>
          <a:prstGeom prst="curvedConnector3">
            <a:avLst>
              <a:gd name="adj1" fmla="val 276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6" idx="0"/>
            <a:endCxn id="42" idx="2"/>
          </p:cNvCxnSpPr>
          <p:nvPr/>
        </p:nvCxnSpPr>
        <p:spPr>
          <a:xfrm flipH="1" flipV="1" rot="5400000">
            <a:off x="6162480" y="3952800"/>
            <a:ext cx="1067040" cy="628920"/>
          </a:xfrm>
          <a:prstGeom prst="curvedConnector3">
            <a:avLst>
              <a:gd name="adj1" fmla="val 24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en lenguajes de programación Python y Matl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(s) extra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c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abr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abr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jun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iguien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unte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e a clase (quedan disponibles en U-curs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bros” complementarios (disponibles en 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ink Python”, Dow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for Informatics”, Sev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roduction to Programming using Python”, Schu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para todos”, Gonzalez Du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Tutorial” (+avanzado); Guido van Rossum (creador de Pyth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11-03-08T13:12:55Z</dcterms:modified>
  <cp:revision>40</cp:revision>
  <dc:subject/>
  <dc:title>Un curso intensivo de Introducción a la Programación Orientada a Objetos en Java  para estudiantes de secundaria </dc:title>
</cp:coreProperties>
</file>