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E145-10B2-4F4A-A7E5-68080891CE3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E662-A3B6-4C42-8D16-1673E37F31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25: Listas Enla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3-noviembre 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605F-45BF-4551-BC88-A58021B342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236-523A-4959-AFF6-B785DB4E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A83-3258-4C20-A49E-6C7B172F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42A-7E96-4CBA-BE8B-E0664FC8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FBD-D01B-41A1-97BA-6A25D764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2168-F6C9-4C1B-8A64-8AE2F366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26D-0F04-4512-B45C-CD255531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D94-9F5F-400E-B8C8-09E0FEAB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8CC-2209-4F7A-B96C-E68D8D18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7D8-BDE4-404B-8448-AE5440F5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B08-477E-4402-8595-2F543568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B8E-F935-4919-B6B3-4E628F1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50E-EAE5-4B44-9549-CD431515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1B44-0A73-4B97-B3F3-9304C2224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14400" y="520560"/>
          <a:ext cx="766908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20560"/>
                    <a:ext cx="766908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24000" y="6534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p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self.empty(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se StackEmpt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=self.primero.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primero=self.primero.s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22280" y="520560"/>
          <a:ext cx="8564400" cy="58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520560"/>
                    <a:ext cx="8564400" cy="58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757080" y="461880"/>
          <a:ext cx="8091720" cy="655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61880"/>
                    <a:ext cx="8091720" cy="655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372960" y="422280"/>
          <a:ext cx="8436240" cy="715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422280"/>
                    <a:ext cx="8436240" cy="71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471600" y="442800"/>
          <a:ext cx="8269200" cy="743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42800"/>
                    <a:ext cx="8269200" cy="743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480960" y="393840"/>
          <a:ext cx="8132760" cy="69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393840"/>
                    <a:ext cx="8132760" cy="69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196920" y="196920"/>
          <a:ext cx="888840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196920"/>
                    <a:ext cx="888840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689040" y="609480"/>
          <a:ext cx="8070840" cy="663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8070840" cy="66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04720" y="457200"/>
          <a:ext cx="8494920" cy="623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57200"/>
                    <a:ext cx="8494920" cy="62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363600" y="422280"/>
          <a:ext cx="8505720" cy="62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22280"/>
                    <a:ext cx="850572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176040" y="187200"/>
          <a:ext cx="8534520" cy="679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87200"/>
                    <a:ext cx="8534520" cy="679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11200" y="461880"/>
          <a:ext cx="836784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61880"/>
                    <a:ext cx="836784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600120" y="649440"/>
          <a:ext cx="8170920" cy="613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649440"/>
                    <a:ext cx="81709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895320" y="639720"/>
          <a:ext cx="7697880" cy="581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639720"/>
                    <a:ext cx="7697880" cy="58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09480" y="48096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18:37:05Z</dcterms:created>
  <dc:creator>jalvarez</dc:creator>
  <dc:description/>
  <dc:language>en-US</dc:language>
  <cp:lastModifiedBy>jalvarez</cp:lastModifiedBy>
  <cp:lastPrinted>2006-08-24T14:05:39Z</cp:lastPrinted>
  <dcterms:modified xsi:type="dcterms:W3CDTF">2011-06-19T16:43:33Z</dcterms:modified>
  <cp:revision>28</cp:revision>
  <dc:subject/>
  <dc:title>Sin título de diapositiva</dc:title>
</cp:coreProperties>
</file>