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25: Listas Enlazad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3-noviembre 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ECD67-DFFC-4149-918E-373665D2532F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25: Listas Enlazad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3-noviembre 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BDD91-660F-4DB5-8C60-3DB404D245F2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25: Listas Enlazad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3-noviembre 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15ED6-8F5C-49B7-B7FB-141B8356218C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74C56-C436-4AD9-B985-0717905C8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4639F-E087-4CAC-A949-B7A2DFAD3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C0959-3EF7-44DE-A4D1-00473EF96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C7BDA-78D5-4694-BA27-170F0C040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EF4CE-EEF2-4DFA-9A88-F06A5F9AB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E8958-0D34-4321-B3FF-F00A54A84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4487E-E445-4912-9930-4C542947E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A56C3-BF3D-40C1-A968-629C036CA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DAD66-5AD1-4121-BE09-37EA21126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C0E89-C910-4DD0-8D68-5D1158BC5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95FC1-90D0-4BFC-B464-C6B00FF96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17525-4043-4048-B53B-A34EF0AF8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FA8DA-583A-4824-B5EB-F827DF3AAB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Object 2"/>
          <p:cNvGraphicFramePr/>
          <p:nvPr/>
        </p:nvGraphicFramePr>
        <p:xfrm>
          <a:off x="914400" y="520560"/>
          <a:ext cx="7669080" cy="6215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520560"/>
                    <a:ext cx="7669080" cy="621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5"/>
          <p:cNvSpPr/>
          <p:nvPr/>
        </p:nvSpPr>
        <p:spPr>
          <a:xfrm>
            <a:off x="324000" y="653400"/>
            <a:ext cx="8640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pop(self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f self.empty()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aise StackEmpty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ls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or=self.primero.va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primero=self.primero.sg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va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Object 2"/>
          <p:cNvGraphicFramePr/>
          <p:nvPr/>
        </p:nvGraphicFramePr>
        <p:xfrm>
          <a:off x="422280" y="520560"/>
          <a:ext cx="8564400" cy="5821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2280" y="520560"/>
                    <a:ext cx="8564400" cy="582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Object 2"/>
          <p:cNvGraphicFramePr/>
          <p:nvPr/>
        </p:nvGraphicFramePr>
        <p:xfrm>
          <a:off x="757080" y="461880"/>
          <a:ext cx="8091720" cy="6558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7080" y="461880"/>
                    <a:ext cx="8091720" cy="655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Object 2"/>
          <p:cNvGraphicFramePr/>
          <p:nvPr/>
        </p:nvGraphicFramePr>
        <p:xfrm>
          <a:off x="372960" y="422280"/>
          <a:ext cx="8436240" cy="7157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2960" y="422280"/>
                    <a:ext cx="8436240" cy="715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Object 2"/>
          <p:cNvGraphicFramePr/>
          <p:nvPr/>
        </p:nvGraphicFramePr>
        <p:xfrm>
          <a:off x="471600" y="442800"/>
          <a:ext cx="8269200" cy="7432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1600" y="442800"/>
                    <a:ext cx="8269200" cy="743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Object 2"/>
          <p:cNvGraphicFramePr/>
          <p:nvPr/>
        </p:nvGraphicFramePr>
        <p:xfrm>
          <a:off x="471600" y="442800"/>
          <a:ext cx="8269200" cy="7432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1600" y="442800"/>
                    <a:ext cx="8269200" cy="743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Object 2"/>
          <p:cNvGraphicFramePr/>
          <p:nvPr/>
        </p:nvGraphicFramePr>
        <p:xfrm>
          <a:off x="480960" y="393840"/>
          <a:ext cx="8132760" cy="6912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0960" y="393840"/>
                    <a:ext cx="8132760" cy="691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Object 2"/>
          <p:cNvGraphicFramePr/>
          <p:nvPr/>
        </p:nvGraphicFramePr>
        <p:xfrm>
          <a:off x="196920" y="196920"/>
          <a:ext cx="8888400" cy="6705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6920" y="196920"/>
                    <a:ext cx="8888400" cy="670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" name="Object 2"/>
          <p:cNvGraphicFramePr/>
          <p:nvPr/>
        </p:nvGraphicFramePr>
        <p:xfrm>
          <a:off x="196920" y="196920"/>
          <a:ext cx="8888400" cy="6705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6920" y="196920"/>
                    <a:ext cx="8888400" cy="670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Object 4"/>
          <p:cNvGraphicFramePr/>
          <p:nvPr/>
        </p:nvGraphicFramePr>
        <p:xfrm>
          <a:off x="689040" y="609480"/>
          <a:ext cx="8070840" cy="6637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9040" y="609480"/>
                    <a:ext cx="8070840" cy="663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Object 2"/>
          <p:cNvGraphicFramePr/>
          <p:nvPr/>
        </p:nvGraphicFramePr>
        <p:xfrm>
          <a:off x="504720" y="457200"/>
          <a:ext cx="8494920" cy="6232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4720" y="457200"/>
                    <a:ext cx="8494920" cy="623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Object 4"/>
          <p:cNvGraphicFramePr/>
          <p:nvPr/>
        </p:nvGraphicFramePr>
        <p:xfrm>
          <a:off x="363600" y="422280"/>
          <a:ext cx="8505720" cy="6243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3600" y="422280"/>
                    <a:ext cx="8505720" cy="624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Object 2"/>
          <p:cNvGraphicFramePr/>
          <p:nvPr/>
        </p:nvGraphicFramePr>
        <p:xfrm>
          <a:off x="176040" y="187200"/>
          <a:ext cx="8534520" cy="6793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040" y="187200"/>
                    <a:ext cx="8534520" cy="679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Object 4"/>
          <p:cNvGraphicFramePr/>
          <p:nvPr/>
        </p:nvGraphicFramePr>
        <p:xfrm>
          <a:off x="511200" y="461880"/>
          <a:ext cx="8367840" cy="6656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1200" y="461880"/>
                    <a:ext cx="8367840" cy="665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Object 2"/>
          <p:cNvGraphicFramePr/>
          <p:nvPr/>
        </p:nvGraphicFramePr>
        <p:xfrm>
          <a:off x="600120" y="649440"/>
          <a:ext cx="8170920" cy="6135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0120" y="649440"/>
                    <a:ext cx="8170920" cy="613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Object 2"/>
          <p:cNvGraphicFramePr/>
          <p:nvPr/>
        </p:nvGraphicFramePr>
        <p:xfrm>
          <a:off x="895320" y="639720"/>
          <a:ext cx="7697880" cy="5810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95320" y="639720"/>
                    <a:ext cx="7697880" cy="581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Object 2"/>
          <p:cNvGraphicFramePr/>
          <p:nvPr/>
        </p:nvGraphicFramePr>
        <p:xfrm>
          <a:off x="609480" y="480960"/>
          <a:ext cx="8121600" cy="6027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480960"/>
                    <a:ext cx="8121600" cy="602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6T18:37:05Z</dcterms:created>
  <dc:creator>jalvarez</dc:creator>
  <dc:description/>
  <dc:language>en-US</dc:language>
  <cp:lastModifiedBy>jalvarez</cp:lastModifiedBy>
  <cp:lastPrinted>2006-08-24T14:05:39Z</cp:lastPrinted>
  <dcterms:modified xsi:type="dcterms:W3CDTF">2011-06-19T16:43:33Z</dcterms:modified>
  <cp:revision>28</cp:revision>
  <dc:subject/>
  <dc:title>Sin título de diapositiva</dc:title>
</cp:coreProperties>
</file>