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DCAE-B927-4283-B6F8-ED59F02C44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1EC3-EFA9-4AB6-8F9E-365DF5925F4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471B-C97B-4AF6-A32E-59D95154BB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E92-B0A6-4CAD-8FCF-0998EDA2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755-2FFB-4A20-8CE7-23FDE8BB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8F3-9D43-45A9-A5BE-71D24BED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985-E878-43B9-909F-CD9BA986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435-66FB-4BC3-B9A0-425BA394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E2B-C909-4D67-A605-7350B4CC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086-85CD-433D-AC19-98CE9C1E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87A-2B16-44D1-9D27-32A2DB7F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86B-CFED-4768-968F-6DFEE65E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2A0-A69F-454B-A861-3D807F6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5BB-3644-4FB2-8BD5-C01A9040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BDE-F555-4C22-A01E-EBF890F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6C3F-2DBF-462D-9EF2-CC78D3EF0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14400" y="520560"/>
          <a:ext cx="766908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20560"/>
                    <a:ext cx="766908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24000" y="65340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pop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self.empty(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se StackEmpt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or=self.primero.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rimero=self.primero.s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22280" y="520560"/>
          <a:ext cx="8564400" cy="58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520560"/>
                    <a:ext cx="8564400" cy="58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757080" y="461880"/>
          <a:ext cx="8091720" cy="655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61880"/>
                    <a:ext cx="809172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372960" y="422280"/>
          <a:ext cx="8436240" cy="71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422280"/>
                    <a:ext cx="8436240" cy="71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71600" y="442800"/>
          <a:ext cx="8269200" cy="743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42800"/>
                    <a:ext cx="8269200" cy="74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471600" y="442800"/>
          <a:ext cx="8269200" cy="743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42800"/>
                    <a:ext cx="8269200" cy="74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480960" y="393840"/>
          <a:ext cx="8132760" cy="69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3840"/>
                    <a:ext cx="8132760" cy="69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196920" y="196920"/>
          <a:ext cx="888840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96920"/>
                    <a:ext cx="88884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196920" y="196920"/>
          <a:ext cx="888840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96920"/>
                    <a:ext cx="88884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89040" y="609480"/>
          <a:ext cx="8070840" cy="663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609480"/>
                    <a:ext cx="8070840" cy="66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363600" y="422280"/>
          <a:ext cx="8505720" cy="62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2280"/>
                    <a:ext cx="850572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76040" y="187200"/>
          <a:ext cx="8534520" cy="679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87200"/>
                    <a:ext cx="8534520" cy="679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511200" y="461880"/>
          <a:ext cx="8367840" cy="66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61880"/>
                    <a:ext cx="836784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600120" y="649440"/>
          <a:ext cx="8170920" cy="61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649440"/>
                    <a:ext cx="817092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895320" y="639720"/>
          <a:ext cx="7697880" cy="58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639720"/>
                    <a:ext cx="769788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609480" y="48096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11-06-19T16:43:33Z</dcterms:modified>
  <cp:revision>28</cp:revision>
  <dc:subject/>
  <dc:title>Sin título de diapositiva</dc:title>
</cp:coreProperties>
</file>