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5800" y="0"/>
            <a:ext cx="292104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740880"/>
            <a:ext cx="4567320" cy="34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97680"/>
            <a:ext cx="301320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5800" y="8797680"/>
            <a:ext cx="292104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DB7A9DE8-AD45-4A0B-876D-D56C3D0BB78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B9FF0B2F-A244-47BE-B5D3-EB3A6699AE4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3 Marcador de encabezado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4 Marcador de pie de página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5 Marcador de número de diapositiva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01F77F68-E867-4B7D-AB44-B25D0BDF1DA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45B29827-AB25-46D1-B236-BCA9C6815DC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A76-898C-4648-8BBA-05AD40F8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1D6-6631-4288-BEA8-D3F33B49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1CA-3234-419D-AD00-AB4F630C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128-293E-42C1-BCDB-EC8FAC1D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98C-C8BD-4F5B-A928-CD33CB34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D34-9473-4C94-B5D3-F19F238D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956C-83F3-4F5A-81A6-50AC2F30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A6C-C75E-4F8F-9074-E26244C8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9C8-C1D2-46A7-B53A-5EE5B94A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13E-6314-4E12-9F29-1969D928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422-BC52-45B8-8A13-ADA692E5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2ED-A165-45F1-9918-CA8DA45C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957A-3E99-45F9-A742-69307D2E0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57080" y="457200"/>
          <a:ext cx="817092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57200"/>
                    <a:ext cx="817092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581040" y="609480"/>
          <a:ext cx="8058240" cy="57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09480"/>
                    <a:ext cx="805824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92120" y="582480"/>
          <a:ext cx="808992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582480"/>
                    <a:ext cx="808992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39640" y="260280"/>
          <a:ext cx="80773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280"/>
                    <a:ext cx="80773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00120" y="590400"/>
          <a:ext cx="8077320" cy="61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590400"/>
                    <a:ext cx="8077320" cy="61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66560" y="466560"/>
          <a:ext cx="8029800" cy="66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466560"/>
                    <a:ext cx="8029800" cy="66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324000" y="190440"/>
          <a:ext cx="8334360" cy="69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0440"/>
                    <a:ext cx="833436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324000" y="190440"/>
          <a:ext cx="8334360" cy="694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0440"/>
                    <a:ext cx="8334360" cy="69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34920" y="522360"/>
          <a:ext cx="7747200" cy="61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522360"/>
                    <a:ext cx="77472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482760" y="461880"/>
          <a:ext cx="781668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61880"/>
                    <a:ext cx="781668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324000" y="206280"/>
          <a:ext cx="82692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280"/>
                    <a:ext cx="82692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826920" y="620640"/>
          <a:ext cx="792828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792828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1:20:30Z</dcterms:created>
  <dc:creator>jalvarez</dc:creator>
  <dc:description/>
  <dc:language>en-US</dc:language>
  <cp:lastModifiedBy>jalvarez</cp:lastModifiedBy>
  <cp:lastPrinted>2006-07-21T17:48:13Z</cp:lastPrinted>
  <dcterms:modified xsi:type="dcterms:W3CDTF">2011-06-14T15:49:54Z</dcterms:modified>
  <cp:revision>74</cp:revision>
  <dc:subject/>
  <dc:title>Sin título de diapositiva</dc:title>
</cp:coreProperties>
</file>