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5800" y="0"/>
            <a:ext cx="292104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740880"/>
            <a:ext cx="4567320" cy="34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97680"/>
            <a:ext cx="301320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5800" y="8797680"/>
            <a:ext cx="292104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lstStyle>
            <a:lvl1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01A0979A-AF48-4A77-A3FE-0F4AE5B1AE5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7CCAFB87-9353-4EC1-9D09-E37DEC5CCC8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3 Marcador de encabezado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4 Marcador de pie de página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5 Marcador de número de diapositiva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21343796-30E8-40EC-B73F-D527FEEE319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5B58C83A-108B-48C2-A67D-AE9E300AC0C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F7B-7328-4A28-89CD-6FB306EE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484-58EE-4304-B3DB-FD270687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3B1-0BC3-4602-BF7E-EBD33336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A0B-F66C-412B-9A31-60E753A4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133-50DE-46C1-99E8-64D60ED1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D35-1225-45AB-A8AB-A5D39F92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89F-8B53-45B4-8F41-F219F734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1EB-EC94-4F53-9001-CBF20D9D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14B-B99A-4147-A27E-55CDF5B4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395-52D2-4CA5-97EC-6F6BA233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FDA-2747-4F29-8350-2255ECB9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A07-3374-446C-A91A-46CE4CC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FD7D-5FD2-4FBD-93B5-254596C88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57080" y="457200"/>
          <a:ext cx="817092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57200"/>
                    <a:ext cx="817092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3"/>
          <p:cNvGraphicFramePr/>
          <p:nvPr/>
        </p:nvGraphicFramePr>
        <p:xfrm>
          <a:off x="581040" y="609480"/>
          <a:ext cx="8058240" cy="57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09480"/>
                    <a:ext cx="805824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92120" y="582480"/>
          <a:ext cx="808992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582480"/>
                    <a:ext cx="808992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39640" y="260280"/>
          <a:ext cx="80773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280"/>
                    <a:ext cx="80773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600120" y="590400"/>
          <a:ext cx="8077320" cy="61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590400"/>
                    <a:ext cx="8077320" cy="61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66560" y="466560"/>
          <a:ext cx="8029800" cy="66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466560"/>
                    <a:ext cx="8029800" cy="66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324000" y="190440"/>
          <a:ext cx="8334360" cy="69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0440"/>
                    <a:ext cx="833436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324000" y="190440"/>
          <a:ext cx="8334360" cy="694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0440"/>
                    <a:ext cx="8334360" cy="69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34920" y="522360"/>
          <a:ext cx="7747200" cy="61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522360"/>
                    <a:ext cx="77472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482760" y="461880"/>
          <a:ext cx="781668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61880"/>
                    <a:ext cx="781668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324000" y="206280"/>
          <a:ext cx="82692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280"/>
                    <a:ext cx="82692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826920" y="620640"/>
          <a:ext cx="792828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792828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1:20:30Z</dcterms:created>
  <dc:creator>jalvarez</dc:creator>
  <dc:description/>
  <dc:language>en-US</dc:language>
  <cp:lastModifiedBy>jalvarez</cp:lastModifiedBy>
  <cp:lastPrinted>2006-07-21T17:48:13Z</cp:lastPrinted>
  <dcterms:modified xsi:type="dcterms:W3CDTF">2011-06-14T15:49:54Z</dcterms:modified>
  <cp:revision>74</cp:revision>
  <dc:subject/>
  <dc:title>Sin título de diapositiva</dc:title>
</cp:coreProperties>
</file>