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25800" y="0"/>
            <a:ext cx="2921040" cy="46368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5480" y="740880"/>
            <a:ext cx="4567320" cy="3426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797680"/>
            <a:ext cx="301320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25800" y="8797680"/>
            <a:ext cx="2921040" cy="463320"/>
          </a:xfrm>
          <a:prstGeom prst="rect">
            <a:avLst/>
          </a:prstGeom>
          <a:noFill/>
          <a:ln w="0">
            <a:noFill/>
          </a:ln>
        </p:spPr>
        <p:txBody>
          <a:bodyPr lIns="110520" rIns="110520" tIns="55080" bIns="55080" anchor="b">
            <a:noAutofit/>
          </a:bodyPr>
          <a:lstStyle>
            <a:lvl1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3CF1B731-CD18-4E1F-B1A7-726CB6A075B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46020F52-C098-4E29-AD81-74BDF996442E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3 Marcador de encabezado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4 Marcador de pie de página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5 Marcador de número de diapositiva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4CE2F0AC-C0CC-4944-84E4-82A1CCA3343A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0"/>
            <a:ext cx="3013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t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Clase 24: Stacks y Queu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6"/>
          <p:cNvSpPr/>
          <p:nvPr/>
        </p:nvSpPr>
        <p:spPr>
          <a:xfrm>
            <a:off x="0" y="8798040"/>
            <a:ext cx="30132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25800" y="8798040"/>
            <a:ext cx="292104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0520" rIns="110520" tIns="55080" bIns="55080" anchor="b">
            <a:noAutofit/>
          </a:bodyPr>
          <a:p>
            <a:pPr algn="r">
              <a:tabLst>
                <a:tab algn="l" pos="0"/>
                <a:tab algn="l" pos="1104840"/>
                <a:tab algn="l" pos="2209680"/>
                <a:tab algn="l" pos="3314880"/>
                <a:tab algn="l" pos="4419720"/>
                <a:tab algn="l" pos="5524560"/>
                <a:tab algn="l" pos="6629400"/>
                <a:tab algn="l" pos="7734240"/>
                <a:tab algn="l" pos="8839080"/>
                <a:tab algn="l" pos="9944280"/>
              </a:tabLst>
            </a:pPr>
            <a:fld id="{6A96B901-6E58-4147-A3DA-E34F43359078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85840" y="741240"/>
            <a:ext cx="4567320" cy="34261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2960" y="4444920"/>
            <a:ext cx="5021280" cy="416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B061-CED2-40CF-A97F-B51C34152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1D1-4EBB-4080-AF57-14F31AA7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E51C-BC27-432D-A755-58A55F1BB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C12C0-2080-4E06-A9FD-CFD67599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FE977-AB0E-4448-928E-1488C1D0E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5724-9D35-4337-8B1D-D4A8630FC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8C02-1BE6-44BC-8F04-E901ABCB2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871D-DB82-41FC-A10D-E779A41F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636-9A41-47F5-B598-D756AAAB4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1AE6E-157A-4C6C-9808-713978DA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4F97-369B-40B3-9FED-266D7E71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9CA7-AE97-4F17-87AA-89066125E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8BB3-6897-4D83-B362-94ED7CCC28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Object 2"/>
          <p:cNvGraphicFramePr/>
          <p:nvPr/>
        </p:nvGraphicFramePr>
        <p:xfrm>
          <a:off x="865080" y="606600"/>
          <a:ext cx="762012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06600"/>
                    <a:ext cx="762012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Object 2"/>
          <p:cNvGraphicFramePr/>
          <p:nvPr/>
        </p:nvGraphicFramePr>
        <p:xfrm>
          <a:off x="985680" y="614520"/>
          <a:ext cx="7845480" cy="634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5680" y="614520"/>
                    <a:ext cx="7845480" cy="634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Object 2"/>
          <p:cNvGraphicFramePr/>
          <p:nvPr/>
        </p:nvGraphicFramePr>
        <p:xfrm>
          <a:off x="757080" y="457200"/>
          <a:ext cx="8170920" cy="660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457200"/>
                    <a:ext cx="8170920" cy="660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Object 3"/>
          <p:cNvGraphicFramePr/>
          <p:nvPr/>
        </p:nvGraphicFramePr>
        <p:xfrm>
          <a:off x="581040" y="609480"/>
          <a:ext cx="8058240" cy="576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609480"/>
                    <a:ext cx="8058240" cy="576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Object 2"/>
          <p:cNvGraphicFramePr/>
          <p:nvPr/>
        </p:nvGraphicFramePr>
        <p:xfrm>
          <a:off x="492120" y="582480"/>
          <a:ext cx="8089920" cy="5727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582480"/>
                    <a:ext cx="8089920" cy="572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Object 2"/>
          <p:cNvGraphicFramePr/>
          <p:nvPr/>
        </p:nvGraphicFramePr>
        <p:xfrm>
          <a:off x="539640" y="260280"/>
          <a:ext cx="8077320" cy="6438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280"/>
                    <a:ext cx="8077320" cy="64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"/>
          <p:cNvGraphicFramePr/>
          <p:nvPr/>
        </p:nvGraphicFramePr>
        <p:xfrm>
          <a:off x="600120" y="590400"/>
          <a:ext cx="8077320" cy="61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590400"/>
                    <a:ext cx="8077320" cy="61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2"/>
          <p:cNvGraphicFramePr/>
          <p:nvPr/>
        </p:nvGraphicFramePr>
        <p:xfrm>
          <a:off x="685800" y="396720"/>
          <a:ext cx="7843680" cy="6473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396720"/>
                    <a:ext cx="7843680" cy="647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Object 2"/>
          <p:cNvGraphicFramePr/>
          <p:nvPr/>
        </p:nvGraphicFramePr>
        <p:xfrm>
          <a:off x="466560" y="466560"/>
          <a:ext cx="8029800" cy="660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466560"/>
                    <a:ext cx="8029800" cy="66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Object 2"/>
          <p:cNvGraphicFramePr/>
          <p:nvPr/>
        </p:nvGraphicFramePr>
        <p:xfrm>
          <a:off x="324000" y="190440"/>
          <a:ext cx="8334360" cy="696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0440"/>
                    <a:ext cx="8334360" cy="696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324000" y="190440"/>
          <a:ext cx="8334360" cy="694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90440"/>
                    <a:ext cx="8334360" cy="69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Object 2"/>
          <p:cNvGraphicFramePr/>
          <p:nvPr/>
        </p:nvGraphicFramePr>
        <p:xfrm>
          <a:off x="934920" y="522360"/>
          <a:ext cx="7747200" cy="6180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4920" y="522360"/>
                    <a:ext cx="7747200" cy="618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Object 2"/>
          <p:cNvGraphicFramePr/>
          <p:nvPr/>
        </p:nvGraphicFramePr>
        <p:xfrm>
          <a:off x="482760" y="461880"/>
          <a:ext cx="7816680" cy="597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61880"/>
                    <a:ext cx="7816680" cy="597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Object 2"/>
          <p:cNvGraphicFramePr/>
          <p:nvPr/>
        </p:nvGraphicFramePr>
        <p:xfrm>
          <a:off x="324000" y="206280"/>
          <a:ext cx="8269200" cy="641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206280"/>
                    <a:ext cx="826920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Object 2"/>
          <p:cNvGraphicFramePr/>
          <p:nvPr/>
        </p:nvGraphicFramePr>
        <p:xfrm>
          <a:off x="826920" y="620640"/>
          <a:ext cx="7928280" cy="64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620640"/>
                    <a:ext cx="7928280" cy="64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21:20:30Z</dcterms:created>
  <dc:creator>jalvarez</dc:creator>
  <dc:description/>
  <dc:language>en-US</dc:language>
  <cp:lastModifiedBy>jalvarez</cp:lastModifiedBy>
  <cp:lastPrinted>2006-07-21T17:48:13Z</cp:lastPrinted>
  <dcterms:modified xsi:type="dcterms:W3CDTF">2011-06-14T15:49:54Z</dcterms:modified>
  <cp:revision>74</cp:revision>
  <dc:subject/>
  <dc:title>Sin título de diapositiva</dc:title>
</cp:coreProperties>
</file>