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1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3.wmf" ContentType="image/x-wmf"/>
  <Override PartName="/ppt/media/image6.pct" ContentType="image/x-pict"/>
  <Override PartName="/ppt/media/image8.wmf" ContentType="image/x-wmf"/>
  <Override PartName="/ppt/media/image13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3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B764-7BAA-462B-811E-77B48F0676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3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0C1E-AA3B-4FF4-B908-A3E878345C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3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6622-2B0E-4992-AAE2-1614548AFC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3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4042-406E-4E0E-9CCA-EED8F9E63E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09D-4482-4882-9B1F-30A3150D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A95-0A3C-4FE2-A1AC-2FF66B33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F0B-25CD-428F-A681-0DEAB633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C4C-3ED7-4E75-B425-BEF12727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469-0584-481F-B53C-9792E817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A4D-3C8D-4F3C-88D6-0578091C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148-E6C8-4DCF-934C-30A1A3A9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A6B-174D-409C-8772-3364ECD4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F97-CA8B-4ED2-9045-6FCF2CF7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190-A6A0-4558-A03D-8555442B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12A-6F0C-465F-9538-A867D428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6A0-E787-4582-8F58-73E9BB43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B3BE-F627-410B-A3BB-9D23549CF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20560" y="461880"/>
          <a:ext cx="8278920" cy="61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461880"/>
                    <a:ext cx="8278920" cy="61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76160" y="619200"/>
          <a:ext cx="7983720" cy="58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619200"/>
                    <a:ext cx="7983720" cy="58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403200" y="216000"/>
          <a:ext cx="844560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216000"/>
                    <a:ext cx="844560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84120" y="384120"/>
          <a:ext cx="8504280" cy="645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84120"/>
                    <a:ext cx="8504280" cy="645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20560" y="649440"/>
          <a:ext cx="830916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9440"/>
                    <a:ext cx="830916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71600" y="579600"/>
          <a:ext cx="8142120" cy="61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579600"/>
                    <a:ext cx="8142120" cy="61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658800" y="639720"/>
          <a:ext cx="8161200" cy="569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639720"/>
                    <a:ext cx="8161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9040" y="609480"/>
          <a:ext cx="7934400" cy="57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609480"/>
                    <a:ext cx="79344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549360" y="279360"/>
          <a:ext cx="8596080" cy="643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279360"/>
                    <a:ext cx="8596080" cy="64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471600" y="422280"/>
          <a:ext cx="8288280" cy="65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22280"/>
                    <a:ext cx="8288280" cy="65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846000" y="609480"/>
          <a:ext cx="7894800" cy="756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609480"/>
                    <a:ext cx="7894800" cy="756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609480" y="480960"/>
          <a:ext cx="80424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0424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2:32:09Z</dcterms:created>
  <dc:creator>jalvarez</dc:creator>
  <dc:description/>
  <dc:language>en-US</dc:language>
  <cp:lastModifiedBy>Victor Ramiro</cp:lastModifiedBy>
  <cp:lastPrinted>2006-10-02T18:34:45Z</cp:lastPrinted>
  <dcterms:modified xsi:type="dcterms:W3CDTF">2011-06-17T14:21:52Z</dcterms:modified>
  <cp:revision>33</cp:revision>
  <dc:subject/>
  <dc:title>Sin título de diapositiva</dc:title>
</cp:coreProperties>
</file>