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1.wmf" ContentType="image/x-wmf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3.wmf" ContentType="image/x-wmf"/>
  <Override PartName="/ppt/media/image6.pct" ContentType="image/x-pict"/>
  <Override PartName="/ppt/media/image8.wmf" ContentType="image/x-wmf"/>
  <Override PartName="/ppt/media/image13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29E5-5F56-4460-8004-7A9E1FEC94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A131-1153-4287-9198-E557DCACF87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A246-7FD4-46F8-9419-7ECFBA4B26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3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C57E-CD5A-40DB-A060-D92968B324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EAC-1DA3-4AEB-BA1F-14BDE5D6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8A9-A660-45BA-8442-FFFD2E2D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4DE-B0D5-4279-9630-A21AE9D7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40D-6A91-466A-9A7B-CBFC1493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D7B-71BE-4852-8DBE-DC9EC819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69FE-18B2-44E5-82D7-86D0D422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4A4-F123-49EA-AA5F-0230664F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927-370C-4944-BF67-9FF22535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715-C52D-41F8-B0E2-BDF6F8FA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049-C896-4C25-8A02-7919295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4B1-F02A-4201-85BE-EE7507FA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D27-5B4F-40F7-9BA7-8B7AC5BD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380A-E77F-4CD7-AC32-6C65FC67E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20560" y="461880"/>
          <a:ext cx="8278920" cy="61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461880"/>
                    <a:ext cx="8278920" cy="61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776160" y="619200"/>
          <a:ext cx="7983720" cy="582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619200"/>
                    <a:ext cx="7983720" cy="58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403200" y="216000"/>
          <a:ext cx="844560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16000"/>
                    <a:ext cx="844560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384120" y="384120"/>
          <a:ext cx="8504280" cy="645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84120"/>
                    <a:ext cx="8504280" cy="645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20560" y="649440"/>
          <a:ext cx="830916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9440"/>
                    <a:ext cx="830916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71600" y="579600"/>
          <a:ext cx="8142120" cy="612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579600"/>
                    <a:ext cx="8142120" cy="612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658800" y="639720"/>
          <a:ext cx="8161200" cy="56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639720"/>
                    <a:ext cx="8161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9040" y="609480"/>
          <a:ext cx="7934400" cy="57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609480"/>
                    <a:ext cx="79344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549360" y="279360"/>
          <a:ext cx="8596080" cy="643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279360"/>
                    <a:ext cx="8596080" cy="64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471600" y="422280"/>
          <a:ext cx="8288280" cy="654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22280"/>
                    <a:ext cx="828828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846000" y="609480"/>
          <a:ext cx="7894800" cy="75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609480"/>
                    <a:ext cx="7894800" cy="75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609480" y="480960"/>
          <a:ext cx="80424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960"/>
                    <a:ext cx="80424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2:32:09Z</dcterms:created>
  <dc:creator>jalvarez</dc:creator>
  <dc:description/>
  <dc:language>en-US</dc:language>
  <cp:lastModifiedBy>Victor Ramiro</cp:lastModifiedBy>
  <cp:lastPrinted>2006-10-02T18:34:45Z</cp:lastPrinted>
  <dcterms:modified xsi:type="dcterms:W3CDTF">2011-06-17T14:21:52Z</dcterms:modified>
  <cp:revision>33</cp:revision>
  <dc:subject/>
  <dc:title>Sin título de diapositiva</dc:title>
</cp:coreProperties>
</file>