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pct" ContentType="image/x-pict"/>
  <Override PartName="/ppt/media/image8.wmf" ContentType="image/x-wmf"/>
  <Override PartName="/ppt/media/image13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8FC1-7FDE-4A0D-ABD6-AF08BC896F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D9A-98EA-4770-8819-2200460947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4AE0-08A3-4CC8-97CB-119D8DA5D1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3366-3A74-45A1-9BEA-F627B02967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27C-D9F1-41E7-9DC2-2939E3CF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6DC-C18A-495D-A795-62D5221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005-286C-43DE-B4D5-F72B4830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700-0898-4C5D-9FD2-7829EB00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DDB-3668-4216-ADF0-E946116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692-8696-4F22-B427-264C377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03D-DC0D-4C20-942E-4AFA998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460-8394-4EDA-86DC-4611854C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283-E584-418A-907C-547A2FB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C5E-B9BE-41BE-87C8-3DADE12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B0A-FD62-49A8-B9CB-3D44C3E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CC4-E257-4D77-A165-4BA0543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56C5-D1ED-4536-AC01-2F837FDA1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20560" y="461880"/>
          <a:ext cx="8278920" cy="61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1880"/>
                    <a:ext cx="82789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76160" y="619200"/>
          <a:ext cx="7983720" cy="58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619200"/>
                    <a:ext cx="798372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03200" y="216000"/>
          <a:ext cx="844560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16000"/>
                    <a:ext cx="844560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84120" y="384120"/>
          <a:ext cx="8504280" cy="645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84120"/>
                    <a:ext cx="8504280" cy="64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20560" y="649440"/>
          <a:ext cx="830916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9440"/>
                    <a:ext cx="830916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71600" y="579600"/>
          <a:ext cx="8142120" cy="61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579600"/>
                    <a:ext cx="8142120" cy="61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58800" y="639720"/>
          <a:ext cx="8161200" cy="56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639720"/>
                    <a:ext cx="8161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9040" y="609480"/>
          <a:ext cx="7934400" cy="57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609480"/>
                    <a:ext cx="79344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49360" y="279360"/>
          <a:ext cx="8596080" cy="64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79360"/>
                    <a:ext cx="8596080" cy="64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71600" y="422280"/>
          <a:ext cx="8288280" cy="65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22280"/>
                    <a:ext cx="828828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846000" y="609480"/>
          <a:ext cx="7894800" cy="75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609480"/>
                    <a:ext cx="7894800" cy="75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09480" y="480960"/>
          <a:ext cx="8042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042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2:32:09Z</dcterms:created>
  <dc:creator>jalvarez</dc:creator>
  <dc:description/>
  <dc:language>en-US</dc:language>
  <cp:lastModifiedBy>Victor Ramiro</cp:lastModifiedBy>
  <cp:lastPrinted>2006-10-02T18:34:45Z</cp:lastPrinted>
  <dcterms:modified xsi:type="dcterms:W3CDTF">2011-06-17T14:21:52Z</dcterms:modified>
  <cp:revision>33</cp:revision>
  <dc:subject/>
  <dc:title>Sin título de diapositiva</dc:title>
</cp:coreProperties>
</file>