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C3B0A-3F7A-42F4-B9C6-FE5161DD6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D6F8-0AF3-40E0-A1BF-595F7AFE2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16BC5-09AC-4A08-935F-78F57F3DD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5F6BC-A0B2-490B-9B65-DFF53EBA0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0255E-19F6-4055-927C-CAEB77749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B43-CAFD-431C-95A6-10E12206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ED9-3604-41D3-9993-80F4E5F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743-43DC-453E-8154-11FD265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DB3-A28C-4201-B8AC-74EC77EE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57D-B8D8-4598-AAA0-C9E40409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6E1-22F6-4DB5-9698-0FAED476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747-FCAA-4928-862F-99A693BC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F66-8068-44CA-AD63-1D492D1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377-2324-4008-95C7-E3245F7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37C-60A6-403A-9C18-1165C87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F7D-C8CE-4CDF-924C-9A1E5FE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657-F441-4CDB-A183-6A11CC0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44DE4-978D-469A-AEB0-9ED5EDB27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E08EC-C0DC-4927-8DDE-FAF17B18F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problema recurrente de la ingeniería es ajustar un conjunto de mediciones de un fenómeno a un modelo matemático que lo represente con el menor error po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do un conjunto de pu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ustar un polinomio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latex-image-1.pdf"/>
          <p:cNvPicPr/>
          <p:nvPr/>
        </p:nvPicPr>
        <p:blipFill>
          <a:blip r:embed="rId1"/>
          <a:stretch/>
        </p:blipFill>
        <p:spPr>
          <a:xfrm>
            <a:off x="649440" y="3352680"/>
            <a:ext cx="7480080" cy="4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latex-image-1.pdf"/>
          <p:cNvPicPr/>
          <p:nvPr/>
        </p:nvPicPr>
        <p:blipFill>
          <a:blip r:embed="rId2"/>
          <a:stretch/>
        </p:blipFill>
        <p:spPr>
          <a:xfrm>
            <a:off x="457200" y="4932360"/>
            <a:ext cx="82296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jemplos de u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95288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linspace(0,pi,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62120" y="1752480"/>
            <a:ext cx="39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1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y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y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x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aprox por pol de grad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odel(x,x.^2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ause;cl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del mod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ver que tan “bien” está el modelo polinomial al conjunto de datos, se calcula el coeficiente de correlación r^2 definido com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latex-image-1.pdf"/>
          <p:cNvPicPr/>
          <p:nvPr/>
        </p:nvPicPr>
        <p:blipFill>
          <a:blip r:embed="rId1"/>
          <a:stretch/>
        </p:blipFill>
        <p:spPr>
          <a:xfrm>
            <a:off x="2209680" y="3251160"/>
            <a:ext cx="4851360" cy="11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latex-image-1.pdf"/>
          <p:cNvPicPr/>
          <p:nvPr/>
        </p:nvPicPr>
        <p:blipFill>
          <a:blip r:embed="rId2"/>
          <a:stretch/>
        </p:blipFill>
        <p:spPr>
          <a:xfrm>
            <a:off x="2209680" y="5338800"/>
            <a:ext cx="1955880" cy="48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tex-image-1.pdf"/>
          <p:cNvPicPr/>
          <p:nvPr/>
        </p:nvPicPr>
        <p:blipFill>
          <a:blip r:embed="rId3"/>
          <a:stretch/>
        </p:blipFill>
        <p:spPr>
          <a:xfrm>
            <a:off x="4952880" y="5334120"/>
            <a:ext cx="3187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92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rcicio: Complete las funciones en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04920" y="1157400"/>
            <a:ext cx="83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vector de valores de polinomio de coefs ‘c'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da punto de vector x. 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x = 1:10;   % x = [1 2 3 4 5 6 7 8 9 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c = [1 0 1] % pol = 1 x^0 + 0 x^1 + 1 x^2 = 1 +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y = pol(c, x); % evalua 1+x^2 en cada punto 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y = [2 5 10 17 26 37 50 65 82 1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 = pol(c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imprime el polinomio de coe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ej: 0.01 * x^0 + 1.23 * x^1 + -0.40 * x^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calcula error de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685800" y="152388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pol(a,x): polinomio de coefs a en argumen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zeros(1,length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(i) = poly(a,x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=poly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= 0:length(a)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=x.^ex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sum(a.*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15238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printPoly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%.2f * x^%d',a(i),i-1);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 ~= length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 +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914400" y="152388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r2 = rr(x,y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gth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bar = sum(y)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hat = pol(c,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err = sum((y.-yhat).^2);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Stot = sum((y.-ybar).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1 - SSerr/SSt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ción Ejerc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resión Lin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camos ajustar la nube de puntos a una rec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suelve el siguiente sistema de ecu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latex-image-1.pdf"/>
          <p:cNvPicPr/>
          <p:nvPr/>
        </p:nvPicPr>
        <p:blipFill>
          <a:blip r:embed="rId1"/>
          <a:stretch/>
        </p:blipFill>
        <p:spPr>
          <a:xfrm>
            <a:off x="1981080" y="2209680"/>
            <a:ext cx="2108160" cy="4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atex-image-1.pdf"/>
          <p:cNvPicPr/>
          <p:nvPr/>
        </p:nvPicPr>
        <p:blipFill>
          <a:blip r:embed="rId2"/>
          <a:stretch/>
        </p:blipFill>
        <p:spPr>
          <a:xfrm>
            <a:off x="1668600" y="3422520"/>
            <a:ext cx="587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 su forma matri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latex-image-1.pdf"/>
          <p:cNvPicPr/>
          <p:nvPr/>
        </p:nvPicPr>
        <p:blipFill>
          <a:blip r:embed="rId1"/>
          <a:stretch/>
        </p:blipFill>
        <p:spPr>
          <a:xfrm>
            <a:off x="1905120" y="2666880"/>
            <a:ext cx="566424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latex-image-1.pdf"/>
          <p:cNvPicPr/>
          <p:nvPr/>
        </p:nvPicPr>
        <p:blipFill>
          <a:blip r:embed="rId2"/>
          <a:stretch/>
        </p:blipFill>
        <p:spPr>
          <a:xfrm>
            <a:off x="4495680" y="4572000"/>
            <a:ext cx="3797280" cy="111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atex-image-1.pdf"/>
          <p:cNvPicPr/>
          <p:nvPr/>
        </p:nvPicPr>
        <p:blipFill>
          <a:blip r:embed="rId3"/>
          <a:stretch/>
        </p:blipFill>
        <p:spPr>
          <a:xfrm>
            <a:off x="1600200" y="4572000"/>
            <a:ext cx="217188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latex-image-1.pdf"/>
          <p:cNvPicPr/>
          <p:nvPr/>
        </p:nvPicPr>
        <p:blipFill>
          <a:blip r:embed="rId4"/>
          <a:stretch/>
        </p:blipFill>
        <p:spPr>
          <a:xfrm>
            <a:off x="2514600" y="1622520"/>
            <a:ext cx="4280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533520" y="6858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una recta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a b] = regresionLineal(x,y)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[length(x) sum(x); sum(x) sum(x.*x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um(x.*y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x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x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x = 0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[a b] = regresionLineal(x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 1.0712e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 1.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latex-image-1.pdf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latex-image-1.pdf"/>
          <p:cNvPicPr/>
          <p:nvPr/>
        </p:nvPicPr>
        <p:blipFill>
          <a:blip r:embed="rId1"/>
          <a:stretch/>
        </p:blipFill>
        <p:spPr>
          <a:xfrm>
            <a:off x="457200" y="2133720"/>
            <a:ext cx="4089240" cy="303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latex-image-1.pdf"/>
          <p:cNvPicPr/>
          <p:nvPr/>
        </p:nvPicPr>
        <p:blipFill>
          <a:blip r:embed="rId2"/>
          <a:stretch/>
        </p:blipFill>
        <p:spPr>
          <a:xfrm>
            <a:off x="5334120" y="2146320"/>
            <a:ext cx="2565360" cy="3022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aso general: Polinomio de grado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351720" y="228600"/>
            <a:ext cx="9019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length(x) ~= length(y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('Largo de los vectores de datos no son iguale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2*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(i) = sum(x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Sx^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i = x.^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xiy(i) = sum(xi.*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419760" y="228600"/>
            <a:ext cx="764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Ajusta un polinomio de grado n al dataset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[c r2] = fitPoly(x,y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ontinuacio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[sum(y) Sxiy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zeros(n+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1,:) = [length(x) Sx(1: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2: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(i,:) = Sx(i-1:i-1+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2 = rr(x,y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66680" y="1371600"/>
            <a:ext cx="7315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el(x,y,n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x,y)\n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= 1:length(x)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(%.2f,%.2f)\n',x(i),y(i));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c r2] = fitPoly(x,y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Poly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(''); % un enter en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'r^2 = %.4f\n',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y,'-.r*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ld 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t(x,pol(c,x),':bs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o usamos fitPo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08:45Z</dcterms:created>
  <dc:creator>Victor Ramiro</dc:creator>
  <dc:description/>
  <dc:language>en-US</dc:language>
  <cp:lastModifiedBy>Victor Ramiro</cp:lastModifiedBy>
  <dcterms:modified xsi:type="dcterms:W3CDTF">2011-06-02T19:44:10Z</dcterms:modified>
  <cp:revision>26</cp:revision>
  <dc:subject/>
  <dc:title>Slide 1</dc:title>
</cp:coreProperties>
</file>