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01606-7685-4E12-A77A-AA65867368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A8879-6329-4B56-A21F-940A1524F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C9804-4BAE-4099-9269-9B9221DFC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2ADD1-C68F-4D20-B643-FAD4FEE26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F5FA9-B861-48AB-ABE6-1D7CA9ADA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995-D669-4AE2-B7CB-2A2192DB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C00-456D-4CBE-910E-F05EDE8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D39-EF7D-4B35-BF86-82C2D8FD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050-46FF-41E6-ADBA-AFC5A090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E41-98F1-476D-9968-A6C746FB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4FE-BD7D-4846-B1D4-B4B5871E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031-0B91-4FDF-9F5C-86EFC914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0C2-F7EC-4829-83DD-0813F560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1F3-8261-49D2-A90A-B8417BD0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D54-77A7-4CB6-9C01-E1E31076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D2B-CFF1-4EBC-B7F8-3C416849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B05-885B-45EB-A48C-B4A3217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F8662-E0F8-44FD-98FA-2930477E32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C7BDD-11DB-42B0-BA74-CAC7D0B26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6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problema recurrente de la ingeniería es ajustar un conjunto de mediciones de un fenómeno a un modelo matemático que lo represente con el menor error po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do un conjunto de pu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justar un polinomio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latex-image-1.pdf"/>
          <p:cNvPicPr/>
          <p:nvPr/>
        </p:nvPicPr>
        <p:blipFill>
          <a:blip r:embed="rId1"/>
          <a:stretch/>
        </p:blipFill>
        <p:spPr>
          <a:xfrm>
            <a:off x="649440" y="3352680"/>
            <a:ext cx="7480080" cy="4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atex-image-1.pdf"/>
          <p:cNvPicPr/>
          <p:nvPr/>
        </p:nvPicPr>
        <p:blipFill>
          <a:blip r:embed="rId2"/>
          <a:stretch/>
        </p:blipFill>
        <p:spPr>
          <a:xfrm>
            <a:off x="457200" y="4932360"/>
            <a:ext cx="822960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jemplos de u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4952880" y="175248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linspace(0,pi,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y = 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762120" y="1752480"/>
            <a:ext cx="396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1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y 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x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x.^2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ror del mode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 ver que tan “bien” está el modelo polinomial al conjunto de datos, se calcula el coeficiente de correlación r^2 definido com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latex-image-1.pdf"/>
          <p:cNvPicPr/>
          <p:nvPr/>
        </p:nvPicPr>
        <p:blipFill>
          <a:blip r:embed="rId1"/>
          <a:stretch/>
        </p:blipFill>
        <p:spPr>
          <a:xfrm>
            <a:off x="2209680" y="3251160"/>
            <a:ext cx="4851360" cy="11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latex-image-1.pdf"/>
          <p:cNvPicPr/>
          <p:nvPr/>
        </p:nvPicPr>
        <p:blipFill>
          <a:blip r:embed="rId2"/>
          <a:stretch/>
        </p:blipFill>
        <p:spPr>
          <a:xfrm>
            <a:off x="2209680" y="5338800"/>
            <a:ext cx="1955880" cy="482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latex-image-1.pdf"/>
          <p:cNvPicPr/>
          <p:nvPr/>
        </p:nvPicPr>
        <p:blipFill>
          <a:blip r:embed="rId3"/>
          <a:stretch/>
        </p:blipFill>
        <p:spPr>
          <a:xfrm>
            <a:off x="4952880" y="5334120"/>
            <a:ext cx="3187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jercicio: Complete las funciones en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304920" y="1157400"/>
            <a:ext cx="8305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vector de valores de polinomio de coefs ‘c'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cada punto de vector x. 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x = 1:10;   % x = [1 2 3 4 5 6 7 8 9 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c = [1 0 1] % pol = 1 x^0 + 0 x^1 + 1 x^2 = 1 + x^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y = pol(c, x); % evalua 1+x^2 en cada punto 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[2 5 10 17 26 37 50 65 82 10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 = pol(c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imprime el polinomio de coe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ej: 0.01 * x^0 + 1.23 * x^1 + -0.40 * x^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printPoly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calcula error del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2 = rr(x,y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685800" y="152388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pol(a,x): polinomio de coefs a en argumen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=pol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zeros(1,length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(i) = poly(a,x(i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=poly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= 0:length(a)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=x.^ex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sum(a.*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685800" y="15238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printPoly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%.2f * x^%d',a(i),i-1);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 ~= length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 + 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914400" y="152388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2 = rr(x,y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length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bar = sum(y)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hat = pol(c,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Serr = sum((y.-yhat).^2);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Stot = sum((y.-ybar).^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2 = 1 - SSerr/SSto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resión Lin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camos ajustar la nube de puntos a una rec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resuelve el siguiente sistema de ecu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latex-image-1.pdf"/>
          <p:cNvPicPr/>
          <p:nvPr/>
        </p:nvPicPr>
        <p:blipFill>
          <a:blip r:embed="rId1"/>
          <a:stretch/>
        </p:blipFill>
        <p:spPr>
          <a:xfrm>
            <a:off x="1981080" y="2209680"/>
            <a:ext cx="2108160" cy="4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latex-image-1.pdf"/>
          <p:cNvPicPr/>
          <p:nvPr/>
        </p:nvPicPr>
        <p:blipFill>
          <a:blip r:embed="rId2"/>
          <a:stretch/>
        </p:blipFill>
        <p:spPr>
          <a:xfrm>
            <a:off x="1668600" y="3422520"/>
            <a:ext cx="5875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 su forma matri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latex-image-1.pdf"/>
          <p:cNvPicPr/>
          <p:nvPr/>
        </p:nvPicPr>
        <p:blipFill>
          <a:blip r:embed="rId1"/>
          <a:stretch/>
        </p:blipFill>
        <p:spPr>
          <a:xfrm>
            <a:off x="1905120" y="2666880"/>
            <a:ext cx="5664240" cy="11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latex-image-1.pdf"/>
          <p:cNvPicPr/>
          <p:nvPr/>
        </p:nvPicPr>
        <p:blipFill>
          <a:blip r:embed="rId2"/>
          <a:stretch/>
        </p:blipFill>
        <p:spPr>
          <a:xfrm>
            <a:off x="4495680" y="4572000"/>
            <a:ext cx="3797280" cy="111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latex-image-1.pdf"/>
          <p:cNvPicPr/>
          <p:nvPr/>
        </p:nvPicPr>
        <p:blipFill>
          <a:blip r:embed="rId3"/>
          <a:stretch/>
        </p:blipFill>
        <p:spPr>
          <a:xfrm>
            <a:off x="1600200" y="4572000"/>
            <a:ext cx="217188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latex-image-1.pdf"/>
          <p:cNvPicPr/>
          <p:nvPr/>
        </p:nvPicPr>
        <p:blipFill>
          <a:blip r:embed="rId4"/>
          <a:stretch/>
        </p:blipFill>
        <p:spPr>
          <a:xfrm>
            <a:off x="2514600" y="1622520"/>
            <a:ext cx="42800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533520" y="685800"/>
            <a:ext cx="822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una recta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a b] = regresionLineal(x,y)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[length(x) sum(x); sum(x) sum(x.*x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[sum(y) sum(x.*y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x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x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0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[a b] = regresionLineal(x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 1.0712e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 1.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aso general: Polinomio de grado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latex-image-1.pdf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latex-image-1.pdf"/>
          <p:cNvPicPr/>
          <p:nvPr/>
        </p:nvPicPr>
        <p:blipFill>
          <a:blip r:embed="rId1"/>
          <a:stretch/>
        </p:blipFill>
        <p:spPr>
          <a:xfrm>
            <a:off x="457200" y="2133720"/>
            <a:ext cx="4089240" cy="3035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latex-image-1.pdf"/>
          <p:cNvPicPr/>
          <p:nvPr/>
        </p:nvPicPr>
        <p:blipFill>
          <a:blip r:embed="rId2"/>
          <a:stretch/>
        </p:blipFill>
        <p:spPr>
          <a:xfrm>
            <a:off x="5334120" y="2146320"/>
            <a:ext cx="2565360" cy="3022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aso general: Polinomio de grado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351720" y="228600"/>
            <a:ext cx="9019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polinomio de grado n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c r2] = fitPoly(x,y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length(x) ~= length(y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('Largo de los vectores de datos no son iguales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Sx^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2*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i = x.^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x(i) = sum(x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Sx^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i = x.^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xiy(i) = sum(xi.*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ntinu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419760" y="228600"/>
            <a:ext cx="764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polinomio de grado n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c r2] = fitPoly(x,y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ntinuacion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[sum(y) Sxiy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zeros(n+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(1,:) = [length(x) Sx(1:n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2: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(i,:) = Sx(i-1:i-1+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2 = rr(x,y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66680" y="1371600"/>
            <a:ext cx="7315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el(x,y,n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(x,y)\n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x)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(%.2f,%.2f)\n',x(i),y(i));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c r2] = fitPoly(x,y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Poly(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(''); % un enter en la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r^2 = %.4f\n',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lot(x,y,'-.r*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ld 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lot(x,pol(c,x),':bs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o usamos fitPo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7:08:45Z</dcterms:created>
  <dc:creator>Victor Ramiro</dc:creator>
  <dc:description/>
  <dc:language>en-US</dc:language>
  <cp:lastModifiedBy>Victor Ramiro</cp:lastModifiedBy>
  <dcterms:modified xsi:type="dcterms:W3CDTF">2011-06-02T19:44:10Z</dcterms:modified>
  <cp:revision>26</cp:revision>
  <dc:subject/>
  <dc:title>Slide 1</dc:title>
</cp:coreProperties>
</file>