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92A22-FE61-49F2-B976-7617BADC54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47170-74FC-4DF5-8511-947DE28D2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2E0F2-CCCE-460C-8A07-172589711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73312-781F-4B31-950C-8133B9AC4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87320-60CE-49B0-B06C-126679826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B413-B03E-4D46-B7E0-CEBF3F3A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884-34D7-4D02-821A-D713520A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D43-C02A-40CA-9162-1F091C42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50B-1679-4E8E-B029-4342962D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396-76D6-40E3-A382-50FEB8C3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94B-421C-473D-9BA4-AB63C590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721-17AC-478B-8248-425AD013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671-28B3-458E-93F5-3128994C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EB2-7225-4778-BB2F-46D5FAA7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2A1-FD28-409A-9C07-AE44A777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25A-DE5B-471A-AE0A-2B7C8CDF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C60-F4E8-42DF-A6D1-21EE2ECA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FEC32-3EED-4F49-9D1E-A7A9DE8005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D5CF9-A562-4145-A2CF-4DD44C01D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26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 problema recurrente de la ingeniería es ajustar un conjunto de mediciones de un fenómeno a un modelo matemático que lo represente con el menor error po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do un conjunto de pu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justar un polinomio 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latex-image-1.pdf"/>
          <p:cNvPicPr/>
          <p:nvPr/>
        </p:nvPicPr>
        <p:blipFill>
          <a:blip r:embed="rId1"/>
          <a:stretch/>
        </p:blipFill>
        <p:spPr>
          <a:xfrm>
            <a:off x="649440" y="3352680"/>
            <a:ext cx="7480080" cy="47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latex-image-1.pdf"/>
          <p:cNvPicPr/>
          <p:nvPr/>
        </p:nvPicPr>
        <p:blipFill>
          <a:blip r:embed="rId2"/>
          <a:stretch/>
        </p:blipFill>
        <p:spPr>
          <a:xfrm>
            <a:off x="457200" y="4932360"/>
            <a:ext cx="822960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jemplos de u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4952880" y="175248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sin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aprox por pol de grad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x = linspace(0,pi,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y = si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odel(x,y,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use;cl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sin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aprox por pol de grad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odel(x,y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ause;cl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762120" y="1752480"/>
            <a:ext cx="396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aprox por pol de grad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x = 1: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y =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odel(x,y,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ause;cl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x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aprox por pol de grad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odel(x,x.^2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ause;cl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ror del mode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 ver que tan “bien” está el modelo polinomial al conjunto de datos, se calcula el coeficiente de correlación r^2 definido com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latex-image-1.pdf"/>
          <p:cNvPicPr/>
          <p:nvPr/>
        </p:nvPicPr>
        <p:blipFill>
          <a:blip r:embed="rId1"/>
          <a:stretch/>
        </p:blipFill>
        <p:spPr>
          <a:xfrm>
            <a:off x="2209680" y="3251160"/>
            <a:ext cx="4851360" cy="116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latex-image-1.pdf"/>
          <p:cNvPicPr/>
          <p:nvPr/>
        </p:nvPicPr>
        <p:blipFill>
          <a:blip r:embed="rId2"/>
          <a:stretch/>
        </p:blipFill>
        <p:spPr>
          <a:xfrm>
            <a:off x="2209680" y="5338800"/>
            <a:ext cx="1955880" cy="482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latex-image-1.pdf"/>
          <p:cNvPicPr/>
          <p:nvPr/>
        </p:nvPicPr>
        <p:blipFill>
          <a:blip r:embed="rId3"/>
          <a:stretch/>
        </p:blipFill>
        <p:spPr>
          <a:xfrm>
            <a:off x="4952880" y="5334120"/>
            <a:ext cx="31878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jercicio: Complete las funciones en mat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304920" y="1157400"/>
            <a:ext cx="8305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vector de valores de polinomio de coefs ‘c'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cada punto de vector x. e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&gt;x = 1:10;   % x = [1 2 3 4 5 6 7 8 9 1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&gt;c = [1 0 1] % pol = 1 x^0 + 0 x^1 + 1 x^2 = 1 + x^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&gt;y = pol(c, x); % evalua 1+x^2 en cada punto d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[2 5 10 17 26 37 50 65 82 10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 = pol(c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imprime el polinomio de coef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ej: 0.01 * x^0 + 1.23 * x^1 + -0.40 * x^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printPoly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calcula error del mod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r2 = rr(x,y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685800" y="1523880"/>
            <a:ext cx="7772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pol(a,x): polinomio de coefs a en argumento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=pol(a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zeros(1,length(x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length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(i) = poly(a,x(i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=poly(a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= 0:length(a)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=x.^ex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sum(a.*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ción Ejerci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685800" y="1523880"/>
            <a:ext cx="7772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printPoly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length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%.2f * x^%d',a(i),i-1);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i ~= length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 + 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ción Ejerci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914400" y="1523880"/>
            <a:ext cx="7772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r2 = rr(x,y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length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bar = sum(y)/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hat = pol(c,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Serr = sum((y.-yhat).^2);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Stot = sum((y.-ybar).^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2 = 1 - SSerr/SSto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ción Ejerci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resión Line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camos ajustar la nube de puntos a una rec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 resuelve el siguiente sistema de ecua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latex-image-1.pdf"/>
          <p:cNvPicPr/>
          <p:nvPr/>
        </p:nvPicPr>
        <p:blipFill>
          <a:blip r:embed="rId1"/>
          <a:stretch/>
        </p:blipFill>
        <p:spPr>
          <a:xfrm>
            <a:off x="1981080" y="2209680"/>
            <a:ext cx="2108160" cy="43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latex-image-1.pdf"/>
          <p:cNvPicPr/>
          <p:nvPr/>
        </p:nvPicPr>
        <p:blipFill>
          <a:blip r:embed="rId2"/>
          <a:stretch/>
        </p:blipFill>
        <p:spPr>
          <a:xfrm>
            <a:off x="1668600" y="3422520"/>
            <a:ext cx="58752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 su forma matri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latex-image-1.pdf"/>
          <p:cNvPicPr/>
          <p:nvPr/>
        </p:nvPicPr>
        <p:blipFill>
          <a:blip r:embed="rId1"/>
          <a:stretch/>
        </p:blipFill>
        <p:spPr>
          <a:xfrm>
            <a:off x="1905120" y="2666880"/>
            <a:ext cx="5664240" cy="111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latex-image-1.pdf"/>
          <p:cNvPicPr/>
          <p:nvPr/>
        </p:nvPicPr>
        <p:blipFill>
          <a:blip r:embed="rId2"/>
          <a:stretch/>
        </p:blipFill>
        <p:spPr>
          <a:xfrm>
            <a:off x="4495680" y="4572000"/>
            <a:ext cx="3797280" cy="1117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latex-image-1.pdf"/>
          <p:cNvPicPr/>
          <p:nvPr/>
        </p:nvPicPr>
        <p:blipFill>
          <a:blip r:embed="rId3"/>
          <a:stretch/>
        </p:blipFill>
        <p:spPr>
          <a:xfrm>
            <a:off x="1600200" y="4572000"/>
            <a:ext cx="217188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latex-image-1.pdf"/>
          <p:cNvPicPr/>
          <p:nvPr/>
        </p:nvPicPr>
        <p:blipFill>
          <a:blip r:embed="rId4"/>
          <a:stretch/>
        </p:blipFill>
        <p:spPr>
          <a:xfrm>
            <a:off x="2514600" y="1622520"/>
            <a:ext cx="42800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533520" y="685800"/>
            <a:ext cx="8229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Ajusta un una recta al dataset 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[a b] = regresionLineal(x,y)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[length(x) sum(x); sum(x) sum(x.*x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[sum(y) sum(x.*y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b/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x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x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x = 0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[a b] = regresionLineal(x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 1.0712e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 1.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 caso general: Polinomio de grado 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latex-image-1.pdf"/>
          <p:cNvPicPr/>
          <p:nvPr/>
        </p:nvPicPr>
        <p:blipFill>
          <a:blip r:embed="rId1"/>
          <a:stretch/>
        </p:blipFill>
        <p:spPr>
          <a:xfrm>
            <a:off x="304920" y="2362320"/>
            <a:ext cx="853416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latex-image-1.pdf"/>
          <p:cNvPicPr/>
          <p:nvPr/>
        </p:nvPicPr>
        <p:blipFill>
          <a:blip r:embed="rId1"/>
          <a:stretch/>
        </p:blipFill>
        <p:spPr>
          <a:xfrm>
            <a:off x="457200" y="2133720"/>
            <a:ext cx="4089240" cy="3035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latex-image-1.pdf"/>
          <p:cNvPicPr/>
          <p:nvPr/>
        </p:nvPicPr>
        <p:blipFill>
          <a:blip r:embed="rId2"/>
          <a:stretch/>
        </p:blipFill>
        <p:spPr>
          <a:xfrm>
            <a:off x="5334120" y="2146320"/>
            <a:ext cx="2565360" cy="30225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 caso general: Polinomio de grado 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351720" y="228600"/>
            <a:ext cx="90198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Ajusta un polinomio de grado n al dataset 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[c r2] = fitPoly(x,y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(length(x) ~= length(y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('Largo de los vectores de datos no son iguales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Sx^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2*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i = x.^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x(i) = sum(x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Sx^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i = x.^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xiy(i) = sum(xi.*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continua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>
            <a:off x="419760" y="228600"/>
            <a:ext cx="7648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Ajusta un polinomio de grado n al dataset 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[c r2] = fitPoly(x,y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continuacion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[sum(y) Sxiy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zeros(n+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(1,:) = [length(x) Sx(1:n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2:n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(i,:) = Sx(i-1:i-1+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b/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2 = rr(x,y,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066680" y="1371600"/>
            <a:ext cx="73152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el(x,y,n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(x,y)\n'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length(x)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(%.2f,%.2f)\n',x(i),y(i));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c r2] = fitPoly(x,y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Poly(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(''); % un enter en la pant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r^2 = %.4f\n',r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lot(x,y,'-.r*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ld 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lot(x,pol(c,x),':bs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o usamos fitPol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7:08:45Z</dcterms:created>
  <dc:creator>Victor Ramiro</dc:creator>
  <dc:description/>
  <dc:language>en-US</dc:language>
  <cp:lastModifiedBy>Victor Ramiro</cp:lastModifiedBy>
  <dcterms:modified xsi:type="dcterms:W3CDTF">2011-06-02T19:44:10Z</dcterms:modified>
  <cp:revision>26</cp:revision>
  <dc:subject/>
  <dc:title>Slide 1</dc:title>
</cp:coreProperties>
</file>