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ase 24: Mat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9EA0-08B3-4BDD-84F9-623D9C6367C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ase 24: Mat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3137-55CE-4090-AB74-EBF9AA4929EE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0736-C7A0-4FA2-ADB6-A5033B8B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2345-5BBE-493A-A0E3-0BC290CE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C9AB-0C62-43A2-9E1C-0007575D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81EF-AA27-49D5-BFF8-42FEF178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DC79-E815-4DD8-9C7E-E223FB48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0623-2E85-4696-966A-9A8D92EB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5C41-8A3A-46F9-BD63-C0FC118E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FE20-A160-4890-85F0-4846A776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BB70-4C3A-44D9-97F7-660BFAA4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61E9-2FF2-4D36-A063-4A8F2DD6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81CB-EA28-437A-B4C1-99293F96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5690-03DB-4C0F-90AC-2AC50396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E9F3-7F74-4220-BE30-98256244FAEE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539640" y="-833040"/>
            <a:ext cx="8604360" cy="12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solver un sistema de 2 ecuaciones line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x + by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x + ey =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ir 1ª ecuación por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(b/a)y = c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car 1ª ecuación por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x + d(b/a)y = d(c/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 de 2ª ec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e-d(b/a))y = f-d(c/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ejar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(f-d(c/a))/ (e-d(b/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ejar x en 1ª ec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=(c-by)/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olución “a la Matla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A=[…; … ; … ]; %matriz de coeficientes a(i,j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B=[nº; nº ; …;nº]; %vector-columna de b(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X=inv(A)*B;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xp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A*X = 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v(A)*A*X = inv(A)*B pero inv(A)*A=I(1 en diag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X = inv(A)*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vertir una matriz de 2 x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79280" y="1557360"/>
            <a:ext cx="878544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A=[ nº nº ; nº nº ]; %matriz de 2 x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nv2(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%inv2(x) inversa de matriz cuadrada de 2x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function i=inv2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=1/det2(x) * [x(2,2), –x(1,2); -x(2,1), x(1,1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%det2(x): determinante de matriz cuadrada de 2x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function d=det2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d=x(1,1)*x(2,2) – x(1,2)*x(2,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900000" y="274680"/>
            <a:ext cx="77868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vertir una matriz de 3 x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24000" y="907920"/>
            <a:ext cx="864072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%inv3(x): inversa de matriz cuadrada de 3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function i=inv3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i=1/det3(x) 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[x(2,2)*x(3,3) - x(2,3)*x(3,2),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x(1,3)*x(3,2) - x(1,2)*x(3,3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x(1,2)*x(2,3) - x(1,3)*x(2,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x(2,3)*x(3,1) - x(2,1)*x(3,3), %fil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x(1,1)*x(3,3) - x(1,3)*x(3,1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x(1,3)*x(2,1) - x(1,1)*x(2,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x(2,1)*x(3,2) - x(2,2)*x(3,1), %fila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x(1,2)*x(3,1) - x(1,1)*x(3,2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x(1,1)*x(2,2) - x(1,2)*x(2,1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%det3(x): determinante de matriz cuadrada de 3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function d=det3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M1=[x(2,2) x(2,3); x(3,2) x(3,3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M2=[x(2,1) x(2,3); x(3,1) x(3,3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M3=[x(2,1) x(2,2); x(3,1) x(3,2)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d=x(1,1)*det2(M1) – x(1,2)*det2(M2) + x(1,3)*det2(M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395280" y="575280"/>
            <a:ext cx="136810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rc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X*Y; es la instrucción para multiplicar dos matrices en Matla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riba en Python una función que logre el mismo objetiv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decir, que cada Z(i,j) se calcule com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( X(i,:) .* Y(:,j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 producto(X,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468360" y="260280"/>
            <a:ext cx="8064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función que multiplica 2 mat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duc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as=len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s=len(y[0]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=length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i in range(fila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append([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j in range(col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=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k in range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 += x[i][k]*y[k][j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i].append(su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468360" y="260280"/>
            <a:ext cx="806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 ... # matriz de Mx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= ... # matriz de Nx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producto(b,c) #matriz de Mx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= ... # matriz de Mx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=producto(d,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468360" y="260280"/>
            <a:ext cx="849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matriz identidad de nx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=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i in range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.append([0]*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[i][i]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=producto(a,I) #result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invertir mat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ersa=inv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=producto(a,inversa) #resulta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pue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inv(x): invierte matriz X de 2x2 o 3x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inv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det(x):determinante de matriz X de 2x2 o 3x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det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179280" y="-1119240"/>
            <a:ext cx="8964720" cy="11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iza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solver un sistema de n ecuaciones line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2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...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2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...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n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n2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...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n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2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4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2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4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2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4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2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+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4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50920" y="-1663560"/>
            <a:ext cx="8893080" cy="136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 construir matriz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 coeficientes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 triangularizar: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jar matriz con ceros en esquina inferior izquier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ir c/elemento de 1ª fila por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da con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car 1ª fila por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restar de fila 2 (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rá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tir proceso para resto de las 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2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4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2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4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0  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3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4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0   0    a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4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º Sustituir en orden inve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b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b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b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b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x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79280" y="375840"/>
            <a:ext cx="8353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en Python: diá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(1,1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(1,2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(1,n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(1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(2,1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(2,n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(2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(n,1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(n,n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(n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(1)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(n)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971640" y="333720"/>
            <a:ext cx="10356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lectura de d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=input("n?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=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i in range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append([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leer valores de fila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j in range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=input("a("+str(i+1)+","+str(j+1)+")?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i].append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leer b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=input("b("+str(i+1)+")?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.append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40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triangularizar matri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i in range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dividir fila i por 1º de fila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ero = a[i]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j in range(i,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i][j] /= a[i][j]/pri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[i] /= pri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fila j=fila j - fila i * 1º de fila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j in range(i+1,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ero = a[j]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k in range(i,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[j][k] -= a[i][k]*pri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[j] -= b[i]*pri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324000" y="886320"/>
            <a:ext cx="9140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alculo de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=n*[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i in range(n-1,-1,-1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=0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j in range(i+1,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a += x[j]*a[i][j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[i] = (b[i]-suma)/a[i]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"x("+str(i+1)+") =", x[i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olución Matlab “a la Python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692280"/>
            <a:ext cx="85690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A=[…; …; … ]; %matriz de coefic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B=[nº, nº , …,nº]; %vector de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%triangular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for i=1: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mero=a(i,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for j=i: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a(i,j)=a(i,j)/primer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b(i)=b(i)/primer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for j=i+1: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primero=a(j,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for k=i: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a(j,k) = a(j,k) – a(i,k)*primer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b(j) = b(j) – b(i)*primer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olución Matlab “a la Pytho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%calcular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x=zeros(1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or i=n:-1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uma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or j=i+1: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uma=suma+x(j)*a(i,j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x(i)=(b(i)-suma)/a(i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isp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15:34:28Z</dcterms:created>
  <dc:creator>jalvarez</dc:creator>
  <dc:description/>
  <dc:language>en-US</dc:language>
  <cp:lastModifiedBy>jalvarez</cp:lastModifiedBy>
  <dcterms:modified xsi:type="dcterms:W3CDTF">2011-05-31T21:25:14Z</dcterms:modified>
  <cp:revision>45</cp:revision>
  <dc:subject/>
  <dc:title>Diapositiva 1</dc:title>
</cp:coreProperties>
</file>