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ase 24: Mat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42FB-0350-465B-8A1A-1D8CB79A9883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ase 24: Mat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9484-4B15-44FE-986D-339DD520B5BA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76CD-439D-4404-9BFA-498933DC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CE8-293B-459B-A07A-1EF8FB31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5AD-7605-403D-B2E2-C2CD09D1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5052-FC53-4F57-A625-EAB43CA2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49BE-2AD7-43F9-B729-F88CA52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6B4-36F8-455A-89A8-01889DB3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CD78-A1FC-4FED-9D21-08D674DA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5FC-D7C6-4604-B132-AF010D3C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15A-3E3E-40EE-9BA4-8963C355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FABC-8A01-4532-961F-E0268373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7C9C-ABA4-44D0-822A-4824630C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C89-4023-4FE2-80E5-90B98005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6B08-620B-4A7A-B700-41D5041BC14F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539640" y="-833040"/>
            <a:ext cx="8604360" cy="12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solver un sistema de 2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x + by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x + e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r 1ª ecuación po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(b/a)y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 1ª ecuación p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x + d(b/a)y = d(c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 de 2ª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-d(b/a))y = f-d(c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r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(f-d(c/a))/ (e-d(b/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r x en 1ª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(c-by)/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“a la Matla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=[…; … ; … ]; %matriz de coeficientes a(i,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=[nº; nº ; …;nº]; %vector-columna de b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=inv(A)*B;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*X =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v(A)*A*X = inv(A)*B pero inv(A)*A=I(1 en dia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 = inv(A)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vertir una matriz de 2 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=[ nº nº ; nº nº ]; %matriz de 2 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v2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inv2(x) inversa de matriz cuadrada de 2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i=inv2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=1/det2(x) * [x(2,2), –x(1,2); -x(2,1), x(1,1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det2(x): determinante de matriz cuadrada de 2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d=det2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=x(1,1)*x(2,2) – x(1,2)*x(2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900000" y="274680"/>
            <a:ext cx="77868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vertir una matriz de 3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4000" y="907920"/>
            <a:ext cx="8640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inv3(x): inversa de matriz cuadrada de 3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i=inv3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=1/det3(x)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[x(2,2)*x(3,3) - x(2,3)*x(3,2),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3)*x(3,2) - x(1,2)*x(3,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2)*x(2,3) - x(1,3)*x(2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2,3)*x(3,1) - x(2,1)*x(3,3), %fi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1)*x(3,3) - x(1,3)*x(3,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3)*x(2,1) - x(1,1)*x(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2,1)*x(3,2) - x(2,2)*x(3,1), %fil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2)*x(3,1) - x(1,1)*x(3,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1)*x(2,2) - x(1,2)*x(2,1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det3(x): determinante de matriz cuadrada de 3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d=det3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M1=[x(2,2) x(2,3); x(3,2) x(3,3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M2=[x(2,1) x(2,3); x(3,1) x(3,3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M3=[x(2,1) x(2,2); x(3,1) x(3,2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=x(1,1)*det2(M1) – x(1,2)*det2(M2) + x(1,3)*det2(M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95280" y="575280"/>
            <a:ext cx="13681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X*Y; es la instrucción para multiplicar dos matrices en Matl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a en Python una función que logre el mismo objetiv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que cada Z(i,j) se calcule com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( X(i,:) .* Y(:,j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oducto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68360" y="260280"/>
            <a:ext cx="8064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unción que multiplica 2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duc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as=len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s=len(y[0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length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fila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append(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col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k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+= x[i][k]*y[k][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.append(su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68360" y="260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 ... # matriz de M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 ... # matriz de N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producto(b,c) #matriz de M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 ... # matriz de M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=producto(d,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68360" y="26028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matriz identidad de n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.append([0]*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[i][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producto(a,I) #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vertir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sa=inv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producto(a,inversa) #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inv(x): invierte matriz X de 2x2 o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det(x):determinante de matriz X de 2x2 o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det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179280" y="-1119240"/>
            <a:ext cx="8964720" cy="11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solver un sistema de n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...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...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...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-1663560"/>
            <a:ext cx="8893080" cy="13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 construir matriz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coeficientes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 triangularizar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jar matriz con ceros en esquina inferior izquier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r c/elemento de 1ª fila por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da con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 1ª fila por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restar de fila 2 (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á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tir proceso para resto de las 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2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0 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4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0   0  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4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 Sustituir en orden in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79280" y="375840"/>
            <a:ext cx="8353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en Python: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1,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1,2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1,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2,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(2,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2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n,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n,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(1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(n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971640" y="333720"/>
            <a:ext cx="1035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ctura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input("n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append(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valores de fil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=input("a("+str(i+1)+","+str(j+1)+"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.append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b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=input("b("+str(i+1)+"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append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triangularizar matr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vidir fila i por 1º de fil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 = a[i]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i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[j] /= a[i][j]/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i] /= 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la j=fila j - fila i * 1º de fil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i+1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 = a[j]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k in range(i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j][k] -= a[i][k]*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j] -= b[i]*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886320"/>
            <a:ext cx="914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o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n*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-1,-1,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i+1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+= x[j]*a[i][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[i] = (b[i]-suma)/a[i]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"x("+str(i+1)+") =", x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Matlab “a la Python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=[…; …; … ]; %matriz de coe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=[nº, nº , …,nº]; %vector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triangular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mero=a(i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j=i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(i,j)=a(i,j)/pri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(i)=b(i)/pri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j=i+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mero=a(j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k=i: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(j,k) = a(j,k) – a(i,k)*primer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(j) = b(j) – b(i)*pri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Matlab “a la Pyth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%calcular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=zeros(1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i=n:-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j=i+1: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suma+x(j)*a(i,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(i)=(b(i)-suma)/a(i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isp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5:34:28Z</dcterms:created>
  <dc:creator>jalvarez</dc:creator>
  <dc:description/>
  <dc:language>en-US</dc:language>
  <cp:lastModifiedBy>jalvarez</cp:lastModifiedBy>
  <dcterms:modified xsi:type="dcterms:W3CDTF">2011-05-31T21:25:14Z</dcterms:modified>
  <cp:revision>45</cp:revision>
  <dc:subject/>
  <dc:title>Diapositiva 1</dc:title>
</cp:coreProperties>
</file>