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92A-3EE0-401B-B92D-5DA7D503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2FF-875D-41EB-A9D6-479A9DCD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93A-4ADF-412F-9F62-113AB020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251-FB3A-4E97-AC7C-A3BC3642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D55-5D46-4D91-B086-4FF12B5C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275-F42F-4812-8813-87C4C674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E14-B7AB-4E51-A3DB-1078F867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0A2-C482-46F4-818D-25A62586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714-DD08-43E2-9882-FD9948D1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F1D-49F2-4E00-B070-20CA65D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040-3088-4A02-A18C-BC27906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251-610E-4A37-A16C-0696353B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E21C-97E3-413D-9F5E-C64D112DA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557360"/>
            <a:ext cx="8964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2,:)=sin(datos(1,:)); %s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a=0 | d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a=0 o sin raices reale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a=0 o sin raic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DCC</cp:lastModifiedBy>
  <dcterms:modified xsi:type="dcterms:W3CDTF">2009-05-28T14:55:00Z</dcterms:modified>
  <cp:revision>17</cp:revision>
  <dc:subject/>
  <dc:title>Diapositiva 1</dc:title>
</cp:coreProperties>
</file>