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89E8F-B374-4A93-AC25-7E6D24F6A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256F7-2A04-44F9-8E08-5525B8DD9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40985-B8A0-4899-ABDA-2C1171B22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8263B-C4C6-4383-96C4-AF99DCBCA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613E4-5D75-4BC0-B01B-136128684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BA41B-9932-4169-950E-3FA212668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F7A8F-0EFA-4493-8B52-B8ADCECA0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0B3DD-89AD-45DD-A90E-E676E334B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9E84E-381C-4037-AE7F-647865B80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7CE2C-5F80-43BD-A2B2-69A85FA46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E6CAB-80C9-40F0-9439-6BBD29226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6AF64-B489-4E1F-AF49-54A5604E9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3A802-9CCC-40A7-80F3-535B895172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Instrucciones if/else y whi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1197000"/>
            <a:ext cx="8291520" cy="49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 expresión lóg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%instrucciones MATLA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elseif</a:t>
            </a: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 expresión2 %opc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%instruc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… </a:t>
            </a: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%otros elsei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  %opc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%instruc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es-ES" sz="3200" spc="-1" strike="noStrike">
                <a:solidFill>
                  <a:srgbClr val="000000"/>
                </a:solidFill>
                <a:latin typeface="Courier New"/>
              </a:rPr>
              <a:t> expresión lóg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3200" spc="-1" strike="noStrike">
                <a:solidFill>
                  <a:srgbClr val="000000"/>
                </a:solidFill>
                <a:latin typeface="Courier New"/>
              </a:rPr>
              <a:t>% instrucciones MAT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11280" y="274320"/>
            <a:ext cx="80755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scritura” formateada a un str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95280" y="907560"/>
            <a:ext cx="829152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</a:rPr>
              <a:t>a=sprintf(formato,X,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scribe el dato X en el string a bajo el control del string form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Ejemplo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&gt;&gt; a=sprintf('x=%g',p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a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x=3.1415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%Jalisco: nunca pier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n=input('n°? '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</a:rPr>
              <a:t>disp( sprintf('gano yo con %g',n+1) 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No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%g se reemplaza por el valor de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%s se usa para strings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Ejemplo con strin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&gt;&gt;a=rand(2,3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&gt;&gt;[filas cols]=size(a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&gt;&gt;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r i=1:fil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inea=sprintf('fila %g: ',i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r j=1:c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inea=sprintf('%s%g ',linea, a(i,j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isp(linea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ila 1: 0.921813 0.176266 0.93547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ila 2: 0.738207 0.405706 0.91690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Grabar y leer arreg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9280" y="1557360"/>
            <a:ext cx="8964720" cy="456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%grabar arreg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datos=zeros(2,100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datos(1,:)=linspace(0,2*pi,100);%angul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datos(2,:)=sin(datos(1,:)); %se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save da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%leer arreg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load da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x=datos(1,: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y=datos(2,: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&gt;&gt;x=linspace(-pi,pi,100); plot(x,sin(x)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urier New"/>
              </a:rPr>
              <a:t>title(‘…’) xlabel(‘…’)    ylabel(‘…’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ourier New"/>
              </a:rPr>
              <a:t>plot(x,y,’r’) %color r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urier New"/>
              </a:rPr>
              <a:t>plot(x,y,’k:’); %negro y pun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ourier New"/>
              </a:rPr>
              <a:t>plot(x,y,’…’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rious line types, plot symbols and colors may be obtained wi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OT(X,Y,S) where S is a character string made from one el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om any or all the following 3 column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     blue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     point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-     sol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     green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     circle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:     dot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    red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     x-mark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-.    dashdo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     cyan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     plus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--    dashed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     magenta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    star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none)  no 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     yellow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     squ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     black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     diamo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     triangle (dow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^     triangle (u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     triangle (lef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gt;     triangle (righ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    penta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     hexa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example, PLOT(X,Y,'c+:') plots a cyan dotted line with a plu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each data point; PLOT(X,Y,'bd') plots blue diamond at each dat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int but does not draw any lin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&gt;&gt; x=linspace(-pi,pi,20);</a:t>
            </a:r>
            <a:br>
              <a:rPr sz="3200"/>
            </a:b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&gt;&gt; plot(x,sin(x),'r--*',x,cos(x),'b--o')</a:t>
            </a:r>
            <a:br>
              <a:rPr sz="3200"/>
            </a:b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&gt;&gt; legend('seno','coseno'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&gt; hold 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&gt; plot(x,sin(x),'r--*'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&gt; plot(x,cos(x),'b--o'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&gt; legend('seno','coseno'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539640" y="333360"/>
          <a:ext cx="8218440" cy="6134040"/>
        </p:xfrm>
        <a:graphic>
          <a:graphicData uri="http://schemas.openxmlformats.org/drawingml/2006/table">
            <a:tbl>
              <a:tblPr/>
              <a:tblGrid>
                <a:gridCol w="2739960"/>
                <a:gridCol w="3380040"/>
                <a:gridCol w="2098440"/>
              </a:tblGrid>
              <a:tr h="71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rado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ímbol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orida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expresión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  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tenc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^  . ^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ari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  -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~ (negación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lt, divis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   /   \   .*   ./   .\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ma, rest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  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rador 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cion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  &lt;=  &gt;  &gt;=  ==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~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amp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|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ignac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axis([-pi,pi,-1,1]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&gt;&gt; subplot(2,1,1), plot(x,sin(x),'r--*'), title('seno')</a:t>
            </a:r>
            <a:br>
              <a:rPr sz="2400"/>
            </a:b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&gt;&gt; subplot(2,1,2), plot(x,cos(x),'r--*'), title('coseno'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&gt;&gt; rectangle('Curvature',[1 1]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[x y z]=sphere(30);</a:t>
            </a:r>
            <a:br>
              <a:rPr sz="4000"/>
            </a:b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mesh(x,y,z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surf(x,y,z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68360" y="260280"/>
            <a:ext cx="7920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Instrucción f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836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&gt;&gt;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i=1:10 %for variable=ve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disp(i);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%instruc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&gt;&gt;a=1:1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&gt;&gt;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i=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disp(a(i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&gt;&gt;a=1:1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&gt;&gt;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i=1:length(a)  %largo de arreg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disp(a(i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Funciones con varios resultad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%f23(x): calcula x al cuadrado y al cub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function[xx,xxx] = f23(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xx = x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^2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xxx =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x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^3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&gt;&gt;[ a b ] = f23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a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b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&gt;&gt;f23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ans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Funciones internas (local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1628640"/>
            <a:ext cx="8507520" cy="44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%f23(x): calcula x cuadrado y x cub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function[xx,xxx] = f23(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xx = x.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^2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xxx = cubo(x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function y=cubo(x) %visible en archi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y = </a:t>
            </a: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x.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^3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Raices de ecuación de 2º gra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1557360"/>
            <a:ext cx="8507520" cy="45687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%raices(a,b,c): raíces de ax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x+bx+c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function[r1,r2] = raices(a,b,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d=b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^2 -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4*a*c; %discriminan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f a=0 | d&lt;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error(‘a=0 o sin raices reales’); %abor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elseif d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warning(‘raices iguales’);%muestra mensa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1=(-b + sqrt(d))/(2*a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2=(-b - sqrt(d))/(2*a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&gt;&gt;[x y]=raices(1,4,3)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&gt;&gt;[x y]=raices(1,1,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x=-1  y=-3            a=0 o sin raices re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74840" y="4383000"/>
            <a:ext cx="2925720" cy="0"/>
          </a:xfrm>
          <a:prstGeom prst="line">
            <a:avLst/>
          </a:prstGeom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-194760" y="2510280"/>
            <a:ext cx="5120640" cy="2377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2457360" y="4383000"/>
            <a:ext cx="0" cy="457200"/>
          </a:xfrm>
          <a:prstGeom prst="line">
            <a:avLst/>
          </a:prstGeom>
          <a:ln w="6480">
            <a:solidFill>
              <a:srgbClr val="3333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924440" y="3882960"/>
            <a:ext cx="1440" cy="549360"/>
          </a:xfrm>
          <a:prstGeom prst="line">
            <a:avLst/>
          </a:prstGeom>
          <a:ln w="6480">
            <a:solidFill>
              <a:srgbClr val="3333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195640" y="3716280"/>
            <a:ext cx="276120" cy="41616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95640" y="3645000"/>
            <a:ext cx="1371600" cy="57600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=(a+b)/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834080" y="4683240"/>
            <a:ext cx="457200" cy="36504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018040" y="3324240"/>
            <a:ext cx="549360" cy="18396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000160" y="4118040"/>
            <a:ext cx="457200" cy="460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645000" y="4282920"/>
            <a:ext cx="0" cy="182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108400" y="3765600"/>
            <a:ext cx="903600" cy="455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(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19280" y="4416480"/>
            <a:ext cx="1645920" cy="49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274320"/>
            <a:ext cx="8100720" cy="37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jercicio: Calcular raíz por el método de búsqueda bina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goritm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terminar x como punto medio del interva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 f(x) tiene el mismo signo de f(a) entonces repetir el proceso en intervalo [x,b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 f(x) tiene el mismo signo de f(b) entonces repetir el proceso en intervalo [a,x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a. Las iteraciones se detienen cuando el tamaño del intervalo de búsqueda alcance un epsil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82200" y="554076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 r=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aiz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a,b,ep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617840" y="387540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457200" y="274680"/>
            <a:ext cx="814716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lución iterativ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920" y="1125360"/>
            <a:ext cx="8893080" cy="50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%raiz(a,b,eps): raiz de f en [a,b] c/prec 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</a:rPr>
              <a:t>function r=raiz(a,b,ep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while b-a &gt; 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x=(a+b)/2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if signo(f(x))==signo(f(a)) a=x; else b=x; 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r=(a+b)/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%signo(x) devuelve -1, 0 o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</a:rPr>
              <a:t>function r=signo(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if x&lt;0 r=-1; elseif x&gt;0 r=1; else r=0; 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lución recursiv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6868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</a:rPr>
              <a:t>%raiz(a,b,eps): raiz de f en [a,b] c/prec 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</a:rPr>
              <a:t>function r=raiz(a,b,ep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x=(a+b)/2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if b-a &lt;= 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r=x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if signo(f(x)) == signo(f(a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r=raiz(x,b,ep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r=raiz(a,x,ep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9T14:32:44Z</dcterms:created>
  <dc:creator>Profesor</dc:creator>
  <dc:description/>
  <dc:language>en-US</dc:language>
  <cp:lastModifiedBy>DCC</cp:lastModifiedBy>
  <dcterms:modified xsi:type="dcterms:W3CDTF">2009-05-28T14:55:00Z</dcterms:modified>
  <cp:revision>17</cp:revision>
  <dc:subject/>
  <dc:title>Diapositiva 1</dc:title>
</cp:coreProperties>
</file>