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lase 19: MAT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3798-B532-4F5F-BA37-87130DD5426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lase 19: MAT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EF40-ACFC-4D07-8C4A-C230C396334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1BE8-B0FF-4299-8C24-FD051AF21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3C8E-E94E-4490-B3B8-950CB8FB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1E3F-DFC8-4A9E-8C68-A9D1A0551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D985-6361-4CD2-B16C-BAF8F78C6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D1D6-DFB4-4BE8-86C3-487BC71D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9A6C-4076-4200-B0B5-1BE87565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EA0A-225F-4AF5-BB7F-B3E4FA07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8F8D-466B-4689-8CDF-07B2B2A2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28A4-F3B7-4369-8C87-30D81F4A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51CA-2D0C-4B7B-935E-6E724665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114A-84B2-44DA-AD6C-097139F2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F97C-03E7-4B97-BC75-7462330B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9C3F-E29D-4BB1-B6AC-B5B466B0D72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765000"/>
            <a:ext cx="84358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po de dato fundamental: “matriz” de re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ista de dos dimens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calar es una matriz de 1x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i = 10  %nombre a la Pyth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457200" y="274680"/>
            <a:ext cx="80755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rea con editor de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457200" y="274680"/>
            <a:ext cx="81471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95280" y="907920"/>
            <a:ext cx="84978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cuadrado(0:5) %se aplica a cada ele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57200" y="1557360"/>
            <a:ext cx="850752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%pol(a,x): polinomio de coefs a en argumento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ductos=a.*potencias; %a(1)*x^0,...,a(n)* 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productos); %productos(1)+...+productos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  (1*2^0 + 2*2^1 + 3*2^2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452520" y="230040"/>
          <a:ext cx="8140680" cy="669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230040"/>
                    <a:ext cx="8140680" cy="669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204840" y="266760"/>
          <a:ext cx="8753400" cy="626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40" y="266760"/>
                    <a:ext cx="8753400" cy="62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230040" y="230040"/>
          <a:ext cx="8674200" cy="662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230040"/>
                    <a:ext cx="8674200" cy="662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630360" y="446040"/>
          <a:ext cx="8350200" cy="609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446040"/>
                    <a:ext cx="8350200" cy="609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179280" y="831240"/>
            <a:ext cx="878544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ol. Simps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/3*(y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+4y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+4y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+...+y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area(a,b,n):area de f en [a,b] usando n p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r=area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lta=(b-a)/(n-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es = a+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2*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b-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ares = a+2*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2*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b-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 =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3 * (f(a)+4*sum(f(pares))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*sum(f(impares))+f(b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Vectores”: “matrices” de una dimen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=[1 2 3 4 5 6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=[1 2 3 4 5 6];  %punto y coma 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Vectores”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dex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(5)  % a(end) o a(length(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s =    “variable por omisi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(2,3)    % matriz(nºfila,nº colum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(1,: ) %fila 1           &gt;&gt;a(:,2) %column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                 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(2,1:2) %primeras 2 columnas de fil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 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 inter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+2)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 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/y  =  y\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+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-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=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an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.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y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x .\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\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5T18:53:51Z</dcterms:created>
  <dc:creator>jalvarez</dc:creator>
  <dc:description/>
  <dc:language>en-US</dc:language>
  <cp:lastModifiedBy>jalvarez</cp:lastModifiedBy>
  <dcterms:modified xsi:type="dcterms:W3CDTF">2011-05-24T18:50:17Z</dcterms:modified>
  <cp:revision>30</cp:revision>
  <dc:subject/>
  <dc:title>Programación en MATLAB</dc:title>
</cp:coreProperties>
</file>