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lase 19: MAT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BB71-8F7E-476A-8F41-682E1520C4C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lase 19: MAT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C7B7-3B37-4864-8F88-975C9D92CFF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BDCB-5CAB-4DEF-BEDB-FE3558A9C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B533-38C7-4F34-B2ED-95D36AFE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0E60-0F73-4276-B581-E13498120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16AB-0262-4041-8634-FCEA8065E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4625-7CE9-4843-8B60-E4A709FB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C659-6997-4E0A-B1FC-0D34EB22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04E2-337C-4136-B5E8-4605AF51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52A8-84A8-452F-8AD0-CE8FCCC6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8E9A-7ACE-40A6-91FD-5FFA4C88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331A-0B1C-4D25-8CD8-1B098C69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F5F8-FBD1-46D9-8463-F8E4FAB3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6379-A705-4407-8607-0ED16FFC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5D93-DCA2-4484-B6B1-6E2CC8B0420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765000"/>
            <a:ext cx="84358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ipo de dato fundamental: “matriz” de re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ista de dos dimens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calar es una matriz de 1x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i = 10  %nombre a la Pyth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457200" y="274680"/>
            <a:ext cx="80755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crea con editor de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457200" y="274680"/>
            <a:ext cx="81471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95280" y="907920"/>
            <a:ext cx="849780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cuadrado(0:5) %se aplica a cada ele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57200" y="1557360"/>
            <a:ext cx="850752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%pol(a,x): polinomio de coefs a en argumento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ductos=a.*potencias; %a(1)*x^0,...,a(n)* 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productos); %productos(1)+...+productos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  (1*2^0 + 2*2^1 + 3*2^2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452520" y="230040"/>
          <a:ext cx="8140680" cy="669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230040"/>
                    <a:ext cx="8140680" cy="669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204840" y="266760"/>
          <a:ext cx="8753400" cy="626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840" y="266760"/>
                    <a:ext cx="8753400" cy="62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230040" y="230040"/>
          <a:ext cx="8674200" cy="662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230040"/>
                    <a:ext cx="8674200" cy="662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630360" y="446040"/>
          <a:ext cx="8350200" cy="609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446040"/>
                    <a:ext cx="8350200" cy="609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179280" y="831240"/>
            <a:ext cx="878544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ol. Simps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/3*(y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+4y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+2y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+4y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+2y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+...+y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%area(a,b,n):area de f en [a,b] usando n p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 r=area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lta=(b-a)/(n-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es = a+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2*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b-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ares = a+2*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2*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b-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 =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3 * (f(a)+4*sum(f(pares))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*sum(f(impares))+f(b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Vectores”: “matrices” de una dimen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=[1 2 3 4 5 6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=[1 2 3 4 5 6];  %punto y coma 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Vectores”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dex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(5)  % a(end) o a(length(a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s =    “variable por omisió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(2,3)    % matriz(nºfila,nº colum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(1,: ) %fila 1           &gt;&gt;a(:,2) %column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                  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(2,1:2) %primeras 2 columnas de fil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 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 inter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+2)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 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/y  =  y\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+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-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=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an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*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*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.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 y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x .\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\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5T18:53:51Z</dcterms:created>
  <dc:creator>jalvarez</dc:creator>
  <dc:description/>
  <dc:language>en-US</dc:language>
  <cp:lastModifiedBy>jalvarez</cp:lastModifiedBy>
  <dcterms:modified xsi:type="dcterms:W3CDTF">2011-05-24T18:50:17Z</dcterms:modified>
  <cp:revision>30</cp:revision>
  <dc:subject/>
  <dc:title>Programación en MATLAB</dc:title>
</cp:coreProperties>
</file>