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19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6265-0E76-4FBF-9E3E-7531C2C31B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lase 19: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E2E6-37C7-479D-87E0-72EB4E3A010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5F7-68C1-42BC-9FE0-5B1514A0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F07-8D09-4D7D-AE56-F7A69131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B1F-746A-4F13-BDF3-4B9E900F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2BA-C909-4F22-872C-3D7FBF3D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690-1B55-4A29-A0DE-ED6836D3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EAC-9089-4583-8CB2-C8519B09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FE9-A819-47C1-87C9-8147DB7D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85F-0F08-436B-9B67-54FA7581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16F-048D-4566-9A6C-6703ABEB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1AA2-41F3-4612-A3DF-70661A48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01F4-02B4-4FF3-80E0-64F7C594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CE4-178E-43FE-A32D-9BC20F93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9AA8-0C65-49F5-9341-40C437E4D0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 de dato fundamental: “matriz” de re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sta de dos dimen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calar es una matriz de 1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i = 10  %nombre a la Pyt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57200" y="274680"/>
            <a:ext cx="80755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rea con editor de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274680"/>
            <a:ext cx="8147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5280" y="907920"/>
            <a:ext cx="84978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cuadrado(0:5) %se aplica a cada ele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57200" y="1557360"/>
            <a:ext cx="85075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pol(a,x): polinomio de coefs a en argumen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roductos=a.*potencias; %a(1)*x^0,...,a(n)* 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productos); %productos(1)+...+productos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  (1*2^0 + 2*2^1 + 3*2^2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52520" y="230040"/>
          <a:ext cx="8140680" cy="669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230040"/>
                    <a:ext cx="8140680" cy="66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204840" y="266760"/>
          <a:ext cx="8753400" cy="626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266760"/>
                    <a:ext cx="8753400" cy="62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230040" y="230040"/>
          <a:ext cx="8674200" cy="662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230040"/>
                    <a:ext cx="8674200" cy="662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630360" y="446040"/>
          <a:ext cx="835020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79280" y="831240"/>
            <a:ext cx="8785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ol. Simp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/3*(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4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2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+...+y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%area(a,b,n):area de f en [a,b] usando n 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area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lta=(b-a)/(n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es = a+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ares = a+2*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2*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b-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=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lt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3 * (f(a)+4*sum(f(pares))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*sum(f(impares))+f(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ectores”: “matrices” de una dim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 %punto y coma 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ectores”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ex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5)  % a(end) o a(length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    “variable por omis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(2,3)    % matriz(nºfila,nº colum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1,: ) %fila 1           &gt;&gt;a(:,2) %column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          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a(2,1:2) %primeras 2 columnas de fil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 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 in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+2)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*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 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/y  =  y\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=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*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.\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/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(i,j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\ y(i,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5T18:53:51Z</dcterms:created>
  <dc:creator>jalvarez</dc:creator>
  <dc:description/>
  <dc:language>en-US</dc:language>
  <cp:lastModifiedBy>jalvarez</cp:lastModifiedBy>
  <dcterms:modified xsi:type="dcterms:W3CDTF">2011-05-24T18:50:17Z</dcterms:modified>
  <cp:revision>30</cp:revision>
  <dc:subject/>
  <dc:title>Programación en MATLAB</dc:title>
</cp:coreProperties>
</file>