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7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55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B68A-949A-459D-9CD8-8F73D32DE5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7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F163-C310-4C02-827D-F6600568A7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7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A4E0-E660-4A00-90F6-96AC2412FC6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39A-8ACE-40D1-A5A6-D27BFCB3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BA29-9904-499D-B286-621BC90F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C03-C5FB-439B-821D-CF9DBD5D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C25-2AE3-4217-B245-0427B7DF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8E1-E15D-49F3-A403-D871F16B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946-162E-4B49-895D-B07092F5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F51-051B-40AD-938A-6A439E96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6CB-3285-4D5F-B390-4EE66912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BA2-ABC4-446A-B51C-DB4816BB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86A-6A60-4CB0-BB25-BEBBB28F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D16-F489-4F73-95C0-25B0B871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1B4-5E78-436D-83CC-7B701CB2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36C5-3652-4541-B916-025E0B345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469800" y="444600"/>
          <a:ext cx="8834400" cy="66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834400" cy="66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69800" y="195120"/>
          <a:ext cx="8026560" cy="67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95120"/>
                    <a:ext cx="802656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230040" y="469800"/>
          <a:ext cx="8736120" cy="69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69800"/>
                    <a:ext cx="8736120" cy="69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230040" y="469800"/>
          <a:ext cx="8736120" cy="69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69800"/>
                    <a:ext cx="8736120" cy="69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808200" y="488880"/>
          <a:ext cx="7777080" cy="678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488880"/>
                    <a:ext cx="7777080" cy="678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44600" y="407880"/>
          <a:ext cx="8521560" cy="67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7880"/>
                    <a:ext cx="852156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230040" y="407880"/>
          <a:ext cx="8798040" cy="784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07880"/>
                    <a:ext cx="8798040" cy="78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635040" y="635040"/>
          <a:ext cx="8051760" cy="55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635040"/>
                    <a:ext cx="805176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239760" y="576360"/>
          <a:ext cx="8753400" cy="584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576360"/>
                    <a:ext cx="8753400" cy="58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69800" y="444600"/>
          <a:ext cx="8834400" cy="663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834400" cy="66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514440" y="568440"/>
          <a:ext cx="8053200" cy="536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568440"/>
                    <a:ext cx="805320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469800" y="444600"/>
          <a:ext cx="8834400" cy="66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834400" cy="66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338040" y="266760"/>
          <a:ext cx="859320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66760"/>
                    <a:ext cx="859320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658800" y="511200"/>
          <a:ext cx="8121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11200"/>
                    <a:ext cx="8121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514440" y="311040"/>
          <a:ext cx="858528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311040"/>
                    <a:ext cx="858528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14440" y="311040"/>
          <a:ext cx="858528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311040"/>
                    <a:ext cx="858528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14440" y="311040"/>
          <a:ext cx="858528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311040"/>
                    <a:ext cx="858528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11-05-12T13:31:32Z</dcterms:modified>
  <cp:revision>39</cp:revision>
  <dc:subject/>
  <dc:title>Sin título de diapositiva</dc:title>
</cp:coreProperties>
</file>